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590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2-17-01-nnnnn, iii_xxxxx_v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419040" cy="476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248520" y="6553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302680" y="0"/>
            <a:ext cx="84132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enario Propo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2997360"/>
            <a:ext cx="8763120" cy="33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0 km between  S30 and S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km between S1 and S2, S2 and S3, …. S29 and S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km between S31and S32, …., S61 and S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us per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0M line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distance:  1975 + 29+ 18 =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Q size = 1% off Ring circumfer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.01(5e-6 [s/km] * 2000 [km] * 1e9 [bit/s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100 kbits or  12.5 kilo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25: a) Single Queue or b) Dual Queu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2920" y="2133720"/>
            <a:ext cx="539640" cy="539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63640" y="2133720"/>
            <a:ext cx="539640" cy="539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5" idx="6"/>
            <a:endCxn id="46" idx="2"/>
          </p:cNvCxnSpPr>
          <p:nvPr/>
        </p:nvCxnSpPr>
        <p:spPr>
          <a:xfrm>
            <a:off x="682560" y="2403720"/>
            <a:ext cx="181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2087640" y="2133720"/>
            <a:ext cx="539640" cy="539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" name=""/>
          <p:cNvCxnSpPr>
            <a:stCxn id="46" idx="6"/>
            <a:endCxn id="48" idx="2"/>
          </p:cNvCxnSpPr>
          <p:nvPr/>
        </p:nvCxnSpPr>
        <p:spPr>
          <a:xfrm>
            <a:off x="1403280" y="2403720"/>
            <a:ext cx="684720" cy="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806560" y="2133720"/>
            <a:ext cx="540000" cy="539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8" idx="6"/>
            <a:endCxn id="50" idx="2"/>
          </p:cNvCxnSpPr>
          <p:nvPr/>
        </p:nvCxnSpPr>
        <p:spPr>
          <a:xfrm>
            <a:off x="2627280" y="2403720"/>
            <a:ext cx="179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3080" y="25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6160" y="25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90920" y="2133720"/>
            <a:ext cx="540000" cy="539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11640" y="2133720"/>
            <a:ext cx="540000" cy="539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4" idx="6"/>
            <a:endCxn id="55" idx="2"/>
          </p:cNvCxnSpPr>
          <p:nvPr/>
        </p:nvCxnSpPr>
        <p:spPr>
          <a:xfrm>
            <a:off x="4930920" y="2403720"/>
            <a:ext cx="1810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6335640" y="2133720"/>
            <a:ext cx="540000" cy="539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55" idx="6"/>
            <a:endCxn id="57" idx="2"/>
          </p:cNvCxnSpPr>
          <p:nvPr/>
        </p:nvCxnSpPr>
        <p:spPr>
          <a:xfrm>
            <a:off x="5651640" y="2403720"/>
            <a:ext cx="684360" cy="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7054920" y="2133720"/>
            <a:ext cx="539640" cy="539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>
            <a:stCxn id="57" idx="6"/>
            <a:endCxn id="59" idx="2"/>
          </p:cNvCxnSpPr>
          <p:nvPr/>
        </p:nvCxnSpPr>
        <p:spPr>
          <a:xfrm>
            <a:off x="6875640" y="2403720"/>
            <a:ext cx="179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861080" y="25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69080" y="2565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0" idx="6"/>
            <a:endCxn id="54" idx="2"/>
          </p:cNvCxnSpPr>
          <p:nvPr/>
        </p:nvCxnSpPr>
        <p:spPr>
          <a:xfrm>
            <a:off x="3346560" y="2403720"/>
            <a:ext cx="1044720" cy="3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7775640" y="2133720"/>
            <a:ext cx="539640" cy="539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59" idx="6"/>
            <a:endCxn id="64" idx="2"/>
          </p:cNvCxnSpPr>
          <p:nvPr/>
        </p:nvCxnSpPr>
        <p:spPr>
          <a:xfrm>
            <a:off x="7594560" y="2403720"/>
            <a:ext cx="181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8496360" y="2133720"/>
            <a:ext cx="539640" cy="539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64" idx="6"/>
            <a:endCxn id="66" idx="2"/>
          </p:cNvCxnSpPr>
          <p:nvPr/>
        </p:nvCxnSpPr>
        <p:spPr>
          <a:xfrm>
            <a:off x="8315280" y="2403720"/>
            <a:ext cx="181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3471840" y="186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95640" y="1413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80000" y="1449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87680" y="1433520"/>
            <a:ext cx="86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7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56000" y="1628640"/>
            <a:ext cx="3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095640" y="1628640"/>
            <a:ext cx="3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40000" y="144936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1640" y="152100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50920" y="152100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97080" y="1197000"/>
            <a:ext cx="57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6000" y="1736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50920" y="173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66" idx="6"/>
            <a:endCxn id="45" idx="2"/>
          </p:cNvCxnSpPr>
          <p:nvPr/>
        </p:nvCxnSpPr>
        <p:spPr>
          <a:xfrm>
            <a:off x="142920" y="2403720"/>
            <a:ext cx="8893440" cy="360"/>
          </a:xfrm>
          <a:prstGeom prst="curvedConnector5">
            <a:avLst>
              <a:gd name="adj1" fmla="val -8"/>
              <a:gd name="adj2" fmla="val 76200000"/>
              <a:gd name="adj3" fmla="val 10000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7453080" y="2565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10520" y="2540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89800" y="144936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144936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73800" y="16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16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4360" y="1413000"/>
            <a:ext cx="57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49080" y="1376280"/>
            <a:ext cx="57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24000" y="162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00720" y="152100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52360" y="1341360"/>
            <a:ext cx="57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00720" y="162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4T01:17:08Z</dcterms:created>
  <dc:creator>Michael Takefman</dc:creator>
  <dc:description/>
  <dc:language>en-US</dc:language>
  <cp:lastModifiedBy>Harry Peng</cp:lastModifiedBy>
  <cp:lastPrinted>2000-12-07T16:39:27Z</cp:lastPrinted>
  <dcterms:modified xsi:type="dcterms:W3CDTF">2003-06-26T15:33:40Z</dcterms:modified>
  <cp:revision>40</cp:revision>
  <dc:subject/>
  <dc:title>IEEE 802 LMSC Resilient Packet Ring Study Group Status Report  Mike Takefman  Chair of RPRSG www.ieee802.org/rprsg tak@cisc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82539587</vt:r8>
  </property>
  <property fmtid="{D5CDD505-2E9C-101B-9397-08002B2CF9AE}" pid="3" name="_AuthorEmailDisplayName">
    <vt:lpwstr>Peng, Harry [CAR:OM3A:EXCH]</vt:lpwstr>
  </property>
  <property fmtid="{D5CDD505-2E9C-101B-9397-08002B2CF9AE}" pid="4" name="_EmailSubject">
    <vt:lpwstr>[RPRWG] Fairness Ad-Hoc  </vt:lpwstr>
  </property>
</Properties>
</file>