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211-4F59-44FA-A36D-52653494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B3D-2150-4C68-9193-4FA2C5A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AF2-9171-4F29-ADB6-39CA88D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19F-935C-475C-AF59-7FBB263E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BC4-9A34-45CC-A450-AEA7FB7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E48-B20D-434D-AE0F-D7DD870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CFE-1CDE-46FD-AF7B-7862FF3A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561-C323-4336-8DB9-888E7325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28D-66C3-4CB5-A192-3D03714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8F4-5F82-4A7D-9970-8D885DF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E78-7B6F-4FF1-96D8-C26C9AF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706-731C-4032-99E2-6564161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71C2-69E5-4619-9213-AC8FF33AB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44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47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50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53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56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59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7066400">
            <a:off x="1084320" y="2370960"/>
            <a:ext cx="3696120" cy="25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863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86327"/>
              </a:path>
            </a:pathLst>
          </a:custGeom>
          <a:noFill/>
          <a:ln w="38160">
            <a:solidFill>
              <a:srgbClr val="6600ff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0520" y="222084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644400">
            <a:off x="4379040" y="135864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2491400">
            <a:off x="5664240" y="186948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868000">
            <a:off x="6046920" y="3887640"/>
            <a:ext cx="11419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343800">
            <a:off x="6051240" y="2385720"/>
            <a:ext cx="114300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6200" y="1628640"/>
            <a:ext cx="712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76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79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82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85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88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91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44400">
            <a:off x="4379040" y="135864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491400">
            <a:off x="5664240" y="186948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7868000">
            <a:off x="6046920" y="3887640"/>
            <a:ext cx="11419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343800">
            <a:off x="6051240" y="2385720"/>
            <a:ext cx="114300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6200" y="1628640"/>
            <a:ext cx="712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159600">
            <a:off x="2513520" y="1263960"/>
            <a:ext cx="2791800" cy="74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1" y="572"/>
                </a:moveTo>
                <a:arcTo wR="10800" hR="10800" stAng="-6524122" swAng="12592398"/>
                <a:lnTo>
                  <a:pt x="10800" y="10800"/>
                </a:lnTo>
                <a:close/>
              </a:path>
              <a:path fill="none" w="21600" h="21600">
                <a:moveTo>
                  <a:pt x="7331" y="572"/>
                </a:moveTo>
                <a:arcTo wR="10800" hR="10800" stAng="-6524122" swAng="12592398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7920" y="89208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7920" y="21780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09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12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115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118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121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124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644400">
            <a:off x="4379040" y="135864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2491400">
            <a:off x="5664240" y="1869480"/>
            <a:ext cx="914040" cy="4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868000">
            <a:off x="6046920" y="3887640"/>
            <a:ext cx="11419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3343800">
            <a:off x="6051240" y="2385720"/>
            <a:ext cx="114300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1" y="187"/>
                </a:moveTo>
                <a:arcTo wR="10800" hR="10800" stAng="-4759468" swAng="9695397"/>
                <a:lnTo>
                  <a:pt x="10800" y="10800"/>
                </a:lnTo>
                <a:close/>
              </a:path>
              <a:path fill="none" w="21600" h="21600">
                <a:moveTo>
                  <a:pt x="12801" y="187"/>
                </a:moveTo>
                <a:arcTo wR="10800" hR="10800" stAng="-4759468" swAng="9695397"/>
              </a:path>
            </a:pathLst>
          </a:custGeom>
          <a:noFill/>
          <a:ln w="28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00960" y="1958040"/>
            <a:ext cx="2886120" cy="28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77" y="1434"/>
                </a:moveTo>
                <a:arcTo wR="10800" hR="10800" stAng="-3608449" swAng="7250486"/>
                <a:lnTo>
                  <a:pt x="10800" y="10800"/>
                </a:lnTo>
                <a:close/>
              </a:path>
              <a:path fill="none" w="21600" h="21600">
                <a:moveTo>
                  <a:pt x="16177" y="1434"/>
                </a:moveTo>
                <a:arcTo wR="10800" hR="10800" stAng="-3608449" swAng="7250486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4920" y="38070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40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43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146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149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152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155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15462000">
            <a:off x="3513600" y="1782360"/>
            <a:ext cx="2886120" cy="28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40" y="7367"/>
                </a:moveTo>
                <a:arcTo wR="10800" hR="10800" stAng="-1111932" swAng="4753968"/>
                <a:lnTo>
                  <a:pt x="10800" y="10800"/>
                </a:lnTo>
                <a:close/>
              </a:path>
              <a:path fill="none" w="21600" h="21600">
                <a:moveTo>
                  <a:pt x="21040" y="7367"/>
                </a:moveTo>
                <a:arcTo wR="10800" hR="10800" stAng="-1111932" swAng="4753968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6720" y="39924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67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70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173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176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179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182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6702600">
            <a:off x="3138840" y="1756080"/>
            <a:ext cx="2885400" cy="34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0"/>
                </a:moveTo>
                <a:arcTo wR="10800" hR="10800" stAng="-3125" swAng="3645161"/>
                <a:lnTo>
                  <a:pt x="10800" y="10800"/>
                </a:lnTo>
                <a:close/>
              </a:path>
              <a:path fill="none" w="21600" h="21600">
                <a:moveTo>
                  <a:pt x="21600" y="10790"/>
                </a:moveTo>
                <a:arcTo wR="10800" hR="10800" stAng="-3125" swAng="3645161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0920" y="21924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040" y="1343160"/>
            <a:ext cx="5472000" cy="41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01760" y="1816200"/>
            <a:ext cx="4343400" cy="31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06560" y="4614840"/>
            <a:ext cx="914400" cy="842760"/>
            <a:chOff x="2806560" y="4614840"/>
            <a:chExt cx="914400" cy="842760"/>
          </a:xfrm>
        </p:grpSpPr>
        <p:sp>
          <p:nvSpPr>
            <p:cNvPr id="194" name=""/>
            <p:cNvSpPr/>
            <p:nvPr/>
          </p:nvSpPr>
          <p:spPr>
            <a:xfrm>
              <a:off x="280656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76720" y="4614840"/>
            <a:ext cx="914400" cy="842760"/>
            <a:chOff x="5076720" y="4614840"/>
            <a:chExt cx="914400" cy="842760"/>
          </a:xfrm>
        </p:grpSpPr>
        <p:sp>
          <p:nvSpPr>
            <p:cNvPr id="197" name=""/>
            <p:cNvSpPr/>
            <p:nvPr/>
          </p:nvSpPr>
          <p:spPr>
            <a:xfrm>
              <a:off x="5076720" y="46148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94240" y="48988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375240" y="2979720"/>
            <a:ext cx="914400" cy="842760"/>
            <a:chOff x="6375240" y="2979720"/>
            <a:chExt cx="914400" cy="842760"/>
          </a:xfrm>
        </p:grpSpPr>
        <p:sp>
          <p:nvSpPr>
            <p:cNvPr id="200" name=""/>
            <p:cNvSpPr/>
            <p:nvPr/>
          </p:nvSpPr>
          <p:spPr>
            <a:xfrm>
              <a:off x="637524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9276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076720" y="1362240"/>
            <a:ext cx="914400" cy="842760"/>
            <a:chOff x="5076720" y="1362240"/>
            <a:chExt cx="914400" cy="842760"/>
          </a:xfrm>
        </p:grpSpPr>
        <p:sp>
          <p:nvSpPr>
            <p:cNvPr id="203" name=""/>
            <p:cNvSpPr/>
            <p:nvPr/>
          </p:nvSpPr>
          <p:spPr>
            <a:xfrm>
              <a:off x="507672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424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06560" y="1362240"/>
            <a:ext cx="914400" cy="842760"/>
            <a:chOff x="2806560" y="1362240"/>
            <a:chExt cx="914400" cy="842760"/>
          </a:xfrm>
        </p:grpSpPr>
        <p:sp>
          <p:nvSpPr>
            <p:cNvPr id="206" name=""/>
            <p:cNvSpPr/>
            <p:nvPr/>
          </p:nvSpPr>
          <p:spPr>
            <a:xfrm>
              <a:off x="2806560" y="136224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164628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450800" y="2979720"/>
            <a:ext cx="914400" cy="842760"/>
            <a:chOff x="1450800" y="2979720"/>
            <a:chExt cx="914400" cy="842760"/>
          </a:xfrm>
        </p:grpSpPr>
        <p:sp>
          <p:nvSpPr>
            <p:cNvPr id="209" name=""/>
            <p:cNvSpPr/>
            <p:nvPr/>
          </p:nvSpPr>
          <p:spPr>
            <a:xfrm>
              <a:off x="1450800" y="2979720"/>
              <a:ext cx="914400" cy="84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68320" y="3263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62400" y="134316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262400" y="55166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2400" y="498960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262400" y="1819440"/>
            <a:ext cx="30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100960" y="1958040"/>
            <a:ext cx="2886120" cy="28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77" y="1434"/>
                </a:moveTo>
                <a:arcTo wR="10800" hR="10800" stAng="-3608449" swAng="7250486"/>
                <a:lnTo>
                  <a:pt x="10800" y="10800"/>
                </a:lnTo>
                <a:close/>
              </a:path>
              <a:path fill="none" w="21600" h="21600">
                <a:moveTo>
                  <a:pt x="16177" y="1434"/>
                </a:moveTo>
                <a:arcTo wR="10800" hR="10800" stAng="-3608449" swAng="7250486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50880" y="383544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F.Ttl=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3840" y="3206880"/>
            <a:ext cx="5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0:02:18Z</dcterms:created>
  <dc:creator>Nie Shiwei</dc:creator>
  <dc:description/>
  <dc:language>en-US</dc:language>
  <cp:lastModifiedBy>Nie Shiwei</cp:lastModifiedBy>
  <dcterms:modified xsi:type="dcterms:W3CDTF">2003-07-02T11:21:53Z</dcterms:modified>
  <cp:revision>6</cp:revision>
  <dc:subject/>
  <dc:title>幻灯片 1</dc:title>
</cp:coreProperties>
</file>