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8D2-6349-4B6B-9711-EEA6E25D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4567-3895-4A83-8F5C-3F71ADEA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AE7-26D9-4385-BD71-111A089F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E61-0FF8-48F3-878E-0B136256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7D6-FB36-4E17-BBCA-630ED687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734-AD96-403D-BF5A-371822CF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8D0-7AA6-4046-AB7A-9422FB14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98C-C66A-4AC1-B72F-D5CA5F84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612A-0CFF-4279-9189-A64E783B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5CC-B2BF-41FF-BB57-76F078FE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3D59-2ADB-4968-ACFF-2308D280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D62-4772-4E93-9804-11764B2F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C54B-5623-4EDA-8E60-BB2902DA2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43040" y="1343160"/>
            <a:ext cx="5472000" cy="41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1760" y="1816200"/>
            <a:ext cx="4343400" cy="31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806560" y="4614840"/>
            <a:ext cx="914400" cy="842760"/>
            <a:chOff x="2806560" y="4614840"/>
            <a:chExt cx="914400" cy="842760"/>
          </a:xfrm>
        </p:grpSpPr>
        <p:sp>
          <p:nvSpPr>
            <p:cNvPr id="44" name=""/>
            <p:cNvSpPr/>
            <p:nvPr/>
          </p:nvSpPr>
          <p:spPr>
            <a:xfrm>
              <a:off x="280656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2408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076720" y="4614840"/>
            <a:ext cx="914400" cy="842760"/>
            <a:chOff x="5076720" y="4614840"/>
            <a:chExt cx="914400" cy="842760"/>
          </a:xfrm>
        </p:grpSpPr>
        <p:sp>
          <p:nvSpPr>
            <p:cNvPr id="47" name=""/>
            <p:cNvSpPr/>
            <p:nvPr/>
          </p:nvSpPr>
          <p:spPr>
            <a:xfrm>
              <a:off x="507672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424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375240" y="2979720"/>
            <a:ext cx="914400" cy="842760"/>
            <a:chOff x="6375240" y="2979720"/>
            <a:chExt cx="914400" cy="842760"/>
          </a:xfrm>
        </p:grpSpPr>
        <p:sp>
          <p:nvSpPr>
            <p:cNvPr id="50" name=""/>
            <p:cNvSpPr/>
            <p:nvPr/>
          </p:nvSpPr>
          <p:spPr>
            <a:xfrm>
              <a:off x="637524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69276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076720" y="1362240"/>
            <a:ext cx="914400" cy="842760"/>
            <a:chOff x="5076720" y="1362240"/>
            <a:chExt cx="914400" cy="842760"/>
          </a:xfrm>
        </p:grpSpPr>
        <p:sp>
          <p:nvSpPr>
            <p:cNvPr id="53" name=""/>
            <p:cNvSpPr/>
            <p:nvPr/>
          </p:nvSpPr>
          <p:spPr>
            <a:xfrm>
              <a:off x="507672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806560" y="1362240"/>
            <a:ext cx="914400" cy="842760"/>
            <a:chOff x="2806560" y="1362240"/>
            <a:chExt cx="914400" cy="842760"/>
          </a:xfrm>
        </p:grpSpPr>
        <p:sp>
          <p:nvSpPr>
            <p:cNvPr id="56" name=""/>
            <p:cNvSpPr/>
            <p:nvPr/>
          </p:nvSpPr>
          <p:spPr>
            <a:xfrm>
              <a:off x="280656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2408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450800" y="2979720"/>
            <a:ext cx="914400" cy="842760"/>
            <a:chOff x="1450800" y="2979720"/>
            <a:chExt cx="914400" cy="842760"/>
          </a:xfrm>
        </p:grpSpPr>
        <p:sp>
          <p:nvSpPr>
            <p:cNvPr id="59" name=""/>
            <p:cNvSpPr/>
            <p:nvPr/>
          </p:nvSpPr>
          <p:spPr>
            <a:xfrm>
              <a:off x="145080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6832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262400" y="134316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262400" y="55166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2400" y="498960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262400" y="18194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7066400">
            <a:off x="1084320" y="2370960"/>
            <a:ext cx="3696120" cy="250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8632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86327"/>
              </a:path>
            </a:pathLst>
          </a:custGeom>
          <a:noFill/>
          <a:ln w="38160">
            <a:solidFill>
              <a:srgbClr val="6600ff"/>
            </a:solidFill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0520" y="222084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F.Ttl=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644400">
            <a:off x="4379040" y="1358640"/>
            <a:ext cx="914040" cy="4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2491400">
            <a:off x="5664240" y="1869480"/>
            <a:ext cx="914040" cy="4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7868000">
            <a:off x="6046920" y="3887640"/>
            <a:ext cx="1141920" cy="54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343800">
            <a:off x="6051240" y="2385720"/>
            <a:ext cx="1143000" cy="54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46200" y="1628640"/>
            <a:ext cx="712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3840" y="3206880"/>
            <a:ext cx="51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643040" y="1343160"/>
            <a:ext cx="5472000" cy="41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1760" y="1816200"/>
            <a:ext cx="4343400" cy="31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806560" y="4614840"/>
            <a:ext cx="914400" cy="842760"/>
            <a:chOff x="2806560" y="4614840"/>
            <a:chExt cx="914400" cy="842760"/>
          </a:xfrm>
        </p:grpSpPr>
        <p:sp>
          <p:nvSpPr>
            <p:cNvPr id="76" name=""/>
            <p:cNvSpPr/>
            <p:nvPr/>
          </p:nvSpPr>
          <p:spPr>
            <a:xfrm>
              <a:off x="280656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2408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076720" y="4614840"/>
            <a:ext cx="914400" cy="842760"/>
            <a:chOff x="5076720" y="4614840"/>
            <a:chExt cx="914400" cy="842760"/>
          </a:xfrm>
        </p:grpSpPr>
        <p:sp>
          <p:nvSpPr>
            <p:cNvPr id="79" name=""/>
            <p:cNvSpPr/>
            <p:nvPr/>
          </p:nvSpPr>
          <p:spPr>
            <a:xfrm>
              <a:off x="507672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9424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375240" y="2979720"/>
            <a:ext cx="914400" cy="842760"/>
            <a:chOff x="6375240" y="2979720"/>
            <a:chExt cx="914400" cy="842760"/>
          </a:xfrm>
        </p:grpSpPr>
        <p:sp>
          <p:nvSpPr>
            <p:cNvPr id="82" name=""/>
            <p:cNvSpPr/>
            <p:nvPr/>
          </p:nvSpPr>
          <p:spPr>
            <a:xfrm>
              <a:off x="637524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9276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076720" y="1362240"/>
            <a:ext cx="914400" cy="842760"/>
            <a:chOff x="5076720" y="1362240"/>
            <a:chExt cx="914400" cy="842760"/>
          </a:xfrm>
        </p:grpSpPr>
        <p:sp>
          <p:nvSpPr>
            <p:cNvPr id="85" name=""/>
            <p:cNvSpPr/>
            <p:nvPr/>
          </p:nvSpPr>
          <p:spPr>
            <a:xfrm>
              <a:off x="507672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9424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06560" y="1362240"/>
            <a:ext cx="914400" cy="842760"/>
            <a:chOff x="2806560" y="1362240"/>
            <a:chExt cx="914400" cy="842760"/>
          </a:xfrm>
        </p:grpSpPr>
        <p:sp>
          <p:nvSpPr>
            <p:cNvPr id="88" name=""/>
            <p:cNvSpPr/>
            <p:nvPr/>
          </p:nvSpPr>
          <p:spPr>
            <a:xfrm>
              <a:off x="280656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408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450800" y="2979720"/>
            <a:ext cx="914400" cy="842760"/>
            <a:chOff x="1450800" y="2979720"/>
            <a:chExt cx="914400" cy="842760"/>
          </a:xfrm>
        </p:grpSpPr>
        <p:sp>
          <p:nvSpPr>
            <p:cNvPr id="91" name=""/>
            <p:cNvSpPr/>
            <p:nvPr/>
          </p:nvSpPr>
          <p:spPr>
            <a:xfrm>
              <a:off x="145080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6832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262400" y="134316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262400" y="55166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2400" y="498960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262400" y="18194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644400">
            <a:off x="4379040" y="1358640"/>
            <a:ext cx="914040" cy="4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2491400">
            <a:off x="5664240" y="1869480"/>
            <a:ext cx="914040" cy="4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7868000">
            <a:off x="6046920" y="3887640"/>
            <a:ext cx="1141920" cy="54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3343800">
            <a:off x="6051240" y="2385720"/>
            <a:ext cx="1143000" cy="54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46200" y="1628640"/>
            <a:ext cx="712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1159600">
            <a:off x="2513520" y="1263960"/>
            <a:ext cx="2791800" cy="74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1" y="572"/>
                </a:moveTo>
                <a:arcTo wR="10800" hR="10800" stAng="-6524122" swAng="12592398"/>
                <a:lnTo>
                  <a:pt x="10800" y="10800"/>
                </a:lnTo>
                <a:close/>
              </a:path>
              <a:path fill="none" w="21600" h="21600">
                <a:moveTo>
                  <a:pt x="7331" y="572"/>
                </a:moveTo>
                <a:arcTo wR="10800" hR="10800" stAng="-6524122" swAng="12592398"/>
              </a:path>
            </a:pathLst>
          </a:custGeom>
          <a:noFill/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07920" y="89208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F.Ttl=2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07920" y="21780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F.Ttl=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73840" y="3206880"/>
            <a:ext cx="51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43040" y="1343160"/>
            <a:ext cx="5472000" cy="41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1760" y="1816200"/>
            <a:ext cx="4343400" cy="31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806560" y="4614840"/>
            <a:ext cx="914400" cy="842760"/>
            <a:chOff x="2806560" y="4614840"/>
            <a:chExt cx="914400" cy="842760"/>
          </a:xfrm>
        </p:grpSpPr>
        <p:sp>
          <p:nvSpPr>
            <p:cNvPr id="109" name=""/>
            <p:cNvSpPr/>
            <p:nvPr/>
          </p:nvSpPr>
          <p:spPr>
            <a:xfrm>
              <a:off x="280656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076720" y="4614840"/>
            <a:ext cx="914400" cy="842760"/>
            <a:chOff x="5076720" y="4614840"/>
            <a:chExt cx="914400" cy="842760"/>
          </a:xfrm>
        </p:grpSpPr>
        <p:sp>
          <p:nvSpPr>
            <p:cNvPr id="112" name=""/>
            <p:cNvSpPr/>
            <p:nvPr/>
          </p:nvSpPr>
          <p:spPr>
            <a:xfrm>
              <a:off x="507672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9424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375240" y="2979720"/>
            <a:ext cx="914400" cy="842760"/>
            <a:chOff x="6375240" y="2979720"/>
            <a:chExt cx="914400" cy="842760"/>
          </a:xfrm>
        </p:grpSpPr>
        <p:sp>
          <p:nvSpPr>
            <p:cNvPr id="115" name=""/>
            <p:cNvSpPr/>
            <p:nvPr/>
          </p:nvSpPr>
          <p:spPr>
            <a:xfrm>
              <a:off x="637524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9276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076720" y="1362240"/>
            <a:ext cx="914400" cy="842760"/>
            <a:chOff x="5076720" y="1362240"/>
            <a:chExt cx="914400" cy="842760"/>
          </a:xfrm>
        </p:grpSpPr>
        <p:sp>
          <p:nvSpPr>
            <p:cNvPr id="118" name=""/>
            <p:cNvSpPr/>
            <p:nvPr/>
          </p:nvSpPr>
          <p:spPr>
            <a:xfrm>
              <a:off x="507672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9424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806560" y="1362240"/>
            <a:ext cx="914400" cy="842760"/>
            <a:chOff x="2806560" y="1362240"/>
            <a:chExt cx="914400" cy="842760"/>
          </a:xfrm>
        </p:grpSpPr>
        <p:sp>
          <p:nvSpPr>
            <p:cNvPr id="121" name=""/>
            <p:cNvSpPr/>
            <p:nvPr/>
          </p:nvSpPr>
          <p:spPr>
            <a:xfrm>
              <a:off x="280656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408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450800" y="2979720"/>
            <a:ext cx="914400" cy="842760"/>
            <a:chOff x="1450800" y="2979720"/>
            <a:chExt cx="914400" cy="842760"/>
          </a:xfrm>
        </p:grpSpPr>
        <p:sp>
          <p:nvSpPr>
            <p:cNvPr id="124" name=""/>
            <p:cNvSpPr/>
            <p:nvPr/>
          </p:nvSpPr>
          <p:spPr>
            <a:xfrm>
              <a:off x="145080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6832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262400" y="134316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262400" y="55166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62400" y="498960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262400" y="18194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644400">
            <a:off x="4379040" y="1358640"/>
            <a:ext cx="914040" cy="4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2491400">
            <a:off x="5664240" y="1869480"/>
            <a:ext cx="914040" cy="4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868000">
            <a:off x="6046920" y="3887640"/>
            <a:ext cx="1141920" cy="54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3343800">
            <a:off x="6051240" y="2385720"/>
            <a:ext cx="1143000" cy="54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100960" y="1958040"/>
            <a:ext cx="2886120" cy="288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77" y="1434"/>
                </a:moveTo>
                <a:arcTo wR="10800" hR="10800" stAng="-3608449" swAng="7250486"/>
                <a:lnTo>
                  <a:pt x="10800" y="10800"/>
                </a:lnTo>
                <a:close/>
              </a:path>
              <a:path fill="none" w="21600" h="21600">
                <a:moveTo>
                  <a:pt x="16177" y="1434"/>
                </a:moveTo>
                <a:arcTo wR="10800" hR="10800" stAng="-3608449" swAng="7250486"/>
              </a:path>
            </a:pathLst>
          </a:custGeom>
          <a:noFill/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4920" y="38070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F.Ttl=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73840" y="3206880"/>
            <a:ext cx="51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43040" y="1343160"/>
            <a:ext cx="5472000" cy="41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01760" y="1816200"/>
            <a:ext cx="4343400" cy="31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806560" y="4614840"/>
            <a:ext cx="914400" cy="842760"/>
            <a:chOff x="2806560" y="4614840"/>
            <a:chExt cx="914400" cy="842760"/>
          </a:xfrm>
        </p:grpSpPr>
        <p:sp>
          <p:nvSpPr>
            <p:cNvPr id="140" name=""/>
            <p:cNvSpPr/>
            <p:nvPr/>
          </p:nvSpPr>
          <p:spPr>
            <a:xfrm>
              <a:off x="280656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408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076720" y="4614840"/>
            <a:ext cx="914400" cy="842760"/>
            <a:chOff x="5076720" y="4614840"/>
            <a:chExt cx="914400" cy="842760"/>
          </a:xfrm>
        </p:grpSpPr>
        <p:sp>
          <p:nvSpPr>
            <p:cNvPr id="143" name=""/>
            <p:cNvSpPr/>
            <p:nvPr/>
          </p:nvSpPr>
          <p:spPr>
            <a:xfrm>
              <a:off x="507672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9424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375240" y="2979720"/>
            <a:ext cx="914400" cy="842760"/>
            <a:chOff x="6375240" y="2979720"/>
            <a:chExt cx="914400" cy="842760"/>
          </a:xfrm>
        </p:grpSpPr>
        <p:sp>
          <p:nvSpPr>
            <p:cNvPr id="146" name=""/>
            <p:cNvSpPr/>
            <p:nvPr/>
          </p:nvSpPr>
          <p:spPr>
            <a:xfrm>
              <a:off x="637524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9276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076720" y="1362240"/>
            <a:ext cx="914400" cy="842760"/>
            <a:chOff x="5076720" y="1362240"/>
            <a:chExt cx="914400" cy="842760"/>
          </a:xfrm>
        </p:grpSpPr>
        <p:sp>
          <p:nvSpPr>
            <p:cNvPr id="149" name=""/>
            <p:cNvSpPr/>
            <p:nvPr/>
          </p:nvSpPr>
          <p:spPr>
            <a:xfrm>
              <a:off x="507672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424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806560" y="1362240"/>
            <a:ext cx="914400" cy="842760"/>
            <a:chOff x="2806560" y="1362240"/>
            <a:chExt cx="914400" cy="842760"/>
          </a:xfrm>
        </p:grpSpPr>
        <p:sp>
          <p:nvSpPr>
            <p:cNvPr id="152" name=""/>
            <p:cNvSpPr/>
            <p:nvPr/>
          </p:nvSpPr>
          <p:spPr>
            <a:xfrm>
              <a:off x="280656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2408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450800" y="2979720"/>
            <a:ext cx="914400" cy="842760"/>
            <a:chOff x="1450800" y="2979720"/>
            <a:chExt cx="914400" cy="842760"/>
          </a:xfrm>
        </p:grpSpPr>
        <p:sp>
          <p:nvSpPr>
            <p:cNvPr id="155" name=""/>
            <p:cNvSpPr/>
            <p:nvPr/>
          </p:nvSpPr>
          <p:spPr>
            <a:xfrm>
              <a:off x="145080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832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262400" y="134316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262400" y="55166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2400" y="498960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262400" y="18194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rot="15462000">
            <a:off x="3513600" y="1782360"/>
            <a:ext cx="2886120" cy="288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40" y="7367"/>
                </a:moveTo>
                <a:arcTo wR="10800" hR="10800" stAng="-1111932" swAng="4753968"/>
                <a:lnTo>
                  <a:pt x="10800" y="10800"/>
                </a:lnTo>
                <a:close/>
              </a:path>
              <a:path fill="none" w="21600" h="21600">
                <a:moveTo>
                  <a:pt x="21040" y="7367"/>
                </a:moveTo>
                <a:arcTo wR="10800" hR="10800" stAng="-1111932" swAng="4753968"/>
              </a:path>
            </a:pathLst>
          </a:custGeom>
          <a:noFill/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36720" y="39924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F.Ttl=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73840" y="3206880"/>
            <a:ext cx="51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43040" y="1343160"/>
            <a:ext cx="5472000" cy="41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01760" y="1816200"/>
            <a:ext cx="4343400" cy="31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806560" y="4614840"/>
            <a:ext cx="914400" cy="842760"/>
            <a:chOff x="2806560" y="4614840"/>
            <a:chExt cx="914400" cy="842760"/>
          </a:xfrm>
        </p:grpSpPr>
        <p:sp>
          <p:nvSpPr>
            <p:cNvPr id="167" name=""/>
            <p:cNvSpPr/>
            <p:nvPr/>
          </p:nvSpPr>
          <p:spPr>
            <a:xfrm>
              <a:off x="280656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2408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076720" y="4614840"/>
            <a:ext cx="914400" cy="842760"/>
            <a:chOff x="5076720" y="4614840"/>
            <a:chExt cx="914400" cy="842760"/>
          </a:xfrm>
        </p:grpSpPr>
        <p:sp>
          <p:nvSpPr>
            <p:cNvPr id="170" name=""/>
            <p:cNvSpPr/>
            <p:nvPr/>
          </p:nvSpPr>
          <p:spPr>
            <a:xfrm>
              <a:off x="507672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424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375240" y="2979720"/>
            <a:ext cx="914400" cy="842760"/>
            <a:chOff x="6375240" y="2979720"/>
            <a:chExt cx="914400" cy="842760"/>
          </a:xfrm>
        </p:grpSpPr>
        <p:sp>
          <p:nvSpPr>
            <p:cNvPr id="173" name=""/>
            <p:cNvSpPr/>
            <p:nvPr/>
          </p:nvSpPr>
          <p:spPr>
            <a:xfrm>
              <a:off x="637524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9276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076720" y="1362240"/>
            <a:ext cx="914400" cy="842760"/>
            <a:chOff x="5076720" y="1362240"/>
            <a:chExt cx="914400" cy="842760"/>
          </a:xfrm>
        </p:grpSpPr>
        <p:sp>
          <p:nvSpPr>
            <p:cNvPr id="176" name=""/>
            <p:cNvSpPr/>
            <p:nvPr/>
          </p:nvSpPr>
          <p:spPr>
            <a:xfrm>
              <a:off x="507672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424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806560" y="1362240"/>
            <a:ext cx="914400" cy="842760"/>
            <a:chOff x="2806560" y="1362240"/>
            <a:chExt cx="914400" cy="842760"/>
          </a:xfrm>
        </p:grpSpPr>
        <p:sp>
          <p:nvSpPr>
            <p:cNvPr id="179" name=""/>
            <p:cNvSpPr/>
            <p:nvPr/>
          </p:nvSpPr>
          <p:spPr>
            <a:xfrm>
              <a:off x="280656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2408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450800" y="2979720"/>
            <a:ext cx="914400" cy="842760"/>
            <a:chOff x="1450800" y="2979720"/>
            <a:chExt cx="914400" cy="842760"/>
          </a:xfrm>
        </p:grpSpPr>
        <p:sp>
          <p:nvSpPr>
            <p:cNvPr id="182" name=""/>
            <p:cNvSpPr/>
            <p:nvPr/>
          </p:nvSpPr>
          <p:spPr>
            <a:xfrm>
              <a:off x="145080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6832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262400" y="134316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262400" y="55166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62400" y="498960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262400" y="18194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rot="6702600">
            <a:off x="3138840" y="1756080"/>
            <a:ext cx="2885400" cy="342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90"/>
                </a:moveTo>
                <a:arcTo wR="10800" hR="10800" stAng="-3125" swAng="3645161"/>
                <a:lnTo>
                  <a:pt x="10800" y="10800"/>
                </a:lnTo>
                <a:close/>
              </a:path>
              <a:path fill="none" w="21600" h="21600">
                <a:moveTo>
                  <a:pt x="21600" y="10790"/>
                </a:moveTo>
                <a:arcTo wR="10800" hR="10800" stAng="-3125" swAng="3645161"/>
              </a:path>
            </a:pathLst>
          </a:custGeom>
          <a:noFill/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50920" y="21924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F.Ttl=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73840" y="3206880"/>
            <a:ext cx="51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643040" y="1343160"/>
            <a:ext cx="5472000" cy="41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01760" y="1816200"/>
            <a:ext cx="4343400" cy="31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806560" y="4614840"/>
            <a:ext cx="914400" cy="842760"/>
            <a:chOff x="2806560" y="4614840"/>
            <a:chExt cx="914400" cy="842760"/>
          </a:xfrm>
        </p:grpSpPr>
        <p:sp>
          <p:nvSpPr>
            <p:cNvPr id="194" name=""/>
            <p:cNvSpPr/>
            <p:nvPr/>
          </p:nvSpPr>
          <p:spPr>
            <a:xfrm>
              <a:off x="280656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2408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76720" y="4614840"/>
            <a:ext cx="914400" cy="842760"/>
            <a:chOff x="5076720" y="4614840"/>
            <a:chExt cx="914400" cy="842760"/>
          </a:xfrm>
        </p:grpSpPr>
        <p:sp>
          <p:nvSpPr>
            <p:cNvPr id="197" name=""/>
            <p:cNvSpPr/>
            <p:nvPr/>
          </p:nvSpPr>
          <p:spPr>
            <a:xfrm>
              <a:off x="507672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9424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375240" y="2979720"/>
            <a:ext cx="914400" cy="842760"/>
            <a:chOff x="6375240" y="2979720"/>
            <a:chExt cx="914400" cy="842760"/>
          </a:xfrm>
        </p:grpSpPr>
        <p:sp>
          <p:nvSpPr>
            <p:cNvPr id="200" name=""/>
            <p:cNvSpPr/>
            <p:nvPr/>
          </p:nvSpPr>
          <p:spPr>
            <a:xfrm>
              <a:off x="637524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9276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076720" y="1362240"/>
            <a:ext cx="914400" cy="842760"/>
            <a:chOff x="5076720" y="1362240"/>
            <a:chExt cx="914400" cy="842760"/>
          </a:xfrm>
        </p:grpSpPr>
        <p:sp>
          <p:nvSpPr>
            <p:cNvPr id="203" name=""/>
            <p:cNvSpPr/>
            <p:nvPr/>
          </p:nvSpPr>
          <p:spPr>
            <a:xfrm>
              <a:off x="507672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9424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806560" y="1362240"/>
            <a:ext cx="914400" cy="842760"/>
            <a:chOff x="2806560" y="1362240"/>
            <a:chExt cx="914400" cy="842760"/>
          </a:xfrm>
        </p:grpSpPr>
        <p:sp>
          <p:nvSpPr>
            <p:cNvPr id="206" name=""/>
            <p:cNvSpPr/>
            <p:nvPr/>
          </p:nvSpPr>
          <p:spPr>
            <a:xfrm>
              <a:off x="280656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2408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450800" y="2979720"/>
            <a:ext cx="914400" cy="842760"/>
            <a:chOff x="1450800" y="2979720"/>
            <a:chExt cx="914400" cy="842760"/>
          </a:xfrm>
        </p:grpSpPr>
        <p:sp>
          <p:nvSpPr>
            <p:cNvPr id="209" name=""/>
            <p:cNvSpPr/>
            <p:nvPr/>
          </p:nvSpPr>
          <p:spPr>
            <a:xfrm>
              <a:off x="145080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6832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262400" y="134316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262400" y="55166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62400" y="498960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262400" y="18194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100960" y="1958040"/>
            <a:ext cx="2886120" cy="288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77" y="1434"/>
                </a:moveTo>
                <a:arcTo wR="10800" hR="10800" stAng="-3608449" swAng="7250486"/>
                <a:lnTo>
                  <a:pt x="10800" y="10800"/>
                </a:lnTo>
                <a:close/>
              </a:path>
              <a:path fill="none" w="21600" h="21600">
                <a:moveTo>
                  <a:pt x="16177" y="1434"/>
                </a:moveTo>
                <a:arcTo wR="10800" hR="10800" stAng="-3608449" swAng="7250486"/>
              </a:path>
            </a:pathLst>
          </a:custGeom>
          <a:noFill/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50880" y="383544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F.Ttl=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73840" y="3206880"/>
            <a:ext cx="51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10:02:18Z</dcterms:created>
  <dc:creator>Nie Shiwei</dc:creator>
  <dc:description/>
  <dc:language>en-US</dc:language>
  <cp:lastModifiedBy>Nie Shiwei</cp:lastModifiedBy>
  <dcterms:modified xsi:type="dcterms:W3CDTF">2003-07-02T11:21:53Z</dcterms:modified>
  <cp:revision>6</cp:revision>
  <dc:subject/>
  <dc:title>幻灯片 1</dc:title>
</cp:coreProperties>
</file>