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66FB-F807-41DB-A4B9-5F408A6EB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912B-F5FE-4D73-B979-5FD2A951C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A281-BEC5-4C61-9C74-7D8F6A701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5854-B835-4FA1-9585-B68ECD180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4B70-CA58-4EE3-A4CE-F51085963B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6C9B-6A21-44FB-B6CA-808FCB6E93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C308-2D7F-48C7-A026-6DF80413CB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97D15-699A-41AC-B95D-14E6F00CA3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6975F-0364-4EF6-A904-459E2396A6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5CF2-70C1-44FE-ADCF-B2900AFBF3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C729C-08EE-4EE7-A527-1DA274B67D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B8A5-3DBE-46FE-8CC5-086181813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E5F05-3AD9-4135-ADDF-3805E354F7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6B381-08A4-4ECB-93ED-3D4662AE79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D7837-3681-4D48-9B34-19E894DFA2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B37B-FEE0-4BE3-8F69-5DAC377759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D9A6-A2D1-41DB-B693-65982A76BB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628B-ED4B-4C56-BA78-DD06F34CF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91D5-967F-4FC7-8FB0-3D7E44236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5BCA-85A2-4C2F-A89D-E8813D5D5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727F-80B7-41AD-8D15-3E748B9C0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FC89-09F1-4E01-B1E4-0A9B0EDE6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232D-7B50-430C-819A-BB6F7986E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160D-0158-4201-B9D1-6BECDFF98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3" name="smllieee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86600" y="6171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C816-131E-4350-B97D-E242EC2FE99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1944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65760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802-17-jf_report_top_prot_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0/23/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46" name="smllieee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7086600" y="6171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D781-CC20-4136-A854-D6507A63B73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802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ology/Protection Com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son Fan, Section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ason@luminous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Kao, Technical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kao@cisco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B026-3CA3-4D65-A1DE-DE3F54E237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10 and Annex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technical 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2 technical non-binding (8 editorials upgra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4 edi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tions (technic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8 accepted, accepted/d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 accepted mod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superc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withdra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orial license requ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55E8-DA13-4BD9-9506-2E9C7B3951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sues Cov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or text, figure, variable naming, etc. cleanups and corr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4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al of spurious may and duplicate shall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ion of badFcsUser operation, and MIB editors need to pick up definitions of station settings ATT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69, 314, 3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description of protection time for strict mode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TT frames corrected to be wrap e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7, 2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conditional support option to ATT table (mandatory if different from default, otherwise opti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3A7E-122E-422D-B0AA-B1909A2D98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sues Cov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within a missing ATT reported with default value of 0 or empty string, MIB editors to modify definition of station if index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configurable keepalive timeout increased back to 50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 variables for the transmit TP frame state table to be set to FALSE only within tha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ology database example values to be made consistent with a functional 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9, 3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nup of transmit TP frame stat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71, 373, 3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condition for triggering TC frames is that topology is 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8296-6584-48FF-9B3C-E96C4D9008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sues Cov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s of secondary MAC address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86, 387, 388, 3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ation only performed if topology is 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ubstitution is supported, ringlet selection will support at least 32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32 exceeded on ring, defect is reported. All addresses written into topolog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 to be provided in the topology database indicating which secondary MAC addresses are being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ation state table to be split into two, one for received ATD frames, and the other for loc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MAC addresses 1 and 2 independently reported on 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7B71-8A55-407D-B53E-751222E5F9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sues Cov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ase of transit path failure, a station can report an SF on a single span or suspend transmission of keepalives on that span, or do the above on both sp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on receiving an LRTT response (not LRTT request) to reject LRTT frames received after more than 100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TT measurement information to be stored in topology database based on ringlet on which LRTT response is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descriptions in LRTT state table to be clar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ex K to be de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ACE5-3C0A-403C-A969-2C6479F68B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j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 361 (T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ibution cited in the comment not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er was present and ag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A964-5353-4120-9511-0FEAFD77B0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04:47:50Z</dcterms:created>
  <dc:creator>John Lemon</dc:creator>
  <dc:description/>
  <dc:language>en-US</dc:language>
  <cp:lastModifiedBy>Jason Fan</cp:lastModifiedBy>
  <dcterms:modified xsi:type="dcterms:W3CDTF">2003-10-23T17:42:36Z</dcterms:modified>
  <cp:revision>275</cp:revision>
  <dc:subject/>
  <dc:title>RPR Topology Discovery Proposal </dc:title>
</cp:coreProperties>
</file>