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FEB54-C1AD-49B7-AC0E-4F02C4A11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AD59-A2D3-4932-B60C-ED85FECD0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CEC4B-1F38-4300-9CC9-33B520CF0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82C0-DB14-4B29-B306-B3C4FB3EF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0075D-8F00-4F14-969E-88B0EF03BC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6B940-45FF-4CDD-BE91-DD9F71129D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9BB60-9886-4425-BDDB-DADDFE2886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535B9-F58B-4D9F-818C-09D4A8CCCD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77074-9293-49FA-8945-E4FEDDE93C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D109-44DB-4FC6-9BE0-9DD1E51669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A3F2F-E387-49FD-96C0-7F9CB15481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09853-BBD1-4E91-A875-36C66F7B1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344FB-DE11-49AC-B616-BDB5988FD8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3B4AE-2649-4E83-BB52-827372AE40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4D546-79BD-4432-8937-8F672D494D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7797F-DABC-4B24-84E0-5FA3AFE5F6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16B3E-7CA3-4020-B4B3-BDDCBD94CB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F5AB-D2DF-48E9-9DF9-E8DEBC551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BB4F-57B1-497E-867E-56702942E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73A6-6DEC-4C84-9A51-E7D88F76A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583C-5D81-4C86-9B8F-A0002ABFE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49DA-6AF9-43EB-8A5B-762FED1D9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6881-F9E9-457C-B7B3-ECC90D869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ADE4-B42F-4D78-9375-A9A4FEF72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  <p:pic>
        <p:nvPicPr>
          <p:cNvPr id="3" name="smllieee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86600" y="6171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915A-0356-42C1-8C7C-8BCB02DA623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619440" y="61722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657600" y="61722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802-17-jf_sec_mac_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212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0/23/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  <p:pic>
        <p:nvPicPr>
          <p:cNvPr id="46" name="smllieee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7086600" y="6171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AA94-8BE4-47BE-AA44-02D5270577F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1722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802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itional Secondary MAC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rules are in addition to what is currently in comments #386-#3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nglet selection, on a given ringlet, uses secondary MAC information that is contained in a valid topology entry, and that is marked in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ew secondary MAC address information is received and topology is valid, or when topology becomes vali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new information is written into the topology database and is marked not in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ary MAC address validation is performed, taking into account all secondary addresses (whether or not in us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validation passes, all secondary MAC addresses within the reachable topology are marked in 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validation fails, there is no effect on secondary MAC addresses in the topology datab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1ABE-16A9-45CF-870B-92586A5FD8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itional Secondary MAC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opology becomes unstable or invali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effect on secondary MAC addresses in the topology datab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ew secondary MAC address information is received and topology is not vali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secondary MAC address information is added to database, and is marked not in 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P frame is received that duplicates a secondary MAC address of the local s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uplicated secondary MAC address is marked not in 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 valid topology database entry becomes invalid or when the station MAC address in a valid entry is rewrit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ATD information is cleared from that entry. This is needed because a new topology can be discovered well within a single ATD timer peri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971B-2541-4A5F-B322-F1ADC46DA9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04:47:50Z</dcterms:created>
  <dc:creator>John Lemon</dc:creator>
  <dc:description/>
  <dc:language>en-US</dc:language>
  <cp:lastModifiedBy>Jason Fan</cp:lastModifiedBy>
  <dcterms:modified xsi:type="dcterms:W3CDTF">2003-10-23T21:16:12Z</dcterms:modified>
  <cp:revision>280</cp:revision>
  <dc:subject/>
  <dc:title>RPR Topology Discovery Proposal </dc:title>
</cp:coreProperties>
</file>