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B87-2424-421B-96B3-CE9B5671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092-F270-4026-9370-391BB3C3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77B-E922-43C1-BB5C-8436452C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A14-D767-4E13-A97F-35A65426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7DD3-C51B-4A02-9604-BADBDDD6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057-6421-41F4-A842-0740EE31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F7C0-D9AA-43B4-860C-3944B9EF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7719-F980-48C2-AD0C-714F8B4B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2B26-ABFB-4A0A-8FC9-2C1B61F3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9E7C-BF80-4574-AEE8-469E6E28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8E9B6-BEA4-4262-AC2F-B6920E7D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024-FF6D-402F-8972-46BB2FA1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207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069D-8554-4AF4-A756-7C486485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E15B-C55C-4E03-8E8A-2BF33FAC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80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1F8C-38AC-41BC-AC9D-84774A47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207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1DF2-664F-4CEC-9073-80FAB67F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660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37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80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660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937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9303-2119-4C8F-A11C-D4FFD539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374-6BE2-4B4B-8B7B-910B68B3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428-FE58-4FBF-BE4F-5C0A763E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A6BE-0904-4C67-B392-206060E7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BA7-7D4F-4753-BB57-5C56854B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CF3C-6573-4F45-BA50-54ABC8C6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ABC-FE3C-426E-8CB0-D7A87CD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-7884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2DA-0BBC-46AB-BB46-0FBB3CC2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6520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6520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8748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8748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144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5720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477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9255-52B1-4B44-B473-82BBF10E81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C583-99CD-4635-846E-0EAC191AAA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04920" y="-228600"/>
          <a:ext cx="8356320" cy="713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228600"/>
                    <a:ext cx="8356320" cy="71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934320" y="-76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C802.20-03/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tatus of Current Mobile Wireless Access System Standar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20 Plenary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10-13,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IEEE 802.20 Goals (per PAR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17520" y="1762200"/>
          <a:ext cx="8481960" cy="410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762200"/>
                    <a:ext cx="848196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095880" y="6157800"/>
          <a:ext cx="106704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157800"/>
                    <a:ext cx="106704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971800" y="6156360"/>
          <a:ext cx="106668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6156360"/>
                    <a:ext cx="10666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Where existing mobile systems may be.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5800" y="1447920"/>
          <a:ext cx="7848720" cy="4973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447920"/>
                    <a:ext cx="7848720" cy="49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20360" y="625464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Verdana"/>
                <a:ea typeface="Times New Roman"/>
              </a:rPr>
              <a:t>†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6400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Where we want to be.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7160" y="1519200"/>
          <a:ext cx="8605800" cy="546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1519200"/>
                    <a:ext cx="860580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oposed performance targets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Verdana"/>
              </a:rPr>
              <a:t>(?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57400" y="1677960"/>
          <a:ext cx="8901000" cy="564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7400" y="1677960"/>
                    <a:ext cx="8901000" cy="56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21:01:31Z</dcterms:created>
  <dc:creator>Eshwar Pittampalli</dc:creator>
  <dc:description/>
  <dc:language>en-US</dc:language>
  <cp:lastModifiedBy>Mark Klerer</cp:lastModifiedBy>
  <dcterms:modified xsi:type="dcterms:W3CDTF">2003-11-11T17:33:02Z</dcterms:modified>
  <cp:revision>29</cp:revision>
  <dc:subject/>
  <dc:title>PowerPoint Presentation</dc:title>
</cp:coreProperties>
</file>