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29E-9660-4496-B084-4A099F40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A530-268B-4FB2-9591-3847938F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B12-A725-426E-95C6-505B68CA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EA3-3A30-4AA0-8366-14EAAEE6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CFA6-097F-4248-B58D-99E585D5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5314-BC3C-4B29-99CD-CDBA9E9A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769E-A705-4A92-B284-4346143A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5F80-FB10-432E-8523-38D1AC48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252F-4022-4A6C-92C3-391C6A70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387E-2461-4A83-82D8-AD8C83DC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C7C2-09DF-4EE2-8934-DCB54ADC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4D94-D390-4D8A-A2B1-82AE1D54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2ADB-464B-434E-B70F-67CA3B0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CB50-7BD5-40A0-B0E5-B2FF333A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282C-062D-4D4B-A021-02421774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6571-5928-4858-8CC4-9BC13D17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2877-9F38-4234-9B01-B6AAC901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3D38-7596-4ABD-A268-9A79814D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0F8-0130-49AD-98AC-760433D2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7767-A23A-472E-B769-92F5A883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4C79-82E2-4823-A559-92D98FF3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AD8-DB17-4CB9-9242-DA07B28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88E9-2039-472D-BCDF-339695FF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188-71C4-4C0B-AE12-B88F2686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24280" y="617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v-10-200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6176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EEE 802.20 Contribution # C802.20-03-1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939A-B06A-47D2-B901-AE12BB66470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EDA3-C90C-4881-8B18-C03D38DFD3A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28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IEEE 802.20 MBWA Standard Development Pro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7816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sentation of Contribution C802.20-03-10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v-10-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an Gal,  email: dgal@lucen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14800"/>
            <a:ext cx="822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urality of Technologies &amp; Channel Bandwidths in the IEEE 802.20 Standa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380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802-03/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0D38-9638-4B44-996C-A8C037CF4E8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hannel BW &amp; Block Assignments (3/4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dditional iss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ment may be required in a partial (frequency) block assign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chnology proposal that only supports a wide band channel (say, 20 MHz) will not be deployable in a narrow sub-block.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to be consistent with the requirement of section 4.3 of the SRD (see the next sl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245-F950-490B-A19A-A68796F24D4A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hannel BW &amp; Block Assignments (4/4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RD section 4.3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…”the design shall be readi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tensib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wider channels…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23888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B8FE-4D77-4D84-AD7A-43949C2E3180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shown that the PAR and SRD definitions of the following key radio technology characteristic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FDD / TD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HY-MAC combinations,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hannel bandwidth(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too vague or ambiguous and need further clarification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ever redefined, these requirements may lead to an umbrella 802.20 standard that specifies multiple technologies and channel bandwidth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802.20 working group needs to be aware of this outcome and make the appropriate deci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419A-C08F-4C77-B9BE-8205BF66761C}" type="slidenum">
              <a:t>12</a:t>
            </a:fld>
          </a:p>
        </p:txBody>
      </p:sp>
    </p:spTree>
  </p:cSld>
  <p:transition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urpose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 that the 802.20 standard may evolve into a multi-technology, multi-channel -bandwidth umbrella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an educated discussion and decision making, followed by an unambiguous definition of these requirements in the SR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* SRD= System Requirements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4E9-2E76-4E12-9139-F067849AF55C}" type="slidenum">
              <a:t>2</a:t>
            </a:fld>
          </a:p>
        </p:txBody>
      </p:sp>
    </p:spTree>
  </p:cSld>
  <p:transition>
    <p:checke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DD, TDD Duplexing – what’s required of  the technology proposal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PHYs – with a common MAC or PHY-specific MACs, i.e, multiple–technology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Channel B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uzzle5"/>
          <p:cNvSpPr/>
          <p:nvPr/>
        </p:nvSpPr>
        <p:spPr>
          <a:xfrm>
            <a:off x="7086600" y="4952880"/>
            <a:ext cx="1523880" cy="1206720"/>
          </a:xfrm>
          <a:prstGeom prst="pie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#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uzzle4"/>
          <p:cNvSpPr/>
          <p:nvPr/>
        </p:nvSpPr>
        <p:spPr>
          <a:xfrm>
            <a:off x="6500880" y="4916520"/>
            <a:ext cx="904680" cy="1574640"/>
          </a:xfrm>
          <a:prstGeom prst="pie">
            <a:avLst/>
          </a:prstGeom>
          <a:solidFill>
            <a:srgbClr val="41b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D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#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uzzle5"/>
          <p:cNvSpPr/>
          <p:nvPr/>
        </p:nvSpPr>
        <p:spPr>
          <a:xfrm>
            <a:off x="5334120" y="4952880"/>
            <a:ext cx="1523880" cy="120672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D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#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uzzle2"/>
          <p:cNvSpPr/>
          <p:nvPr/>
        </p:nvSpPr>
        <p:spPr>
          <a:xfrm>
            <a:off x="5305320" y="4371840"/>
            <a:ext cx="1524240" cy="947880"/>
          </a:xfrm>
          <a:prstGeom prst="pi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FDD #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3B4-CF44-4078-96FF-6BCFB90112D0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Reference Document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EEE 802.20 P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802.20 SRD version 8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FEE-416D-4018-814D-18EC7548AD54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DD &amp; TDD Duplexing (1/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AR [1] has established a requirement for both FDD and TDD supported in the 802.20 stand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924680" cy="606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4800600"/>
            <a:ext cx="796284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D1F-52E9-4999-9251-61EE511070B0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DD &amp; TDD Duplexing (2/2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ther the PAR, nor the 802.20 SRD (rev 8c)  provide an explicit requirement that technology proposals support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DD and TDD modes. Thus,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reasonable to assume, that this i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 requirement. i.e., proposals may support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i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FDD/TDD)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r bo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-- </a:t>
            </a: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if this is the consensus requirement, it should be clearly stated in the S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298-B628-48A8-8C16-FE0408690F0D}" type="slidenum">
              <a:t>6</a:t>
            </a:fld>
          </a:p>
        </p:txBody>
      </p:sp>
    </p:spTree>
  </p:cSld>
  <p:transition>
    <p:checker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Multiple PHY-MAC Combination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s 3.1.1 and 3.1.2 of the SRD indicate: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two (or more) PHY-MAC standard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no common MAC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7181640" cy="211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EDE-E738-4017-974F-3F253F4B0AC2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hannel Bandwidth &amp; Block Assign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RD section 4.1.3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80076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70E-1EE3-45EC-AB11-6A05FE515A6B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hannel BW &amp; Block Assignments (2/4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:  no channel bandwidth(s) specified in the SRD section 4.1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pretation 1: Any proposed technology must support deployment i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lock assignments and its supported channel BWs may be one or more of the following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DD BWs: 1.25,  5 , 10 , 20 MH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DD BWs: 2.5, 5, 10, 20, 40 MHz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pretation 2:  Proposed technologies may only support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ubs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defined block assignments. No requirement on the channel B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2BA-A7FC-476A-8F45-E880F33F0685}" type="slidenum">
              <a:t>9</a:t>
            </a:fld>
          </a:p>
        </p:txBody>
      </p:sp>
    </p:spTree>
  </p:cSld>
  <p:transition>
    <p:checker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3:48:02Z</dcterms:created>
  <dc:creator>Dan Gal</dc:creator>
  <dc:description/>
  <dc:language>en-US</dc:language>
  <cp:lastModifiedBy>Mark Klerer</cp:lastModifiedBy>
  <dcterms:modified xsi:type="dcterms:W3CDTF">2003-11-11T17:44:53Z</dcterms:modified>
  <cp:revision>67</cp:revision>
  <dc:subject/>
  <dc:title>Training</dc:title>
</cp:coreProperties>
</file>