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81AF1CD-6BAB-449A-9CB2-A4FA88949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7,28 11/4 12:00 – 2PM E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528CDB96-6599-44C2-863B-21B80AA34EE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97280" y="15228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802.20-03/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0"/>
          <a:ext cx="828036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280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6934320" y="76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C802.20-03/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progress due to lack of contrib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 from the traffic models C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 specific performance metrics and higher layer protocols details cannot be finalized until the details on the traffic models are availab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 from the requirements CG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 level of detail and specification in the SRD would help simplify the evaluation criteria tas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tus of 802.20 Evaluation Crite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Evaluation Criteria C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Plenary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mber 10-13, 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on Criteria Stat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onference call since the November Inter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ics discussed over the conference ca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orization, definition of spectral efficiency, mobility modeling, higher layers protocol models, control signaling models, fairness criteria and performance metrics etc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consensus reached on the Fairness crite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ion 06 of the Evaluation criteria document available (C802.20-03/94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torization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tral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mmendation to use 3-sector baseline config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al efficiency quoted as b/s/Hz/s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imulation data can also be provided for other configurations such as omni-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model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bility at the physical layer is taken care of by modeling fast fading corresponding to the mobile spe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obility model is still needed to assess the performance of various handoff schem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er Layer Protoc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s for higher layer protocols such as HTTP, RTSP and RTP etc. as applicable for various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 signaling model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of control signaling are scheduling grants transmission, channel quality feedback, and ARQ ACK/NACK Feedback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 states and signaling to enable state transitions modeled explicitly in the system simul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st of performance metrics used in the evaluation is incomple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 needed from the traffic modeling CG on the list of applications supported before the application specific performance metrics can be def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 Issu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and evaluation of various channel bandwidth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Mark Klerer</cp:lastModifiedBy>
  <dcterms:modified xsi:type="dcterms:W3CDTF">2003-11-12T22:00:45Z</dcterms:modified>
  <cp:revision>207</cp:revision>
  <dc:subject/>
  <dc:title>Evaluation Methodology for 802.20 MBWA</dc:title>
</cp:coreProperties>
</file>