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A3A24-4FB6-4989-9007-74005AADE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80010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821400"/>
            <a:ext cx="80010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246F-D43E-4723-B9E7-08C59276E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82140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82140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8DF7-A657-48AD-B9A4-31EA2FD8F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41768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41768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82140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82140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82140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8B39-55F5-4B5B-9608-EA00E85F6B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A7AB6-ECC9-4086-A058-62E6E8DE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1AE62-C041-4080-BAE4-823D0790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E0E69-8FC1-44BC-9BAB-BFE53E5D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363B6-92F8-443D-9062-3A1967FA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267B3-8A9A-492D-AB01-BC4264EF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46EEB-95F0-4B7D-97B6-6620EF7F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82140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B621A-E402-4D71-BAFE-AEFD7606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F686-7ABE-43D8-9534-525488F61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82140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EE36E-33A7-4413-8395-E156260F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821400"/>
            <a:ext cx="80010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7BD98-4D04-48F9-8BA1-1C120A95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80010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821400"/>
            <a:ext cx="80010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9E976-B62E-41CA-B7F5-144DAC6F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82140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82140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70377-083B-47B4-ACC4-3E60EAC3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41768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41768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82140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82140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821400"/>
            <a:ext cx="257616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9D996-1670-4A16-8D6B-938E890C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1D7AA-3163-4547-AD82-CCC4DEC66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56C0-8EE6-4EFF-BE68-0BD831B58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F423-27F0-4A36-B0E0-98F4FB211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560"/>
            <a:ext cx="80010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03B0A-3FA5-4EC9-9D39-9978BFC689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82140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1854-CBB3-49E6-A85F-2EFEC6CB2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82140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10573-D36F-42F7-9876-46514D235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417680"/>
            <a:ext cx="39042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821400"/>
            <a:ext cx="80010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21B6-87CF-46B9-B59D-7FB0BA936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64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593640" y="114300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789280" y="64929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407000" y="6492960"/>
            <a:ext cx="1477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0A16-D0C3-40BA-A2CC-482A331704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8696-1631-4BEE-A4F7-55D722876C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821880"/>
            <a:ext cx="7772400" cy="14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Moving Forward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06200" y="3428640"/>
            <a:ext cx="7451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bert D.Love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dlove@ieee.org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N Connect Consultan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6994440" y="274680"/>
            <a:ext cx="17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802.20-03/1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IEEE802.20 Albuquerque Plenary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9F713-F3CB-4803-95FB-B9E5CAF80BB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November 13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reparation for Jan Interim Mtg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stablish a vision for the 802.20 WG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stablish project goals &amp; schedu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gin work on the 802.20 draf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ffective conflict resolution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802.20 Albuquerque Plenary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33F3-59CC-4D6B-A4DE-333FF7482F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802.20 WG Vis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dividual Homework Assignmen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efine our market objective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ook out 5 to 7 year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oject market requirements over tim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stablish requirements and time frame for our first 802.20 standard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arrow scope of present project to first release of our standard consistent with overall vision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802.20 WG Assignment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 prepared to limit capability of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releas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802.20 Albuquerque Plenary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951F-29E2-47A6-BE86-CD896B16BD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560"/>
            <a:ext cx="818856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ablish project goals &amp; schedu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mplete Requirements document focused on project goals and schedule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velop and vote on Project Schedule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Establish goals for the January Mtg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No other presentations or other business until goals are met</a:t>
            </a:r>
            <a:endParaRPr b="1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toff date for completing Rqmnts doc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toff date for proposa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utoff date for choosing proposa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802.20 Albuquerque Plenary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71FEB-D5D8-49C2-8A5D-F776CBC923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egin work on the 802.20 draf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eapprove decisions made at Jan Interim meeting on progressing the project 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Complete work on Evaluation Criteria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vite technical proposals and  supplement with slide presentations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etailed text defines the substance of the proposal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802.20 Albuquerque Plenary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CE244-8867-46D0-8632-5C6325D0E1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ffective conflict resolution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417680"/>
            <a:ext cx="80010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st conflicts are a result of valid concerns that were not address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uring Meeting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fter limited discussion take the concerns offline and work togethe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When needed develop a joint resolution offline and bring to WG or to reflector as resolved or as a clearly defined disagreement 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 the reflecto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fter a round of email responses get on the phone or send a private email to interest group and work together to develop a joint resolution. Post that joint resolution to get additional input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EEE802.20 Albuquerque Plenary Ses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64696-6AB2-43C2-92C6-486FEB4DBD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00:14:37Z</dcterms:created>
  <dc:creator>Joe Cleveland</dc:creator>
  <dc:description/>
  <dc:language>en-US</dc:language>
  <cp:lastModifiedBy>Mark Klerer</cp:lastModifiedBy>
  <dcterms:modified xsi:type="dcterms:W3CDTF">2003-11-13T16:58:25Z</dcterms:modified>
  <cp:revision>29</cp:revision>
  <dc:subject/>
  <dc:title>INTERWORKING &amp; HANDOFF DEFINITIONS</dc:title>
</cp:coreProperties>
</file>