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261-BC1C-42A0-9294-817464AAE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F5C6-3912-45AF-87DA-031A76B6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7B2F-690F-4DA9-9301-01032F07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DD2-D8A6-480E-B3AF-FF779A44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6C1E-2CF8-4B3A-9111-D54498E1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B3E-2E08-43B6-8B0C-CB072031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389-4BC5-4367-8664-347889A8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4FA7-2FCB-4D5F-BC65-FA9E243E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0E9-EB29-4685-8C00-73E3D8C3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8C24-0563-42FC-AD07-DDDF298A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D53A-2A96-4581-826D-A426F4BA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62E-572D-44C8-8D4B-C0AE0168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7548-4A9E-4ED0-9A6E-2D48639A7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15228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3-06-2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C802.20-03/60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Achickinsky@northropgrumman.com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685800" y="206280"/>
          <a:ext cx="7772400" cy="66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6280"/>
                    <a:ext cx="777240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802.20 Ex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05920" cy="346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6095880"/>
            <a:ext cx="8610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EEE Standard for Information technology, Telecommunications and information exchange between systems, Local and metropolitan area networks: Specific requirements Part 2: Logical Link Contr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NSI/IEEE Std 802.2, 1998 Edition, “Introduction  to ANSI/IEEE Std 802.2, 1998 Edition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elco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09680" y="1676520"/>
          <a:ext cx="7925040" cy="493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76520"/>
                    <a:ext cx="792504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is Me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are applications and are not part of the 802.20 specification, but we need to have features to support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9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to T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is Me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are higher layer functions and are not part of the 802.20 specification, but we need to have features to support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setup, billing and teardown sign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This Me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are functions that are part of other 802 specifications and may dictate what is in the 802.20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to other 802 devices    802.1    Brid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802.1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distrib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802.1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Need to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propose a requirement, we need to decide at which OSI level the requirement re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requirement is not at the MAC or PHY layer, then what features are at the MAC or 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quirement can only exist at one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O’s OSI 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n Chickin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rop Grum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chickinsky@northropgrumman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703) 633-8300 x 85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703) 449-3400 (F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Was OSI Crea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1960’s computers were designed as in a single factory with it’s own programming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an IBM 360 model 75 was internally different than an IBM 360 model 1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 recognized that much of the communication code development was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one the code could be developed as a series of blocks with fixed interfaces, then we have a cost sav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s Network Architectur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N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NA def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Addressable Un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al Un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Services Control Point (Domain Controll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Flow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ss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h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national Standards Organization (IS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d to define Open Systems Interconnect (OSI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I defines 7 lay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o be outdone, DEC created DEC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NET has 5 lay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this all started there was ARPA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PANET has no layers, but has layered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RPA network is now called “The Interne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ng th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17800" y="6400800"/>
            <a:ext cx="4080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ource: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Computer Networks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, Andrew Tannenbaum, Prentice-Hall, 1981, Section 1.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90720" y="1660680"/>
          <a:ext cx="7503840" cy="49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60680"/>
                    <a:ext cx="750384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315200" cy="4948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0680" y="6400800"/>
            <a:ext cx="77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EEE Std 802-2001, IEEE Standards for Local and Metropolitan Area Networks: Overview and Architectu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IEEE Std 80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16:36:41Z</dcterms:created>
  <dc:creator>laptop1</dc:creator>
  <dc:description/>
  <dc:language>en-US</dc:language>
  <cp:lastModifiedBy>Mark Klerer</cp:lastModifiedBy>
  <dcterms:modified xsi:type="dcterms:W3CDTF">2003-07-16T06:44:01Z</dcterms:modified>
  <cp:revision>17</cp:revision>
  <dc:subject/>
  <dc:title>The ISO Model</dc:title>
</cp:coreProperties>
</file>