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601200" cy="77724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22160" y="723600"/>
            <a:ext cx="815688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9360" y="1731600"/>
            <a:ext cx="8161560" cy="2408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39360" y="4369320"/>
            <a:ext cx="8161560" cy="2408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22160" y="723600"/>
            <a:ext cx="815688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9360" y="1731600"/>
            <a:ext cx="3982680" cy="2408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1480" y="1731600"/>
            <a:ext cx="3982680" cy="2408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39360" y="4369320"/>
            <a:ext cx="3982680" cy="2408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21480" y="4369320"/>
            <a:ext cx="3982680" cy="2408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723600"/>
            <a:ext cx="815688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39360" y="1731600"/>
            <a:ext cx="2627640" cy="2408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8760" y="1731600"/>
            <a:ext cx="2627640" cy="2408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58160" y="1731600"/>
            <a:ext cx="2627640" cy="2408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39360" y="4369320"/>
            <a:ext cx="2627640" cy="2408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8760" y="4369320"/>
            <a:ext cx="2627640" cy="2408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58160" y="4369320"/>
            <a:ext cx="2627640" cy="2408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2160" y="723600"/>
            <a:ext cx="815688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39360" y="1731600"/>
            <a:ext cx="8161560" cy="50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2160" y="723600"/>
            <a:ext cx="815688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39360" y="1731600"/>
            <a:ext cx="8161560" cy="5049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2160" y="723600"/>
            <a:ext cx="815688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39360" y="1731600"/>
            <a:ext cx="3982680" cy="5049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21480" y="1731600"/>
            <a:ext cx="3982680" cy="5049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22160" y="723600"/>
            <a:ext cx="815688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22160" y="723600"/>
            <a:ext cx="8156880" cy="32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2160" y="723600"/>
            <a:ext cx="815688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39360" y="1731600"/>
            <a:ext cx="3982680" cy="2408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1480" y="1731600"/>
            <a:ext cx="3982680" cy="5049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39360" y="4369320"/>
            <a:ext cx="3982680" cy="2408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22160" y="723600"/>
            <a:ext cx="815688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39360" y="1731600"/>
            <a:ext cx="3982680" cy="5049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1480" y="1731600"/>
            <a:ext cx="3982680" cy="2408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21480" y="4369320"/>
            <a:ext cx="3982680" cy="2408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22160" y="723600"/>
            <a:ext cx="815688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9360" y="1731600"/>
            <a:ext cx="3982680" cy="2408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1480" y="1731600"/>
            <a:ext cx="3982680" cy="2408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39360" y="4369320"/>
            <a:ext cx="8161560" cy="24084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2160" y="723600"/>
            <a:ext cx="815688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360" y="1731600"/>
            <a:ext cx="8161560" cy="5049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189080" indent="-2383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3" marL="1663560" indent="-23652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4" marL="2139840" indent="-237960">
              <a:buClr>
                <a:srgbClr val="0802bc"/>
              </a:buClr>
              <a:buFont typeface="Arial"/>
              <a:buChar char="»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5" marL="2139840" indent="-237960">
              <a:buClr>
                <a:srgbClr val="000000"/>
              </a:buClr>
              <a:buFont typeface="Arial"/>
              <a:buChar char="»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6" marL="2139840" indent="-237960">
              <a:buClr>
                <a:srgbClr val="000000"/>
              </a:buClr>
              <a:buFont typeface="Arial"/>
              <a:buChar char="»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36560" y="1320840"/>
            <a:ext cx="8115480" cy="0"/>
          </a:xfrm>
          <a:prstGeom prst="line">
            <a:avLst/>
          </a:prstGeom>
          <a:ln w="50760">
            <a:solidFill>
              <a:srgbClr val="0802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36560" y="1384200"/>
            <a:ext cx="8115480" cy="0"/>
          </a:xfrm>
          <a:prstGeom prst="line">
            <a:avLst/>
          </a:prstGeom>
          <a:ln w="507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" name=""/>
          <p:cNvGraphicFramePr/>
          <p:nvPr/>
        </p:nvGraphicFramePr>
        <p:xfrm>
          <a:off x="1790640" y="368280"/>
          <a:ext cx="6273720" cy="70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0640" y="368280"/>
                    <a:ext cx="6273720" cy="70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" name=""/>
          <p:cNvSpPr/>
          <p:nvPr/>
        </p:nvSpPr>
        <p:spPr>
          <a:xfrm>
            <a:off x="7683480" y="6732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EEE C802.20-03/65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560" y="2324160"/>
            <a:ext cx="8229600" cy="1295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19191"/>
            </a:outerShdw>
          </a:effectLst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4000" spc="-1" strike="noStrike">
                <a:solidFill>
                  <a:srgbClr val="0802bc"/>
                </a:solidFill>
                <a:latin typeface="Arial"/>
              </a:rPr>
              <a:t>Market Requirements</a:t>
            </a:r>
            <a:br>
              <a:rPr sz="4000"/>
            </a:br>
            <a:r>
              <a:rPr b="1" lang="en-US" sz="4000" spc="-1" strike="noStrike">
                <a:solidFill>
                  <a:srgbClr val="0802bc"/>
                </a:solidFill>
                <a:latin typeface="Arial"/>
              </a:rPr>
              <a:t>for IEEE 802.20</a:t>
            </a: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44240" y="3796920"/>
            <a:ext cx="6707160" cy="198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marL="357120"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July 2003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James F. Mollenauer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Technical Strategy Associates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Joseph R. Cleveland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Samsung Telecommunications America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Paul Odlyzko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Motorola Inc.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22160" y="723600"/>
            <a:ext cx="815688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The Most Effective Requirements...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39360" y="1731600"/>
            <a:ext cx="8161560" cy="5049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35712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.Are simply stated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Emperor Nero, to his banquet entertainers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Astonish me”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President Kennedy, to NASA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802bc"/>
                </a:solidFill>
                <a:latin typeface="Arial"/>
              </a:rPr>
              <a:t>A man on the moon by the end of the decade”</a:t>
            </a:r>
            <a:endParaRPr b="1" lang="en-US" sz="2400" spc="-1" strike="noStrike">
              <a:solidFill>
                <a:srgbClr val="0802b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22160" y="723600"/>
            <a:ext cx="815688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Goal for 802.20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39360" y="1731600"/>
            <a:ext cx="8161560" cy="5049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357120" indent="0">
              <a:lnSpc>
                <a:spcPct val="13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To be the technology of choice for mobile data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lnSpc>
                <a:spcPct val="130000"/>
              </a:lnSpc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2" marL="1189080" indent="0">
              <a:lnSpc>
                <a:spcPct val="130000"/>
              </a:lnSpc>
              <a:buNone/>
              <a:tabLst>
                <a:tab algn="l" pos="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800" spc="-1" strike="noStrike">
                <a:solidFill>
                  <a:srgbClr val="0802b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802bc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802bc"/>
                </a:solidFill>
                <a:latin typeface="Arial"/>
              </a:rPr>
              <a:t>to achieve this, we must:</a:t>
            </a:r>
            <a:endParaRPr b="0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lnSpc>
                <a:spcPct val="130000"/>
              </a:lnSpc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lnSpc>
                <a:spcPct val="130000"/>
              </a:lnSpc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Go beyond what 3G or 3G enhanced can do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lnSpc>
                <a:spcPct val="130000"/>
              </a:lnSpc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800" spc="-1" strike="noStrike">
                <a:solidFill>
                  <a:srgbClr val="0802bc"/>
                </a:solidFill>
                <a:latin typeface="Arial"/>
              </a:rPr>
              <a:t>Higher in data rate</a:t>
            </a:r>
            <a:endParaRPr b="0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lnSpc>
                <a:spcPct val="130000"/>
              </a:lnSpc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800" spc="-1" strike="noStrike">
                <a:solidFill>
                  <a:srgbClr val="0802bc"/>
                </a:solidFill>
                <a:latin typeface="Arial"/>
              </a:rPr>
              <a:t>Better in dealing with high-speed mobility</a:t>
            </a:r>
            <a:endParaRPr b="0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lnSpc>
                <a:spcPct val="130000"/>
              </a:lnSpc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800" spc="-1" strike="noStrike">
                <a:solidFill>
                  <a:srgbClr val="0802bc"/>
                </a:solidFill>
                <a:latin typeface="Arial"/>
              </a:rPr>
              <a:t>Simpler in interfacing with IP land-line networks</a:t>
            </a:r>
            <a:endParaRPr b="0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lnSpc>
                <a:spcPct val="130000"/>
              </a:lnSpc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800" spc="-1" strike="noStrike">
                <a:solidFill>
                  <a:srgbClr val="0802bc"/>
                </a:solidFill>
                <a:latin typeface="Arial"/>
              </a:rPr>
              <a:t>Faster in handoff</a:t>
            </a:r>
            <a:endParaRPr b="0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0">
              <a:lnSpc>
                <a:spcPct val="130000"/>
              </a:lnSpc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lnSpc>
                <a:spcPct val="130000"/>
              </a:lnSpc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Also, be better than 802.16e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0">
              <a:lnSpc>
                <a:spcPct val="130000"/>
              </a:lnSpc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lnSpc>
                <a:spcPct val="13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Otherwise, why bother?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39360" y="1731600"/>
            <a:ext cx="8364600" cy="5049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357120" indent="-3571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Assuming that our next-generation system will be better than the competition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800" spc="-1" strike="noStrike">
                <a:solidFill>
                  <a:srgbClr val="0802bc"/>
                </a:solidFill>
                <a:latin typeface="Arial"/>
              </a:rPr>
              <a:t>Just because it’s better than their last one</a:t>
            </a:r>
            <a:endParaRPr b="0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800" spc="-1" strike="noStrike">
                <a:solidFill>
                  <a:srgbClr val="0802bc"/>
                </a:solidFill>
                <a:latin typeface="Arial"/>
              </a:rPr>
              <a:t>They are working on their next generation, too</a:t>
            </a:r>
            <a:endParaRPr b="0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-357120">
              <a:buClr>
                <a:srgbClr val="99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To succeed, we need to be have higher throughput than existing systems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-29700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800" spc="-1" strike="noStrike">
                <a:solidFill>
                  <a:srgbClr val="0802bc"/>
                </a:solidFill>
                <a:latin typeface="Arial"/>
              </a:rPr>
              <a:t>And higher than their next (enhanced) version</a:t>
            </a:r>
            <a:endParaRPr b="0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712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7328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800" spc="-1" strike="noStrike">
              <a:solidFill>
                <a:srgbClr val="0802b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93760" y="3479760"/>
            <a:ext cx="6743880" cy="642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TM vs. Ethernet: 25 &amp; 155 Mbps vs. 10 Mbps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ernet moved to 100 Mbps and wiped out premises 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722160" y="723600"/>
            <a:ext cx="815688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The Classic Mistak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723600"/>
            <a:ext cx="815688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The Current State of the Ar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9720" y="1731600"/>
            <a:ext cx="8105760" cy="6685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/>
          </a:bodyPr>
          <a:p>
            <a:pPr marL="35712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0802bc"/>
                </a:solidFill>
                <a:latin typeface="Arial"/>
              </a:rPr>
              <a:t>We need to beat these numbers by a significant margin:</a:t>
            </a:r>
            <a:endParaRPr b="1" lang="en-US" sz="1600" spc="-1" strike="noStrike">
              <a:solidFill>
                <a:srgbClr val="0802bc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449360" y="2305080"/>
          <a:ext cx="6340680" cy="443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9360" y="2305080"/>
                    <a:ext cx="6340680" cy="44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22160" y="723600"/>
            <a:ext cx="815688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What is our Sustainable Technical Edge?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39360" y="1731600"/>
            <a:ext cx="8161560" cy="5049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 fontScale="99000"/>
          </a:bodyPr>
          <a:p>
            <a:pPr marL="353520" indent="-3535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Packets?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65360" indent="-29376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800" spc="-1" strike="noStrike">
                <a:solidFill>
                  <a:srgbClr val="0802bc"/>
                </a:solidFill>
                <a:latin typeface="Arial"/>
              </a:rPr>
              <a:t>Most new systems use packets</a:t>
            </a:r>
            <a:endParaRPr b="0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3520" indent="-3535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More complex modulation ?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65360" indent="-29376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800" spc="-1" strike="noStrike">
                <a:solidFill>
                  <a:srgbClr val="0802bc"/>
                </a:solidFill>
                <a:latin typeface="Arial"/>
              </a:rPr>
              <a:t>All current systems have discovered the laws of physics</a:t>
            </a:r>
            <a:endParaRPr b="0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3520" indent="-3535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CDMA?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65360" indent="-29376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800" spc="-1" strike="noStrike">
                <a:solidFill>
                  <a:srgbClr val="0802bc"/>
                </a:solidFill>
                <a:latin typeface="Arial"/>
              </a:rPr>
              <a:t>2G, 2.5G, and 3G have CDMA</a:t>
            </a:r>
            <a:endParaRPr b="0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3520" indent="-3535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OFDM?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65360" indent="-29376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800" spc="-1" strike="noStrike">
                <a:solidFill>
                  <a:srgbClr val="0802bc"/>
                </a:solidFill>
                <a:latin typeface="Arial"/>
              </a:rPr>
              <a:t>802.16a has that</a:t>
            </a:r>
            <a:endParaRPr b="0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3520" indent="-3535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Narrow channels to fit existing allocations?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65360" indent="-29376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800" spc="-1" strike="noStrike">
                <a:solidFill>
                  <a:srgbClr val="0802bc"/>
                </a:solidFill>
                <a:latin typeface="Arial"/>
              </a:rPr>
              <a:t>New spectrum is unlikely to require narrow channels</a:t>
            </a:r>
            <a:endParaRPr b="0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65360" indent="0">
              <a:lnSpc>
                <a:spcPct val="120000"/>
              </a:lnSpc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3520" indent="-3535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Maybe it’s complex antennas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65360" indent="-29376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800" spc="-1" strike="noStrike">
                <a:solidFill>
                  <a:srgbClr val="0802bc"/>
                </a:solidFill>
                <a:latin typeface="Arial"/>
              </a:rPr>
              <a:t>802.16 and even 802.11 are thinking about smart antennas</a:t>
            </a:r>
            <a:endParaRPr b="0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3520" indent="-3535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Maybe it’s our simple IP-based protocol stack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65360" indent="-29376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800" spc="-1" strike="noStrike">
                <a:solidFill>
                  <a:srgbClr val="0802bc"/>
                </a:solidFill>
                <a:latin typeface="Arial"/>
              </a:rPr>
              <a:t>Nothing prevents 802.16 from using the same stack</a:t>
            </a:r>
            <a:endParaRPr b="0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6536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3520"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Bottom line: if there is no single “killer” advantage, then we have to tune our system better.  The devil is in the details.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6536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76536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5352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22160" y="723600"/>
            <a:ext cx="8156880" cy="7110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The Tools We Hav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39720" y="1731600"/>
            <a:ext cx="8415360" cy="5049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rmAutofit fontScale="88000"/>
          </a:bodyPr>
          <a:p>
            <a:pPr marL="313920" indent="-3139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Simple protocol stack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680400" indent="-26136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800" spc="-1" strike="noStrike">
                <a:solidFill>
                  <a:srgbClr val="0802bc"/>
                </a:solidFill>
                <a:latin typeface="Arial"/>
              </a:rPr>
              <a:t>Conformance to normal data practice</a:t>
            </a:r>
            <a:endParaRPr b="0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680400" indent="-26136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800" spc="-1" strike="noStrike">
                <a:solidFill>
                  <a:srgbClr val="0802bc"/>
                </a:solidFill>
                <a:latin typeface="Arial"/>
              </a:rPr>
              <a:t>Voice and video support via QoS scheduling</a:t>
            </a:r>
            <a:endParaRPr b="0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680400" indent="0">
              <a:lnSpc>
                <a:spcPct val="70000"/>
              </a:lnSpc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13920" indent="-3139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Smart antennas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680400" indent="-26136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800" spc="-1" strike="noStrike">
                <a:solidFill>
                  <a:srgbClr val="0802bc"/>
                </a:solidFill>
                <a:latin typeface="Arial"/>
              </a:rPr>
              <a:t>Great improvements in rate are possible</a:t>
            </a:r>
            <a:endParaRPr b="0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680400" indent="-26136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800" spc="-1" strike="noStrike">
                <a:solidFill>
                  <a:srgbClr val="0802bc"/>
                </a:solidFill>
                <a:latin typeface="Arial"/>
              </a:rPr>
              <a:t>But the competition can add this to existing standards</a:t>
            </a:r>
            <a:endParaRPr b="0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680400" indent="0">
              <a:lnSpc>
                <a:spcPct val="60000"/>
              </a:lnSpc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13920" indent="-3139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Targeted primarily at mobile users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680400" indent="-26136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800" spc="-1" strike="noStrike">
                <a:solidFill>
                  <a:srgbClr val="0802bc"/>
                </a:solidFill>
                <a:latin typeface="Arial"/>
              </a:rPr>
              <a:t>Not an add-on</a:t>
            </a:r>
            <a:endParaRPr b="0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680400" indent="-26136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800" spc="-1" strike="noStrike">
                <a:solidFill>
                  <a:srgbClr val="0802bc"/>
                </a:solidFill>
                <a:latin typeface="Arial"/>
              </a:rPr>
              <a:t>Power consumption considered from the start</a:t>
            </a:r>
            <a:endParaRPr b="0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680400" indent="0">
              <a:lnSpc>
                <a:spcPct val="50000"/>
              </a:lnSpc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13920" indent="-3139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Consistency across different channel sizes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680400" indent="-26136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800" spc="-1" strike="noStrike">
                <a:solidFill>
                  <a:srgbClr val="0802bc"/>
                </a:solidFill>
                <a:latin typeface="Arial"/>
              </a:rPr>
              <a:t>Easy roaming for the user and system migration for the operator</a:t>
            </a:r>
            <a:endParaRPr b="0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680400" indent="0">
              <a:lnSpc>
                <a:spcPct val="60000"/>
              </a:lnSpc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800" spc="-1" strike="noStrike">
              <a:solidFill>
                <a:srgbClr val="0802bc"/>
              </a:solidFill>
              <a:latin typeface="Arial"/>
            </a:endParaRPr>
          </a:p>
          <a:p>
            <a:pPr marL="313920" indent="-3139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Adaptive modulation and coding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680400" indent="-26136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800" spc="-1" strike="noStrike">
                <a:solidFill>
                  <a:srgbClr val="0802bc"/>
                </a:solidFill>
                <a:latin typeface="Arial"/>
              </a:rPr>
              <a:t>Optimize for varying signal strength and different multipath environments</a:t>
            </a:r>
            <a:endParaRPr b="0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680400" indent="0">
              <a:lnSpc>
                <a:spcPct val="60000"/>
              </a:lnSpc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600" spc="-1" strike="noStrike">
              <a:solidFill>
                <a:srgbClr val="0802bc"/>
              </a:solidFill>
              <a:latin typeface="Arial"/>
            </a:endParaRPr>
          </a:p>
          <a:p>
            <a:pPr marL="313920" indent="-313920">
              <a:buClr>
                <a:srgbClr val="0802bc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802bc"/>
                </a:solidFill>
                <a:latin typeface="Arial"/>
              </a:rPr>
              <a:t>Smart scheduling</a:t>
            </a:r>
            <a:endParaRPr b="1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680400" indent="-26136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800" spc="-1" strike="noStrike">
                <a:solidFill>
                  <a:srgbClr val="0802bc"/>
                </a:solidFill>
                <a:latin typeface="Arial"/>
              </a:rPr>
              <a:t>Predict user’s nulls and avoid them</a:t>
            </a:r>
            <a:endParaRPr b="0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680400" indent="-261360">
              <a:buClr>
                <a:srgbClr val="0802bc"/>
              </a:buClr>
              <a:buFont typeface="Arial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800" spc="-1" strike="noStrike">
                <a:solidFill>
                  <a:srgbClr val="0802bc"/>
                </a:solidFill>
                <a:latin typeface="Arial"/>
              </a:rPr>
              <a:t>Identify user clustering</a:t>
            </a:r>
            <a:endParaRPr b="0" lang="en-US" sz="1800" spc="-1" strike="noStrike">
              <a:solidFill>
                <a:srgbClr val="0802bc"/>
              </a:solidFill>
              <a:latin typeface="Arial"/>
            </a:endParaRPr>
          </a:p>
          <a:p>
            <a:pPr lvl="1" marL="68040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600" spc="-1" strike="noStrike">
              <a:solidFill>
                <a:srgbClr val="0802bc"/>
              </a:solidFill>
              <a:latin typeface="Arial"/>
            </a:endParaRPr>
          </a:p>
          <a:p>
            <a:pPr lvl="1" marL="680400" indent="0"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1600" spc="-1" strike="noStrike">
              <a:solidFill>
                <a:srgbClr val="0802b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4T23:04:18Z</dcterms:created>
  <dc:creator>Jim Mollenauer</dc:creator>
  <dc:description/>
  <dc:language>en-US</dc:language>
  <cp:lastModifiedBy>Mark Klerer</cp:lastModifiedBy>
  <cp:lastPrinted>1998-07-15T18:09:34Z</cp:lastPrinted>
  <dcterms:modified xsi:type="dcterms:W3CDTF">2003-07-22T23:16:09Z</dcterms:modified>
  <cp:revision>84</cp:revision>
  <dc:subject/>
  <dc:title>Introduction to ATM</dc:title>
</cp:coreProperties>
</file>