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A856-EBD8-4C10-9C81-3935E97F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2B1-12E1-4AC5-B9CF-8F214D6E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6862-62DA-42AD-8152-530D5D53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B4E-F891-4D94-8B01-F8C600DD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ADD-EBE9-4E8E-A34C-B747DB71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0268-93A9-4E10-B735-2C03EE3E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5CE-5DF5-443F-9233-56DE4B6F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86C-0CE7-4D35-8BF5-92556328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C25-7DD2-461D-8028-D17E387B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9B5-CCE3-4F8D-AEA9-E0FFD49F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F86-2B61-48F7-BA65-C189F620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F38-E0DD-4C73-A79C-BC751DE0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86E2-4102-46C2-BDB5-6A5E8FB38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7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oexistence Studies in 802.20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571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EEE 802.20 Meeting #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an Francisco, July 2003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za Aref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za.arefi@ieee.or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"/>
          <p:cNvSpPr/>
          <p:nvPr/>
        </p:nvSpPr>
        <p:spPr>
          <a:xfrm>
            <a:off x="7024680" y="21744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EE C802.20-03/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dentify bands of interes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ick a few “primary candidate” band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form simulations using typical equipment specification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equires feedback from the WG on parameters such as TX power, RX threshold, ACS, ACLR, etc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f service rules are not adequate, then </a:t>
            </a:r>
            <a:r>
              <a:rPr b="0" lang="en-US" sz="2400" spc="-1" strike="noStrike">
                <a:solidFill>
                  <a:srgbClr val="3333cc"/>
                </a:solidFill>
                <a:latin typeface="Book Antiqua"/>
              </a:rPr>
              <a:t>recommend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new guidelines through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r a given band, determine “safe” geographical and/or spectral distance between the two potentially interfering system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afe” needs to be quantified, example, I/N= - 6 dB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Proposa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m an ad hoc group to work on a Coexistence PA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nalize the PAR by September meeting and submit to SEC for approval in Novemb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Definition of Coexistence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802.15.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ability of one system to perform a task in a given shared environment where other systems may or may not be using the same set of rules (doc. 99-134r2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Quite general but was written in dot15 contex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802.16.2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 definition of coexistence is provid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802.19 TA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ability of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one system to perform a task in a given shared environment where other systems have an ability to perform their tasks and may or may not be using the same set of rules (doc. COEX-02020r1, Sydney meeting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TU-R usually refers to it as “Sharing”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Coexistence Studi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802.19 addresses unlicensed bands coexistence within 802 wireless projects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existence with geographical and/or spectral neighbors is key to successful 802.20 deployments in licensed band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bjective is to create guidelines for preventing from harmful interference by determining levels of permissible, or acceptable, interferen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erference environment varies with deployment scenario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802.20 Deployment Scenario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 mandates licensed spectrum below 3.5 GHz allocated to the Mobile Servi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ployments under nation-wide licenses are likely to have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ultiple operators in the same service are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jacent service areas (domestic as well as international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ployments in or adjacent to bands already used for commercial wide area services are also likel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 shared environmen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-channel in adjacent areas, or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jacent channel in same area, bu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 co-channel in same are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Specific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rom regulatory point-of-view, licensed co-channel operation in the same geographical area would not be allowe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ossibiliti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-channel across service boundary: geographical neighbor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djacent channel within same service/geographic area: spectral neighbor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eighbor could be non-802.20 or another 802.20 of a different duplex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t could be assumed that 802.20 geographical and spectral neighbors of the same duplex have much easier time coexisting with each other with reasonable coordina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frame synchronization, power at service boundary, etc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Spectral Neighbors, Same Area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802.20 systems may need to coordinate with spectral neighbo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e number and the nature of spectral neighbors TDD and FDD systems may need to coordinate with are not necessarily the sa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935000" y="2498760"/>
            <a:ext cx="5652720" cy="777960"/>
            <a:chOff x="1935000" y="2498760"/>
            <a:chExt cx="5652720" cy="777960"/>
          </a:xfrm>
        </p:grpSpPr>
        <p:sp>
          <p:nvSpPr>
            <p:cNvPr id="55" name=""/>
            <p:cNvSpPr/>
            <p:nvPr/>
          </p:nvSpPr>
          <p:spPr>
            <a:xfrm>
              <a:off x="3916440" y="2557440"/>
              <a:ext cx="1515960" cy="65592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vantGarde"/>
                </a:rPr>
                <a:t>802.20 T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935000" y="2498760"/>
              <a:ext cx="1981080" cy="763560"/>
              <a:chOff x="1935000" y="2498760"/>
              <a:chExt cx="1981080" cy="763560"/>
            </a:xfrm>
          </p:grpSpPr>
          <p:sp>
            <p:nvSpPr>
              <p:cNvPr id="57" name=""/>
              <p:cNvSpPr/>
              <p:nvPr/>
            </p:nvSpPr>
            <p:spPr>
              <a:xfrm>
                <a:off x="1955520" y="2555640"/>
                <a:ext cx="1960560" cy="6685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</a:rPr>
                  <a:t>Lower neighb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35000" y="2498760"/>
                <a:ext cx="218880" cy="763560"/>
              </a:xfrm>
              <a:custGeom>
                <a:avLst/>
                <a:gdLst/>
                <a:ahLst/>
                <a:rect l="l" t="t" r="r" b="b"/>
                <a:pathLst>
                  <a:path w="138" h="457">
                    <a:moveTo>
                      <a:pt x="138" y="27"/>
                    </a:moveTo>
                    <a:cubicBezTo>
                      <a:pt x="132" y="44"/>
                      <a:pt x="123" y="59"/>
                      <a:pt x="108" y="69"/>
                    </a:cubicBezTo>
                    <a:cubicBezTo>
                      <a:pt x="96" y="86"/>
                      <a:pt x="85" y="103"/>
                      <a:pt x="78" y="123"/>
                    </a:cubicBezTo>
                    <a:cubicBezTo>
                      <a:pt x="82" y="147"/>
                      <a:pt x="79" y="135"/>
                      <a:pt x="87" y="159"/>
                    </a:cubicBezTo>
                    <a:lnTo>
                      <a:pt x="99" y="177"/>
                    </a:lnTo>
                    <a:cubicBezTo>
                      <a:pt x="99" y="177"/>
                      <a:pt x="108" y="204"/>
                      <a:pt x="108" y="204"/>
                    </a:cubicBezTo>
                    <a:cubicBezTo>
                      <a:pt x="109" y="207"/>
                      <a:pt x="111" y="213"/>
                      <a:pt x="111" y="213"/>
                    </a:cubicBezTo>
                    <a:cubicBezTo>
                      <a:pt x="109" y="237"/>
                      <a:pt x="101" y="278"/>
                      <a:pt x="87" y="300"/>
                    </a:cubicBezTo>
                    <a:cubicBezTo>
                      <a:pt x="77" y="314"/>
                      <a:pt x="82" y="306"/>
                      <a:pt x="75" y="327"/>
                    </a:cubicBezTo>
                    <a:cubicBezTo>
                      <a:pt x="74" y="330"/>
                      <a:pt x="72" y="336"/>
                      <a:pt x="72" y="336"/>
                    </a:cubicBezTo>
                    <a:cubicBezTo>
                      <a:pt x="74" y="359"/>
                      <a:pt x="73" y="364"/>
                      <a:pt x="78" y="381"/>
                    </a:cubicBezTo>
                    <a:cubicBezTo>
                      <a:pt x="80" y="387"/>
                      <a:pt x="84" y="399"/>
                      <a:pt x="84" y="399"/>
                    </a:cubicBezTo>
                    <a:cubicBezTo>
                      <a:pt x="84" y="402"/>
                      <a:pt x="76" y="457"/>
                      <a:pt x="66" y="447"/>
                    </a:cubicBezTo>
                    <a:lnTo>
                      <a:pt x="6" y="444"/>
                    </a:lnTo>
                    <a:lnTo>
                      <a:pt x="0" y="0"/>
                    </a:lnTo>
                    <a:lnTo>
                      <a:pt x="13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432400" y="2513160"/>
              <a:ext cx="2155320" cy="763560"/>
              <a:chOff x="5432400" y="2513160"/>
              <a:chExt cx="2155320" cy="763560"/>
            </a:xfrm>
          </p:grpSpPr>
          <p:sp>
            <p:nvSpPr>
              <p:cNvPr id="60" name=""/>
              <p:cNvSpPr/>
              <p:nvPr/>
            </p:nvSpPr>
            <p:spPr>
              <a:xfrm>
                <a:off x="5432400" y="2559240"/>
                <a:ext cx="2112840" cy="655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</a:rPr>
                  <a:t>Upper neighb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7368840" y="2513160"/>
                <a:ext cx="218880" cy="763560"/>
              </a:xfrm>
              <a:custGeom>
                <a:avLst/>
                <a:gdLst/>
                <a:ahLst/>
                <a:rect l="l" t="t" r="r" b="b"/>
                <a:pathLst>
                  <a:path w="138" h="457">
                    <a:moveTo>
                      <a:pt x="138" y="27"/>
                    </a:moveTo>
                    <a:cubicBezTo>
                      <a:pt x="132" y="44"/>
                      <a:pt x="123" y="59"/>
                      <a:pt x="108" y="69"/>
                    </a:cubicBezTo>
                    <a:cubicBezTo>
                      <a:pt x="96" y="86"/>
                      <a:pt x="85" y="103"/>
                      <a:pt x="78" y="123"/>
                    </a:cubicBezTo>
                    <a:cubicBezTo>
                      <a:pt x="82" y="147"/>
                      <a:pt x="79" y="135"/>
                      <a:pt x="87" y="159"/>
                    </a:cubicBezTo>
                    <a:lnTo>
                      <a:pt x="99" y="177"/>
                    </a:lnTo>
                    <a:cubicBezTo>
                      <a:pt x="99" y="177"/>
                      <a:pt x="108" y="204"/>
                      <a:pt x="108" y="204"/>
                    </a:cubicBezTo>
                    <a:cubicBezTo>
                      <a:pt x="109" y="207"/>
                      <a:pt x="111" y="213"/>
                      <a:pt x="111" y="213"/>
                    </a:cubicBezTo>
                    <a:cubicBezTo>
                      <a:pt x="109" y="237"/>
                      <a:pt x="101" y="278"/>
                      <a:pt x="87" y="300"/>
                    </a:cubicBezTo>
                    <a:cubicBezTo>
                      <a:pt x="77" y="314"/>
                      <a:pt x="82" y="306"/>
                      <a:pt x="75" y="327"/>
                    </a:cubicBezTo>
                    <a:cubicBezTo>
                      <a:pt x="74" y="330"/>
                      <a:pt x="72" y="336"/>
                      <a:pt x="72" y="336"/>
                    </a:cubicBezTo>
                    <a:cubicBezTo>
                      <a:pt x="74" y="359"/>
                      <a:pt x="73" y="364"/>
                      <a:pt x="78" y="381"/>
                    </a:cubicBezTo>
                    <a:cubicBezTo>
                      <a:pt x="80" y="387"/>
                      <a:pt x="84" y="399"/>
                      <a:pt x="84" y="399"/>
                    </a:cubicBezTo>
                    <a:cubicBezTo>
                      <a:pt x="84" y="402"/>
                      <a:pt x="76" y="457"/>
                      <a:pt x="66" y="447"/>
                    </a:cubicBezTo>
                    <a:lnTo>
                      <a:pt x="6" y="444"/>
                    </a:lnTo>
                    <a:lnTo>
                      <a:pt x="0" y="0"/>
                    </a:lnTo>
                    <a:lnTo>
                      <a:pt x="13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" name=""/>
          <p:cNvGrpSpPr/>
          <p:nvPr/>
        </p:nvGrpSpPr>
        <p:grpSpPr>
          <a:xfrm>
            <a:off x="403200" y="3535200"/>
            <a:ext cx="8740440" cy="817560"/>
            <a:chOff x="403200" y="3535200"/>
            <a:chExt cx="8740440" cy="817560"/>
          </a:xfrm>
        </p:grpSpPr>
        <p:sp>
          <p:nvSpPr>
            <p:cNvPr id="63" name=""/>
            <p:cNvSpPr/>
            <p:nvPr/>
          </p:nvSpPr>
          <p:spPr>
            <a:xfrm>
              <a:off x="2246400" y="3603240"/>
              <a:ext cx="1515960" cy="655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vantGarde"/>
                </a:rPr>
                <a:t>802.20 F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51440" y="3603240"/>
              <a:ext cx="1515960" cy="65556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vantGarde"/>
                </a:rPr>
                <a:t>802.20 F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51200" y="3595320"/>
              <a:ext cx="2100240" cy="6685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56240" y="3543120"/>
              <a:ext cx="242640" cy="809640"/>
            </a:xfrm>
            <a:custGeom>
              <a:avLst/>
              <a:gdLst/>
              <a:ahLst/>
              <a:rect l="l" t="t" r="r" b="b"/>
              <a:pathLst>
                <a:path w="231" h="720">
                  <a:moveTo>
                    <a:pt x="231" y="0"/>
                  </a:moveTo>
                  <a:lnTo>
                    <a:pt x="107" y="0"/>
                  </a:lnTo>
                  <a:cubicBezTo>
                    <a:pt x="99" y="21"/>
                    <a:pt x="91" y="29"/>
                    <a:pt x="70" y="42"/>
                  </a:cubicBezTo>
                  <a:cubicBezTo>
                    <a:pt x="59" y="74"/>
                    <a:pt x="39" y="104"/>
                    <a:pt x="23" y="135"/>
                  </a:cubicBezTo>
                  <a:cubicBezTo>
                    <a:pt x="18" y="145"/>
                    <a:pt x="16" y="156"/>
                    <a:pt x="12" y="166"/>
                  </a:cubicBezTo>
                  <a:cubicBezTo>
                    <a:pt x="10" y="171"/>
                    <a:pt x="7" y="182"/>
                    <a:pt x="7" y="182"/>
                  </a:cubicBezTo>
                  <a:cubicBezTo>
                    <a:pt x="0" y="272"/>
                    <a:pt x="12" y="299"/>
                    <a:pt x="42" y="379"/>
                  </a:cubicBezTo>
                  <a:cubicBezTo>
                    <a:pt x="50" y="402"/>
                    <a:pt x="65" y="421"/>
                    <a:pt x="77" y="441"/>
                  </a:cubicBezTo>
                  <a:cubicBezTo>
                    <a:pt x="84" y="452"/>
                    <a:pt x="89" y="473"/>
                    <a:pt x="89" y="473"/>
                  </a:cubicBezTo>
                  <a:cubicBezTo>
                    <a:pt x="81" y="568"/>
                    <a:pt x="50" y="621"/>
                    <a:pt x="18" y="706"/>
                  </a:cubicBezTo>
                  <a:cubicBezTo>
                    <a:pt x="30" y="710"/>
                    <a:pt x="42" y="720"/>
                    <a:pt x="54" y="717"/>
                  </a:cubicBezTo>
                  <a:cubicBezTo>
                    <a:pt x="65" y="713"/>
                    <a:pt x="77" y="710"/>
                    <a:pt x="89" y="706"/>
                  </a:cubicBezTo>
                  <a:cubicBezTo>
                    <a:pt x="95" y="704"/>
                    <a:pt x="107" y="701"/>
                    <a:pt x="107" y="701"/>
                  </a:cubicBezTo>
                  <a:cubicBezTo>
                    <a:pt x="119" y="704"/>
                    <a:pt x="131" y="715"/>
                    <a:pt x="142" y="711"/>
                  </a:cubicBezTo>
                  <a:cubicBezTo>
                    <a:pt x="168" y="706"/>
                    <a:pt x="174" y="706"/>
                    <a:pt x="161" y="706"/>
                  </a:cubicBezTo>
                  <a:cubicBezTo>
                    <a:pt x="150" y="678"/>
                    <a:pt x="136" y="687"/>
                    <a:pt x="159" y="673"/>
                  </a:cubicBezTo>
                  <a:cubicBezTo>
                    <a:pt x="175" y="630"/>
                    <a:pt x="152" y="641"/>
                    <a:pt x="183" y="601"/>
                  </a:cubicBezTo>
                  <a:cubicBezTo>
                    <a:pt x="191" y="592"/>
                    <a:pt x="180" y="586"/>
                    <a:pt x="204" y="556"/>
                  </a:cubicBezTo>
                  <a:cubicBezTo>
                    <a:pt x="201" y="507"/>
                    <a:pt x="228" y="459"/>
                    <a:pt x="224" y="410"/>
                  </a:cubicBezTo>
                  <a:cubicBezTo>
                    <a:pt x="223" y="393"/>
                    <a:pt x="202" y="360"/>
                    <a:pt x="195" y="346"/>
                  </a:cubicBezTo>
                  <a:cubicBezTo>
                    <a:pt x="171" y="301"/>
                    <a:pt x="175" y="282"/>
                    <a:pt x="157" y="235"/>
                  </a:cubicBezTo>
                  <a:cubicBezTo>
                    <a:pt x="164" y="173"/>
                    <a:pt x="174" y="121"/>
                    <a:pt x="196" y="62"/>
                  </a:cubicBezTo>
                  <a:cubicBezTo>
                    <a:pt x="204" y="42"/>
                    <a:pt x="223" y="23"/>
                    <a:pt x="23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9520" y="3762000"/>
              <a:ext cx="197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vantGarde"/>
                </a:rPr>
                <a:t>Middle neighbor(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7365960" y="3565080"/>
              <a:ext cx="1777680" cy="763560"/>
              <a:chOff x="7365960" y="3565080"/>
              <a:chExt cx="1777680" cy="763560"/>
            </a:xfrm>
          </p:grpSpPr>
          <p:sp>
            <p:nvSpPr>
              <p:cNvPr id="69" name=""/>
              <p:cNvSpPr/>
              <p:nvPr/>
            </p:nvSpPr>
            <p:spPr>
              <a:xfrm>
                <a:off x="7365960" y="3611160"/>
                <a:ext cx="1742760" cy="6555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</a:rPr>
                  <a:t>Upper neighb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8962920" y="3565080"/>
                <a:ext cx="180720" cy="763560"/>
              </a:xfrm>
              <a:custGeom>
                <a:avLst/>
                <a:gdLst/>
                <a:ahLst/>
                <a:rect l="l" t="t" r="r" b="b"/>
                <a:pathLst>
                  <a:path w="138" h="457">
                    <a:moveTo>
                      <a:pt x="138" y="27"/>
                    </a:moveTo>
                    <a:cubicBezTo>
                      <a:pt x="132" y="44"/>
                      <a:pt x="123" y="59"/>
                      <a:pt x="108" y="69"/>
                    </a:cubicBezTo>
                    <a:cubicBezTo>
                      <a:pt x="96" y="86"/>
                      <a:pt x="85" y="103"/>
                      <a:pt x="78" y="123"/>
                    </a:cubicBezTo>
                    <a:cubicBezTo>
                      <a:pt x="82" y="147"/>
                      <a:pt x="79" y="135"/>
                      <a:pt x="87" y="159"/>
                    </a:cubicBezTo>
                    <a:lnTo>
                      <a:pt x="99" y="177"/>
                    </a:lnTo>
                    <a:cubicBezTo>
                      <a:pt x="99" y="177"/>
                      <a:pt x="108" y="204"/>
                      <a:pt x="108" y="204"/>
                    </a:cubicBezTo>
                    <a:cubicBezTo>
                      <a:pt x="109" y="207"/>
                      <a:pt x="111" y="213"/>
                      <a:pt x="111" y="213"/>
                    </a:cubicBezTo>
                    <a:cubicBezTo>
                      <a:pt x="109" y="237"/>
                      <a:pt x="101" y="278"/>
                      <a:pt x="87" y="300"/>
                    </a:cubicBezTo>
                    <a:cubicBezTo>
                      <a:pt x="77" y="314"/>
                      <a:pt x="82" y="306"/>
                      <a:pt x="75" y="327"/>
                    </a:cubicBezTo>
                    <a:cubicBezTo>
                      <a:pt x="74" y="330"/>
                      <a:pt x="72" y="336"/>
                      <a:pt x="72" y="336"/>
                    </a:cubicBezTo>
                    <a:cubicBezTo>
                      <a:pt x="74" y="359"/>
                      <a:pt x="73" y="364"/>
                      <a:pt x="78" y="381"/>
                    </a:cubicBezTo>
                    <a:cubicBezTo>
                      <a:pt x="80" y="387"/>
                      <a:pt x="84" y="399"/>
                      <a:pt x="84" y="399"/>
                    </a:cubicBezTo>
                    <a:cubicBezTo>
                      <a:pt x="84" y="402"/>
                      <a:pt x="76" y="457"/>
                      <a:pt x="66" y="447"/>
                    </a:cubicBezTo>
                    <a:lnTo>
                      <a:pt x="6" y="444"/>
                    </a:lnTo>
                    <a:lnTo>
                      <a:pt x="0" y="0"/>
                    </a:lnTo>
                    <a:lnTo>
                      <a:pt x="13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03200" y="3535200"/>
              <a:ext cx="1847520" cy="763560"/>
              <a:chOff x="403200" y="3535200"/>
              <a:chExt cx="1847520" cy="763560"/>
            </a:xfrm>
          </p:grpSpPr>
          <p:sp>
            <p:nvSpPr>
              <p:cNvPr id="72" name=""/>
              <p:cNvSpPr/>
              <p:nvPr/>
            </p:nvSpPr>
            <p:spPr>
              <a:xfrm>
                <a:off x="422280" y="3592080"/>
                <a:ext cx="1828440" cy="66852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vantGarde"/>
                  </a:rPr>
                  <a:t>Lower neighbo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03200" y="3535200"/>
                <a:ext cx="204120" cy="763560"/>
              </a:xfrm>
              <a:custGeom>
                <a:avLst/>
                <a:gdLst/>
                <a:ahLst/>
                <a:rect l="l" t="t" r="r" b="b"/>
                <a:pathLst>
                  <a:path w="138" h="457">
                    <a:moveTo>
                      <a:pt x="138" y="27"/>
                    </a:moveTo>
                    <a:cubicBezTo>
                      <a:pt x="132" y="44"/>
                      <a:pt x="123" y="59"/>
                      <a:pt x="108" y="69"/>
                    </a:cubicBezTo>
                    <a:cubicBezTo>
                      <a:pt x="96" y="86"/>
                      <a:pt x="85" y="103"/>
                      <a:pt x="78" y="123"/>
                    </a:cubicBezTo>
                    <a:cubicBezTo>
                      <a:pt x="82" y="147"/>
                      <a:pt x="79" y="135"/>
                      <a:pt x="87" y="159"/>
                    </a:cubicBezTo>
                    <a:lnTo>
                      <a:pt x="99" y="177"/>
                    </a:lnTo>
                    <a:cubicBezTo>
                      <a:pt x="99" y="177"/>
                      <a:pt x="108" y="204"/>
                      <a:pt x="108" y="204"/>
                    </a:cubicBezTo>
                    <a:cubicBezTo>
                      <a:pt x="109" y="207"/>
                      <a:pt x="111" y="213"/>
                      <a:pt x="111" y="213"/>
                    </a:cubicBezTo>
                    <a:cubicBezTo>
                      <a:pt x="109" y="237"/>
                      <a:pt x="101" y="278"/>
                      <a:pt x="87" y="300"/>
                    </a:cubicBezTo>
                    <a:cubicBezTo>
                      <a:pt x="77" y="314"/>
                      <a:pt x="82" y="306"/>
                      <a:pt x="75" y="327"/>
                    </a:cubicBezTo>
                    <a:cubicBezTo>
                      <a:pt x="74" y="330"/>
                      <a:pt x="72" y="336"/>
                      <a:pt x="72" y="336"/>
                    </a:cubicBezTo>
                    <a:cubicBezTo>
                      <a:pt x="74" y="359"/>
                      <a:pt x="73" y="364"/>
                      <a:pt x="78" y="381"/>
                    </a:cubicBezTo>
                    <a:cubicBezTo>
                      <a:pt x="80" y="387"/>
                      <a:pt x="84" y="399"/>
                      <a:pt x="84" y="399"/>
                    </a:cubicBezTo>
                    <a:cubicBezTo>
                      <a:pt x="84" y="402"/>
                      <a:pt x="76" y="457"/>
                      <a:pt x="66" y="447"/>
                    </a:cubicBezTo>
                    <a:lnTo>
                      <a:pt x="6" y="444"/>
                    </a:lnTo>
                    <a:lnTo>
                      <a:pt x="0" y="0"/>
                    </a:lnTo>
                    <a:lnTo>
                      <a:pt x="138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Geographical Neighbors, Same Frequenc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rvice areas for spectrum currently licensed to the Mobile Service below 3.5 GHz typically don’t overlap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otection is typically through power limit at service boundary, which may or may not be sufficient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TDD-FDD case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afe distance needs to be determin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"/>
          <p:cNvSpPr/>
          <p:nvPr/>
        </p:nvSpPr>
        <p:spPr>
          <a:xfrm>
            <a:off x="5138640" y="4543560"/>
            <a:ext cx="362160" cy="363240"/>
          </a:xfrm>
          <a:prstGeom prst="ellipse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918560" y="4557600"/>
            <a:ext cx="361800" cy="363600"/>
          </a:xfrm>
          <a:prstGeom prst="ellipse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59880" y="60739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ice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8" idx="0"/>
            <a:endCxn id="80" idx="0"/>
          </p:cNvCxnSpPr>
          <p:nvPr/>
        </p:nvCxnSpPr>
        <p:spPr>
          <a:xfrm flipH="1" flipV="1" rot="5400000">
            <a:off x="6204600" y="5556600"/>
            <a:ext cx="367560" cy="667440"/>
          </a:xfrm>
          <a:prstGeom prst="curvedConnector5">
            <a:avLst>
              <a:gd name="adj1" fmla="val 51862"/>
              <a:gd name="adj2" fmla="val 49973"/>
              <a:gd name="adj3" fmla="val 5186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7686720" y="3728880"/>
            <a:ext cx="23760" cy="1800"/>
          </a:xfrm>
          <a:prstGeom prst="rect">
            <a:avLst/>
          </a:prstGeom>
          <a:solidFill>
            <a:srgbClr val="003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720" y="3718080"/>
            <a:ext cx="23760" cy="1440"/>
          </a:xfrm>
          <a:prstGeom prst="rect">
            <a:avLst/>
          </a:prstGeom>
          <a:solidFill>
            <a:srgbClr val="0035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818320" y="3602160"/>
            <a:ext cx="2041200" cy="2090160"/>
            <a:chOff x="5818320" y="3602160"/>
            <a:chExt cx="2041200" cy="2090160"/>
          </a:xfrm>
        </p:grpSpPr>
        <p:grpSp>
          <p:nvGrpSpPr>
            <p:cNvPr id="84" name=""/>
            <p:cNvGrpSpPr/>
            <p:nvPr/>
          </p:nvGrpSpPr>
          <p:grpSpPr>
            <a:xfrm>
              <a:off x="5818320" y="3602160"/>
              <a:ext cx="2041200" cy="2090160"/>
              <a:chOff x="5818320" y="3602160"/>
              <a:chExt cx="2041200" cy="2090160"/>
            </a:xfrm>
          </p:grpSpPr>
          <p:sp>
            <p:nvSpPr>
              <p:cNvPr id="80" name=""/>
              <p:cNvSpPr/>
              <p:nvPr/>
            </p:nvSpPr>
            <p:spPr>
              <a:xfrm>
                <a:off x="6663960" y="3602160"/>
                <a:ext cx="433440" cy="2090160"/>
              </a:xfrm>
              <a:custGeom>
                <a:avLst/>
                <a:gdLst/>
                <a:ahLst/>
                <a:rect l="l" t="t" r="r" b="b"/>
                <a:pathLst>
                  <a:path w="336" h="1335">
                    <a:moveTo>
                      <a:pt x="336" y="0"/>
                    </a:moveTo>
                    <a:cubicBezTo>
                      <a:pt x="194" y="121"/>
                      <a:pt x="52" y="242"/>
                      <a:pt x="26" y="411"/>
                    </a:cubicBezTo>
                    <a:cubicBezTo>
                      <a:pt x="0" y="580"/>
                      <a:pt x="178" y="861"/>
                      <a:pt x="181" y="1015"/>
                    </a:cubicBezTo>
                    <a:cubicBezTo>
                      <a:pt x="184" y="1169"/>
                      <a:pt x="114" y="1252"/>
                      <a:pt x="44" y="1335"/>
                    </a:cubicBez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909400" y="5000400"/>
                <a:ext cx="585000" cy="52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43760" y="4992120"/>
                <a:ext cx="815760" cy="632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" name=""/>
              <p:cNvGrpSpPr/>
              <p:nvPr/>
            </p:nvGrpSpPr>
            <p:grpSpPr>
              <a:xfrm>
                <a:off x="6094800" y="3808080"/>
                <a:ext cx="272520" cy="1016640"/>
                <a:chOff x="6094800" y="3808080"/>
                <a:chExt cx="272520" cy="101664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182280" y="3936600"/>
                  <a:ext cx="70200" cy="888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V="1">
                  <a:off x="6094800" y="3807720"/>
                  <a:ext cx="272520" cy="214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7322040" y="3816360"/>
                <a:ext cx="272880" cy="1016280"/>
                <a:chOff x="7322040" y="3816360"/>
                <a:chExt cx="272880" cy="10162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7409880" y="3944880"/>
                  <a:ext cx="70200" cy="8877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7322040" y="3816000"/>
                  <a:ext cx="272880" cy="214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 rot="4346400">
                <a:off x="6285600" y="4269960"/>
                <a:ext cx="1018440" cy="417600"/>
              </a:xfrm>
              <a:custGeom>
                <a:avLst/>
                <a:gdLst/>
                <a:ahLst/>
                <a:rect l="l" t="t" r="r" b="b"/>
                <a:pathLst>
                  <a:path w="356" h="311">
                    <a:moveTo>
                      <a:pt x="0" y="311"/>
                    </a:moveTo>
                    <a:cubicBezTo>
                      <a:pt x="21" y="244"/>
                      <a:pt x="43" y="178"/>
                      <a:pt x="73" y="146"/>
                    </a:cubicBezTo>
                    <a:cubicBezTo>
                      <a:pt x="103" y="114"/>
                      <a:pt x="150" y="121"/>
                      <a:pt x="182" y="119"/>
                    </a:cubicBezTo>
                    <a:cubicBezTo>
                      <a:pt x="214" y="117"/>
                      <a:pt x="236" y="157"/>
                      <a:pt x="265" y="137"/>
                    </a:cubicBezTo>
                    <a:cubicBezTo>
                      <a:pt x="294" y="117"/>
                      <a:pt x="325" y="58"/>
                      <a:pt x="356" y="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17253600">
                <a:off x="6311160" y="4297680"/>
                <a:ext cx="1018440" cy="417600"/>
              </a:xfrm>
              <a:custGeom>
                <a:avLst/>
                <a:gdLst/>
                <a:ahLst/>
                <a:rect l="l" t="t" r="r" b="b"/>
                <a:pathLst>
                  <a:path w="356" h="311">
                    <a:moveTo>
                      <a:pt x="0" y="311"/>
                    </a:moveTo>
                    <a:cubicBezTo>
                      <a:pt x="21" y="244"/>
                      <a:pt x="43" y="178"/>
                      <a:pt x="73" y="146"/>
                    </a:cubicBezTo>
                    <a:cubicBezTo>
                      <a:pt x="103" y="114"/>
                      <a:pt x="150" y="121"/>
                      <a:pt x="182" y="119"/>
                    </a:cubicBezTo>
                    <a:cubicBezTo>
                      <a:pt x="214" y="117"/>
                      <a:pt x="236" y="157"/>
                      <a:pt x="265" y="137"/>
                    </a:cubicBezTo>
                    <a:cubicBezTo>
                      <a:pt x="294" y="117"/>
                      <a:pt x="325" y="58"/>
                      <a:pt x="356" y="0"/>
                    </a:cubicBezTo>
                  </a:path>
                </a:pathLst>
              </a:custGeom>
              <a:noFill/>
              <a:ln w="9360">
                <a:solidFill>
                  <a:srgbClr val="ff0000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18320" y="3987720"/>
                <a:ext cx="204840" cy="853200"/>
              </a:xfrm>
              <a:custGeom>
                <a:avLst/>
                <a:gdLst/>
                <a:ahLst/>
                <a:rect l="l" t="t" r="r" b="b"/>
                <a:pathLst>
                  <a:path w="103" h="429">
                    <a:moveTo>
                      <a:pt x="103" y="0"/>
                    </a:moveTo>
                    <a:cubicBezTo>
                      <a:pt x="62" y="60"/>
                      <a:pt x="22" y="121"/>
                      <a:pt x="11" y="192"/>
                    </a:cubicBezTo>
                    <a:cubicBezTo>
                      <a:pt x="0" y="263"/>
                      <a:pt x="19" y="346"/>
                      <a:pt x="39" y="429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7625880" y="3995640"/>
                <a:ext cx="204840" cy="853200"/>
              </a:xfrm>
              <a:custGeom>
                <a:avLst/>
                <a:gdLst/>
                <a:ahLst/>
                <a:rect l="l" t="t" r="r" b="b"/>
                <a:pathLst>
                  <a:path w="103" h="429">
                    <a:moveTo>
                      <a:pt x="103" y="0"/>
                    </a:moveTo>
                    <a:cubicBezTo>
                      <a:pt x="62" y="60"/>
                      <a:pt x="22" y="121"/>
                      <a:pt x="11" y="192"/>
                    </a:cubicBezTo>
                    <a:cubicBezTo>
                      <a:pt x="0" y="263"/>
                      <a:pt x="19" y="346"/>
                      <a:pt x="39" y="429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502320" y="3727440"/>
              <a:ext cx="711360" cy="103320"/>
            </a:xfrm>
            <a:custGeom>
              <a:avLst/>
              <a:gdLst/>
              <a:ahLst/>
              <a:rect l="l" t="t" r="r" b="b"/>
              <a:pathLst>
                <a:path w="448" h="65">
                  <a:moveTo>
                    <a:pt x="0" y="56"/>
                  </a:moveTo>
                  <a:cubicBezTo>
                    <a:pt x="76" y="28"/>
                    <a:pt x="153" y="0"/>
                    <a:pt x="228" y="1"/>
                  </a:cubicBezTo>
                  <a:cubicBezTo>
                    <a:pt x="303" y="2"/>
                    <a:pt x="375" y="33"/>
                    <a:pt x="448" y="6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08080" y="4494240"/>
            <a:ext cx="507960" cy="420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12800" y="4494240"/>
            <a:ext cx="914400" cy="42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2520" y="4494240"/>
            <a:ext cx="507960" cy="4208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36560" y="46832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11320" y="4913280"/>
            <a:ext cx="507960" cy="420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16040" y="4908600"/>
            <a:ext cx="914400" cy="42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1080" y="4913280"/>
            <a:ext cx="507960" cy="4208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4880" y="4506840"/>
            <a:ext cx="361800" cy="363600"/>
          </a:xfrm>
          <a:prstGeom prst="ellipse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6960" y="4927680"/>
            <a:ext cx="361800" cy="363600"/>
          </a:xfrm>
          <a:prstGeom prst="ellipse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362240" y="45763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766960" y="45763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428840" y="49762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28760" y="4976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9800" y="4919760"/>
            <a:ext cx="262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Service Rule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 each band, out-of-band emissions and service boundary levels are specified by regulatory authorities as Service Rule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mplementations of 802.20 in each band should adopt these values to comply with the rules unless shown to be inappropriate, where more stringent levels should be us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xample, service providers are voluntarily using tighter specifications than the rules require in the PCS band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ceiver performance, including filters, are typically not specified by the regulato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Recommended Practice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 Coexistence Task Group could study the coexistence issues of 802.20 deployments in licensed bands below 3.5 GHz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802.20 TDD with 802.20 FDD, probably the more challenging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802.20 with non-802.20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s TG will produce a “Recommended Practice” document that gives guidelines and recommends best practices to minimize harmful interference among neighbor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Wingdings 2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xamples of pervious such activity: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EEE 802: 802.16.2 and 802.16.2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Wingdings 2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TU-R, WP8F: DNR [IMT.COEXT]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17:08:24Z</dcterms:created>
  <dc:creator>reza</dc:creator>
  <dc:description/>
  <dc:language>en-US</dc:language>
  <cp:lastModifiedBy>Mark Klerer</cp:lastModifiedBy>
  <dcterms:modified xsi:type="dcterms:W3CDTF">2003-07-22T07:50:59Z</dcterms:modified>
  <cp:revision>41</cp:revision>
  <dc:subject/>
  <dc:title>Coexistence Issues of 802.20</dc:title>
</cp:coreProperties>
</file>