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69C9-5BE7-47DE-B153-7BC6FF39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3DBA-5C7B-4D55-B7B5-0E9FDF32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8449-7D84-4768-A4A0-A508B2C4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7C65-B0BD-44C7-8477-822CAB5C7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D113-EF62-4129-B49B-784F8CAAF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C786-749C-42EF-A7F4-FFBBF5C6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F662-7291-426B-958C-BF438791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890-76B2-4345-8DFD-147289E8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61C7-C1AD-4563-9833-5865A898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43D3-6CE3-4E95-B700-2068A736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155E-BED4-4735-A3E1-FA58663D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D8D5-5E7B-4478-B711-B86CAF46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01E9-1F24-403E-AC19-6AB7939A1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802.20 Traffic Models: Status/Discuss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 22,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29718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. K. Shankaranarayanan (“Shankar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&amp;T Labs-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010280" y="3049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EEE C802.20-03/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affic Mix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rtion of different traffic types influenc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types of devices: laptop, PDA, 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services from same device/user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-conference (Web + audio) v. single-service (E-mai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design choices made by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ment-based statistical approach makes more sense for application traffic model, and perhaps make less sense for traffic mix 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 mix specification coupled strongly to what you want to evaluate and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delay-sensitive traffic will emphasize response time &amp; del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vy FTP-type traffic will emphasize sustained through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stics: how to handle overlap with eval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he “real” detailed traffic model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more input &amp; discus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one detailed contribution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802.20-03/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detailed models for Web, FTP, WAP, video streaming. Based on 1x-EVDV work. Content is pasted in baseline docu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line document has some references for traffic modeling: gaming, audio streaming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20 Channel &amp; Traffic Model Correspondence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ed May 2003, Chair: Glenn Gold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nel Model Subgroup, Traffic Models Sub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20 Traffic Models Correspondence Sub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itor: N. K. Shank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: To develop a consensus traffic model that can be used in simulations of MBWA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atu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 baseline draft docu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802.20-03-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 of Cont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itial thoughts on scope &amp; approach of modeling eff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ist of traffic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lustrative content from con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need con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 consensus on some issues regarding scope and approach of modeling work. Some of this overlaps with other grou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ailed statistical models of each traffic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levant contribution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802.20-03/43 (&amp; 03/57) has a detailed proposal for traffic models for Web-browsing, FTP, WAP, and near real time vid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802.20-03-13r1 details a user modeling approach including a Web/interactive user/capacity model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802.20-03/35 gives a list of MBWA traffic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802.20-03/53 shows a measurement of the mix of traffic typ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802.20-03/46r1 states that a mix of narrowband of broadband traffic types should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eed for Traffic Model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BWA will have multiple types of IP-bas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often defined at application lay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-of-the-art is to simulate all layers: application, protocols, MAC, 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x inte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&gt;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mulations need traffic models that capture application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affic type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traffic types (so f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 brow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TP (File transf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P (Wireless Application Protoco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oice / Vo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telephony / video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dio strea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strea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her (PDA synchronization, file-sharing 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link and up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/deletes/change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ser Scenario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 &amp; application details depend on user &amp; device scenario. Some 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ptop user: Large display, high power, large storage, por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DA: Medium display, medium power, medium storage, mo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e: Small display, low power, low storage, very mo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 model parameters are influenced by usage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small storage =&gt; limited down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kind of consensus is needed re. usage scenari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is the right group/foru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affic modeling approach/scope (1/2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ly low amount of validated published work (e.g. compared to channel mode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models based on measurements from wire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are (probably) not considering trace-based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flexible, too dependant on sourc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 models will specify traffic from an active/registered user/session. Does not model statistics of inactive subscribers becoming active 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affic modeling scope/approach (2/2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specification is outside scope 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required web page 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 specification is partially outside scope 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TCP details (what flavor?), HTTP version outside 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interdependencies exist: Audio streaming model may change based on underlying protocol being TCP or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bout adaptive applic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rate/content adaptation of audio streaming, image brow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ffic model senses network condition and adapts” v. “simulation picks hi-rate or lo-rate vers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2T05:55:26Z</dcterms:created>
  <dc:creator>N.K. Shankar</dc:creator>
  <dc:description/>
  <dc:language>en-US</dc:language>
  <cp:lastModifiedBy>Mark Klerer</cp:lastModifiedBy>
  <dcterms:modified xsi:type="dcterms:W3CDTF">2003-07-23T03:29:12Z</dcterms:modified>
  <cp:revision>9</cp:revision>
  <dc:subject/>
  <dc:title>802.20 Traffic Models: Status &amp; Discussion</dc:title>
</cp:coreProperties>
</file>