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3C2-F5FE-4ED1-9BE2-6BB1C017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F25-02E4-42FC-B2B7-D7220FBF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0A0-A321-44F8-B819-E881E274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5959-7C19-4704-ADF1-FF256B63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303-794E-45B6-89AA-62B31E49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6585-83D4-4F31-BA52-80D55538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F193-56D5-4E55-81FC-765485E1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00E-93ED-4FC6-B1D4-FA63B66A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A1E-F0E4-4FD7-BAC8-BE55D41E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341-E674-4B48-B85D-FCF48DDB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CF4-3AED-4B2D-8C9E-F6D86290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6D2-1EC3-4E02-B24D-3B2E1B99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640B-EBD0-405C-A822-2F63C7D9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13680" y="6205680"/>
            <a:ext cx="14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48C5-778F-45FC-ACE3-296C77BC8E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 Antiqua"/>
              </a:rPr>
              <a:t>Coexistence CG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Chair’s Report to the Singapore Meeting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57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EEE 802.20 Meeting #4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ngapore, September 200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za Aref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za.arefi@ieee.or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"/>
          <p:cNvSpPr/>
          <p:nvPr/>
        </p:nvSpPr>
        <p:spPr>
          <a:xfrm>
            <a:off x="6618240" y="46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EEE C802.20-03/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oexistence C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July, 802.20 voted to create a “Coexistence CG” with the following charter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CG discussed the issues in two conference calls and some email activity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"/>
          <p:cNvSpPr/>
          <p:nvPr/>
        </p:nvSpPr>
        <p:spPr>
          <a:xfrm>
            <a:off x="1897200" y="2328840"/>
            <a:ext cx="53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Study and create a consensus recommendation on how to address issues related to the coexistence of future 802.20 systems with other wireless technologies deployed in the licensed bands below 3.5GH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majority of CG participants had agreement on the following issue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existence is an important issue and 802.20 needs to address it through performing coexistence analys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order to do so, 802.20 needs to form a Task Group focusing on the coexistence issue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802.20 needs to produce a document on coexistenc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 was also generally agreed that 802.16.2 was a good model to follow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Open Issu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hould “ability to coexist” with other technologies be an evaluation criterion?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he issues are timing and order of creating the coexistence document vis a vis evaluation criteria, requirements, and PHY/MAC documents since coexistence studies need to use parameters that are technology-dependen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hould RF performance information (TX mask, RX filters, etc.) needed for the coexistence analyses be included in the PHY/MAC specifications?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Will the 802.20 coexistence document be a “Recommended Practice” as defined by 802?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r should it be part of the Standard (PHY/MAC)?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level of detail in CG’s recommendation to 802.20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uld the recommendation include some focus areas (interference scenarios, primary bands, etc.)?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r should this be left to the TG to decide?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The Pla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CG is scheduled to make its recommendation(s) to the WG by November meeting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 more calls are scheduled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Call #3: Oct. 10, 2003, 1:00-2:00 PM ED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Call #4: Oct. 20, 2003, 1:00-2:00 PM ED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Call #5: Oct. 31, 2003, 1:00-2:00 PM ED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Call #6: Nov. 5, 2003, 1:00-2:00 PM ED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call-in info will be distributed one week prior to each call through the reflector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(stds-80220-coexistence@ieee.org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7:08:24Z</dcterms:created>
  <dc:creator>reza</dc:creator>
  <dc:description/>
  <dc:language>en-US</dc:language>
  <cp:lastModifiedBy>Mark Klerer</cp:lastModifiedBy>
  <dcterms:modified xsi:type="dcterms:W3CDTF">2003-09-13T16:13:34Z</dcterms:modified>
  <cp:revision>47</cp:revision>
  <dc:subject/>
  <dc:title>Coexistence Issues of 802.20</dc:title>
</cp:coreProperties>
</file>