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4CA71-DDFA-440F-9A44-7F33F292E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63A-A204-49B7-805F-895B99F1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44F-1E07-406B-B0D6-526F2945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0E9-AF69-4BB5-B67D-EC3485A0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7C77-85B6-4088-B642-974C2FA2F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521-474A-4961-B57B-EFDC3F80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90A7-B0B5-4296-87BD-65A37B1A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F4D-0529-439E-A940-4066452B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049-A8C5-421A-A5E8-CF66CB39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F1AF-7C54-4B2B-9D4B-BF00444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754D-F714-457E-BDF0-973378C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0FE-2A9B-4C7E-8022-E66585A7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93C5-DDA7-43A7-8484-F19991A7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948-88C7-415A-847D-4D15F7B59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802.20 Traffic Models Discussion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32767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t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38088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EEE C802.20-03/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s group: Statu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 7 conference call after Jul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ctivity on e-mail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(we need inpu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sus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pe of traffic model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g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traffic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al to categorize traffic types to prioritiz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lease com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ing scope/approach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ctive user, not subscr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lication traffic, not traffic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ffic mix likely to be part of Evalu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odeling of dynamic adaptation in traff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handled as different traffic types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/aggregate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ay not be feasible to model bulk background traffic to represent an aggregate of multiple user nodes instead of many individual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ge Scenarios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sus on following list of usage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ptop u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display, high power, large storage, por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display, medium power, medium storage,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rtPh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display, low power, low storage, very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matics, remote cam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versions of traffic model needed for the same application, e.g Web Heavy &amp; Web Light to capture usage 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ffic types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1066680"/>
          <a:ext cx="7453080" cy="54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45308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ffic Models Prioritized Agenda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effort to generate contributions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nsus on one type after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-browsing, VoIP, FTP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nference calls (email is main med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2T05:55:26Z</dcterms:created>
  <dc:creator>N.K. Shankar</dc:creator>
  <dc:description/>
  <dc:language>en-US</dc:language>
  <cp:lastModifiedBy>Mark Klerer</cp:lastModifiedBy>
  <dcterms:modified xsi:type="dcterms:W3CDTF">2003-09-14T10:02:16Z</dcterms:modified>
  <cp:revision>40</cp:revision>
  <dc:subject/>
  <dc:title>802.20 Traffic Models: Status &amp; Discussion</dc:title>
</cp:coreProperties>
</file>