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3"/>
          </p:nvPr>
        </p:nvSpPr>
        <p:spPr>
          <a:xfrm>
            <a:off x="4145040" y="0"/>
            <a:ext cx="317016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244520" y="708120"/>
            <a:ext cx="4827600" cy="362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74880" y="4563720"/>
            <a:ext cx="5365440" cy="4329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4"/>
          </p:nvPr>
        </p:nvSpPr>
        <p:spPr>
          <a:xfrm>
            <a:off x="0" y="9129600"/>
            <a:ext cx="317016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5"/>
          </p:nvPr>
        </p:nvSpPr>
        <p:spPr>
          <a:xfrm>
            <a:off x="4145040" y="9129600"/>
            <a:ext cx="317016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9EB146D9-5DD8-457A-AE30-EDFCF36C088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244520" y="708120"/>
            <a:ext cx="4827600" cy="362088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74880" y="4563720"/>
            <a:ext cx="5365440" cy="4329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/7,28 11/4 12:00 – 2PM ED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990720"/>
            <a:ext cx="5443560" cy="323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09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315200" y="6324480"/>
            <a:ext cx="1066680" cy="7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-</a:t>
            </a:r>
            <a:fld id="{FAB73467-D7C5-4BEC-8963-A82BA3B289F1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397640" y="152280"/>
            <a:ext cx="138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802.20-03/8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304920" y="0"/>
          <a:ext cx="8356320" cy="6705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0"/>
                    <a:ext cx="8356320" cy="670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6934320" y="76320"/>
            <a:ext cx="21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EEE C802.20-03/8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obility model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CG decided not to model the actually moving mobiles in the simul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bility at the physical layer is taken care of by modeling fast fading corresponding to the mobile spe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owever, some mobility model is still needed e.g. in order to analyze the handoff schemes et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igher Layer Protocol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815364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ed input from requirements and the traffic modeling CG on the types of applications support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dels for higher layer protocols such as HTTP, RTSP and RTP etc. as applicable can then be specifi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trol signaling modeling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4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amples of control signaling are scheduling grants transmission, channel quality feedback, and ARQ ACK/NACK Feedback et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C states and signaling to enable state transitions modeled explicitly in the system simulation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puts need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erformance Metric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st of performance metrics is incomplet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put needed from the traffic modeling CG on the list of applications supported before the application specific performance metrics can be defin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Fairness criteria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7620120" cy="396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fairness criteria needed in order to guarantee minimal level of throughput to all users in the system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fairness criteria can be defined as a constraint on the user throughput CD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r example, normalized throughput CDF should lie to the right of the Fairness criteria cur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put need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tatus of 802.20 Evaluation Criteria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213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EEE 802.20 Evaluation Criteria C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EEE 802.20 Interim Meet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ptember 15-19, 200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valuation Criteria Statu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wo conference calls since the July plena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sensus reached on several issu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ell layout, Full-duplex simulations, TCP model, backhaul network delay and loss mode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ersion 05 of the Evaluation criteria document available (C802.20-03/78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pen issu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torization, mobility modeling, higher layers protocol models, control signaling models, definition of spectral efficiency, fairness criteria and performance metrics etc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ree conference calls scheduled between the September interim and November plena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ell Layou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cision to use 19-cells Wrap-around technique for system simulation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tistics collected from all the cell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Fully-duplex Simulation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Decision to include both UL and the DL in a fully duplex fashion in the same simulation ru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Allow to accurately model the traffic, physical and MAC layer dependencies between the uplink and the downlink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This issue can be revisited later on as more details on the evaluation methodology, channel models, traffic models and proposals become available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CP Mode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cision to use a simplified TCP model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nection establishment pha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low start pha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nection release pha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ther details of TCP such as congestion avoidance are not modele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details of the model are specified in in the Evaluation criteria documen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Network delay/loss mode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cided not to model any packet loss in the Internet (lossless packet transmission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cision to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model the one-way Internet packet delay using a shifted Gamma distributio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The delay is independent from packet to packet.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1981080" y="3886200"/>
          <a:ext cx="4876920" cy="2048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3886200"/>
                    <a:ext cx="4876920" cy="204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ectorizatio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question is what should be the number of sectors per cell modeled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issue is also related to modeling of the multiple antenna techniqu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hould there be a single mandatory baseline configuration e.g. omni-cell, 3-sector cell etc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pectral efficienc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ow to define the spectral efficiency in the context of multi-sector and/or multiple-antenna cells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/s/Hz/cell 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/s/Hz/sector 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/s/Hz/antenna 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ed to arrive on a acceptable definition of spectral efficiency so that different proposals can be compared on a fair basi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21:55:05Z</dcterms:created>
  <dc:creator>Farooq Khan</dc:creator>
  <dc:description/>
  <dc:language>en-US</dc:language>
  <cp:lastModifiedBy>Mark Klerer</cp:lastModifiedBy>
  <dcterms:modified xsi:type="dcterms:W3CDTF">2003-09-15T08:42:12Z</dcterms:modified>
  <cp:revision>190</cp:revision>
  <dc:subject/>
  <dc:title>Evaluation Methodology for 802.20 MBWA</dc:title>
</cp:coreProperties>
</file>