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A70D-6D94-48B8-9954-216BD1034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62040"/>
            <a:ext cx="777240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24280"/>
            <a:ext cx="777240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C7B4-A6E7-4D5C-916E-2994F13D8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62040"/>
            <a:ext cx="379260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62040"/>
            <a:ext cx="379260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24280"/>
            <a:ext cx="379260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24280"/>
            <a:ext cx="379260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AC73-0B61-460A-A1BA-78D3C306D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62040"/>
            <a:ext cx="2502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562040"/>
            <a:ext cx="2502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562040"/>
            <a:ext cx="2502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24280"/>
            <a:ext cx="2502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24280"/>
            <a:ext cx="2502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24280"/>
            <a:ext cx="250236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7D49-2314-4383-9BAF-73398DA80B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56204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7D1C2-2908-4122-A4FC-EF083F461D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56204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E4E48-6355-4E41-8D03-99E620460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62040"/>
            <a:ext cx="379260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562040"/>
            <a:ext cx="379260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FD2B-ECB4-4BE6-BE2E-BC076EE80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1E044-D3B7-47D3-A7F3-C1AA60C07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95000"/>
            <a:ext cx="777240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BAF1-18E4-4492-9320-146C19D58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62040"/>
            <a:ext cx="379260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62040"/>
            <a:ext cx="379260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24280"/>
            <a:ext cx="379260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D6D42-90AE-4AAB-ACBD-574C7E842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62040"/>
            <a:ext cx="379260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62040"/>
            <a:ext cx="379260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24280"/>
            <a:ext cx="379260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3CD9-E2D9-4D44-BF6D-0CB339805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62040"/>
            <a:ext cx="379260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62040"/>
            <a:ext cx="379260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4280"/>
            <a:ext cx="7772400" cy="20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ED7E-B19D-4474-B5AF-DA62D0BB1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051f45">
              <a:alpha val="50000"/>
            </a:srgbClr>
          </a:solidFill>
          <a:ln w="9360">
            <a:solidFill>
              <a:srgbClr val="0550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6204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Myriad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yriad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yriad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yriad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c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D19B-67D5-4FBF-8338-B0860C60B2DF}" type="slidenum">
              <a:rPr b="0" lang="en-US" sz="1400" spc="-1" strike="noStrike">
                <a:solidFill>
                  <a:srgbClr val="66c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7428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An Alternative Approach for Enhancing Security of WMANs using Physical Layer Encryption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600"/>
            </a:br>
            <a:br>
              <a:rPr sz="2800"/>
            </a:br>
            <a:r>
              <a:rPr b="1" lang="en-US" sz="1600" spc="-1" strike="noStrike">
                <a:solidFill>
                  <a:srgbClr val="666699"/>
                </a:solidFill>
                <a:latin typeface="Arial"/>
              </a:rPr>
              <a:t>By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Arpan Pal</a:t>
            </a:r>
            <a:br>
              <a:rPr sz="1600"/>
            </a:b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Wireless Group</a:t>
            </a:r>
            <a:br>
              <a:rPr sz="1600"/>
            </a:b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Center of Excellence for Embedded Systems</a:t>
            </a:r>
            <a:br>
              <a:rPr sz="1600"/>
            </a:b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Tata Consultancy Services</a:t>
            </a:r>
            <a:br>
              <a:rPr sz="1600"/>
            </a:b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India</a:t>
            </a:r>
            <a:endParaRPr b="1" lang="en-US" sz="1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6675480" y="320760"/>
            <a:ext cx="21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IEEE C802.20-03/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Mitigation of Security Threats </a:t>
            </a:r>
            <a:br>
              <a:rPr sz="3200"/>
            </a:b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- Data Forgery</a:t>
            </a:r>
            <a:endParaRPr b="1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3680" y="914400"/>
            <a:ext cx="85194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Unauthorized users insert data into network as valid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Re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Mimi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Proposed Scheme prevents hackers from both Repla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Mimi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Replay is not possible as the data recorded at MAC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is totally wrong and hence cannot be repla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to generate a valid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Mimicking is not possible because this needs finding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the key first (using Known-Plain-Text atta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Mitigation of Security Threats </a:t>
            </a:r>
            <a:br>
              <a:rPr sz="3200"/>
            </a:b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- Denial Of Service</a:t>
            </a:r>
            <a:endParaRPr b="1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0120" y="1084320"/>
            <a:ext cx="82468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Intruder can flood network with valid and invalid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Channel jamming at RF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Proposed Scheme prevents hackers from sending val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messages as they don’t know th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Invalid messages can be filtered out in the PHY level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the encryption is taking place in PHY layer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Channel jamming at RF level cannot be prev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3640" y="1084320"/>
            <a:ext cx="855036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Data Privacy, Data Forgery and Denial-of-Ser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(valid messages) at MAC layer (software) can be prev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Denial-of-Service (invalid messages) can be prev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using PHY layer message integrity 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Denial-of-Service (Channel jamming at RF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cannot be prev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To break into the proposed security scheme, hackers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costly hardware set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Even with Hardware set-up, breaking the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in Real-time is extremely difficult – the PHY level cip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ubstantially increases the entry barrier for break-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A good KEY distribution scheme need to be expl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20570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Thank You</a:t>
            </a:r>
            <a:endParaRPr b="1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3640" y="5715000"/>
            <a:ext cx="76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mail: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6699"/>
                </a:solidFill>
                <a:latin typeface="Arial"/>
              </a:rPr>
              <a:t>arpan_pal@tcscal.co.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258920"/>
            <a:ext cx="8686800" cy="45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Security Threats of Wireless 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Proposed System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Proposed System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How the proposed system mitigate  t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thr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Security Threats of Wireless MAN</a:t>
            </a:r>
            <a:endParaRPr b="1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2560" y="1055520"/>
            <a:ext cx="7773120" cy="54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Human Initiated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Data Priv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Data Forg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Denial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Hardware Errors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Data Privacy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Data Forgery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Denial of Service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are the main security events that need to be addr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Ref:-  Alan Chickinsky, “Wireless Security Threats”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IEEE C802.20-03/06, January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System Overview – Traditional System</a:t>
            </a:r>
            <a:endParaRPr b="1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1143000"/>
            <a:ext cx="8610480" cy="4800600"/>
            <a:chOff x="228600" y="1143000"/>
            <a:chExt cx="8610480" cy="4800600"/>
          </a:xfrm>
        </p:grpSpPr>
        <p:sp>
          <p:nvSpPr>
            <p:cNvPr id="48" name=""/>
            <p:cNvSpPr/>
            <p:nvPr/>
          </p:nvSpPr>
          <p:spPr>
            <a:xfrm>
              <a:off x="600120" y="5008320"/>
              <a:ext cx="2066760" cy="513000"/>
            </a:xfrm>
            <a:prstGeom prst="rect">
              <a:avLst/>
            </a:prstGeom>
            <a:noFill/>
            <a:ln w="38160">
              <a:solidFill>
                <a:srgbClr val="0b469d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2083c"/>
                  </a:solidFill>
                  <a:latin typeface="Times New Roman"/>
                </a:rPr>
                <a:t>Read Transmitted </a:t>
              </a:r>
              <a:r>
                <a:rPr b="1" lang="en-US" sz="1400" spc="-1" strike="noStrike">
                  <a:solidFill>
                    <a:srgbClr val="012318"/>
                  </a:solidFill>
                  <a:latin typeface="Times New Roman"/>
                </a:rPr>
                <a:t>PHY params inf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962160" y="1981080"/>
              <a:ext cx="11368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2318"/>
                  </a:solidFill>
                  <a:latin typeface="Times New Roman"/>
                </a:rPr>
                <a:t>Config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76360" y="1490400"/>
              <a:ext cx="2438640" cy="522360"/>
            </a:xfrm>
            <a:prstGeom prst="rect">
              <a:avLst/>
            </a:prstGeom>
            <a:gradFill rotWithShape="0">
              <a:gsLst>
                <a:gs pos="0">
                  <a:srgbClr val="7a997a"/>
                </a:gs>
                <a:gs pos="50000">
                  <a:srgbClr val="ccffcc"/>
                </a:gs>
                <a:gs pos="100000">
                  <a:srgbClr val="7a99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2318"/>
                  </a:solidFill>
                  <a:latin typeface="Times New Roman"/>
                </a:rPr>
                <a:t>Baseband PHY Transmit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57600" y="2263680"/>
              <a:ext cx="1752480" cy="406440"/>
            </a:xfrm>
            <a:prstGeom prst="rect">
              <a:avLst/>
            </a:prstGeom>
            <a:gradFill rotWithShape="0">
              <a:gsLst>
                <a:gs pos="0">
                  <a:srgbClr val="7a997a"/>
                </a:gs>
                <a:gs pos="50000">
                  <a:srgbClr val="ccffcc"/>
                </a:gs>
                <a:gs pos="100000">
                  <a:srgbClr val="7a99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2318"/>
                  </a:solidFill>
                  <a:latin typeface="Times New Roman"/>
                </a:rPr>
                <a:t>PHY config para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15680" y="1752480"/>
              <a:ext cx="2560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77680" y="1143000"/>
              <a:ext cx="1625760" cy="60948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ramed data from Media Access Control (MAC) 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538760" y="2260440"/>
              <a:ext cx="1300320" cy="558720"/>
            </a:xfrm>
            <a:prstGeom prst="rect">
              <a:avLst/>
            </a:prstGeom>
            <a:gradFill rotWithShape="0">
              <a:gsLst>
                <a:gs pos="0">
                  <a:srgbClr val="7a997a"/>
                </a:gs>
                <a:gs pos="50000">
                  <a:srgbClr val="ccffcc"/>
                </a:gs>
                <a:gs pos="100000">
                  <a:srgbClr val="7a99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2318"/>
                  </a:solidFill>
                  <a:latin typeface="Times New Roman"/>
                </a:rPr>
                <a:t>Transmitter Front-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53160" y="1749240"/>
              <a:ext cx="125712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76360" y="3139920"/>
              <a:ext cx="2449800" cy="441360"/>
            </a:xfrm>
            <a:prstGeom prst="rect">
              <a:avLst/>
            </a:prstGeom>
            <a:gradFill rotWithShape="0">
              <a:gsLst>
                <a:gs pos="0">
                  <a:srgbClr val="7a997a"/>
                </a:gs>
                <a:gs pos="50000">
                  <a:srgbClr val="ccffcc"/>
                </a:gs>
                <a:gs pos="100000">
                  <a:srgbClr val="7a99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2318"/>
                  </a:solidFill>
                  <a:latin typeface="Times New Roman"/>
                </a:rPr>
                <a:t>sent using prior-known PHY confi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80840" y="2971800"/>
              <a:ext cx="1657440" cy="311040"/>
            </a:xfrm>
            <a:prstGeom prst="rect">
              <a:avLst/>
            </a:prstGeom>
            <a:noFill/>
            <a:ln w="28440">
              <a:solidFill>
                <a:srgbClr val="00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2318"/>
                  </a:solidFill>
                  <a:latin typeface="Times New Roman"/>
                </a:rPr>
                <a:t>PHY params inf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90240" y="2409480"/>
              <a:ext cx="0" cy="95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0240" y="2409840"/>
              <a:ext cx="3267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27680" y="2361960"/>
              <a:ext cx="487440" cy="260640"/>
            </a:xfrm>
            <a:prstGeom prst="ellipse">
              <a:avLst/>
            </a:prstGeom>
            <a:gradFill rotWithShape="0">
              <a:gsLst>
                <a:gs pos="0">
                  <a:srgbClr val="5e4675"/>
                </a:gs>
                <a:gs pos="50000">
                  <a:srgbClr val="cc99ff"/>
                </a:gs>
                <a:gs pos="100000">
                  <a:srgbClr val="5e46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987960" y="175248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15120" y="2535120"/>
              <a:ext cx="3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65560" y="2754360"/>
              <a:ext cx="995400" cy="43164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dd before actual dat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3998880" y="200160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62520" y="200160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53160" y="3193920"/>
              <a:ext cx="1257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6984720" y="26125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05360" y="1566720"/>
              <a:ext cx="211140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12318"/>
                  </a:solidFill>
                  <a:latin typeface="Times New Roman"/>
                </a:rPr>
                <a:t>Transmit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83000" y="4757760"/>
              <a:ext cx="1774800" cy="406080"/>
            </a:xfrm>
            <a:prstGeom prst="rect">
              <a:avLst/>
            </a:prstGeom>
            <a:gradFill rotWithShape="0">
              <a:gsLst>
                <a:gs pos="0">
                  <a:srgbClr val="577491"/>
                </a:gs>
                <a:gs pos="50000">
                  <a:srgbClr val="99ccff"/>
                </a:gs>
                <a:gs pos="100000">
                  <a:srgbClr val="57749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2083c"/>
                  </a:solidFill>
                  <a:latin typeface="Times New Roman"/>
                </a:rPr>
                <a:t>PHY config para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423864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" y="3628800"/>
              <a:ext cx="1654200" cy="94320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ramed data To Media Access Control (MAC) layer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acker can access only at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77120" y="4794120"/>
              <a:ext cx="1299960" cy="463680"/>
            </a:xfrm>
            <a:prstGeom prst="rect">
              <a:avLst/>
            </a:prstGeom>
            <a:gradFill rotWithShape="0">
              <a:gsLst>
                <a:gs pos="0">
                  <a:srgbClr val="577491"/>
                </a:gs>
                <a:gs pos="50000">
                  <a:srgbClr val="99ccff"/>
                </a:gs>
                <a:gs pos="100000">
                  <a:srgbClr val="57749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2083c"/>
                  </a:solidFill>
                  <a:latin typeface="Times New Roman"/>
                </a:rPr>
                <a:t>Receiver Front-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62360" y="4238640"/>
              <a:ext cx="132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8600" y="5805360"/>
              <a:ext cx="276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8600" y="4948200"/>
              <a:ext cx="32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89680" y="4238640"/>
              <a:ext cx="0" cy="86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89680" y="5021280"/>
              <a:ext cx="48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4010040" y="443664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4862520" y="443664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889680" y="5069880"/>
              <a:ext cx="0" cy="56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10280" y="4005000"/>
              <a:ext cx="130032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2083c"/>
                  </a:solidFill>
                  <a:latin typeface="Times New Roman"/>
                </a:rPr>
                <a:t>Recei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5752800" y="5630760"/>
              <a:ext cx="113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0240" y="3367080"/>
              <a:ext cx="288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8600" y="4952880"/>
              <a:ext cx="0" cy="85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89320" y="3925800"/>
              <a:ext cx="2273040" cy="522360"/>
            </a:xfrm>
            <a:prstGeom prst="rect">
              <a:avLst/>
            </a:prstGeom>
            <a:gradFill rotWithShape="0">
              <a:gsLst>
                <a:gs pos="0">
                  <a:srgbClr val="577491"/>
                </a:gs>
                <a:gs pos="50000">
                  <a:srgbClr val="99ccff"/>
                </a:gs>
                <a:gs pos="100000">
                  <a:srgbClr val="57749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2083c"/>
                  </a:solidFill>
                  <a:latin typeface="Times New Roman"/>
                </a:rPr>
                <a:t>Baseband PHY Rece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160" y="4452840"/>
              <a:ext cx="11368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2083c"/>
                  </a:solidFill>
                  <a:latin typeface="Times New Roman"/>
                </a:rPr>
                <a:t>Config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90880" y="5476680"/>
              <a:ext cx="2762280" cy="466920"/>
            </a:xfrm>
            <a:prstGeom prst="rect">
              <a:avLst/>
            </a:prstGeom>
            <a:gradFill rotWithShape="0">
              <a:gsLst>
                <a:gs pos="0">
                  <a:srgbClr val="577491"/>
                </a:gs>
                <a:gs pos="50000">
                  <a:srgbClr val="99ccff"/>
                </a:gs>
                <a:gs pos="100000">
                  <a:srgbClr val="57749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2083c"/>
                  </a:solidFill>
                  <a:latin typeface="Times New Roman"/>
                </a:rPr>
                <a:t>Decode Tx PHY params info using prior-known PHY confi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System Overview – Proposed System</a:t>
            </a:r>
            <a:endParaRPr b="1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04920" y="1143000"/>
            <a:ext cx="8609040" cy="4800600"/>
            <a:chOff x="304920" y="1143000"/>
            <a:chExt cx="8609040" cy="4800600"/>
          </a:xfrm>
        </p:grpSpPr>
        <p:sp>
          <p:nvSpPr>
            <p:cNvPr id="90" name=""/>
            <p:cNvSpPr/>
            <p:nvPr/>
          </p:nvSpPr>
          <p:spPr>
            <a:xfrm>
              <a:off x="616320" y="4703760"/>
              <a:ext cx="2127240" cy="554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550b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2083c"/>
                  </a:solidFill>
                  <a:latin typeface="Times New Roman"/>
                </a:rPr>
                <a:t>Read Transmitted </a:t>
              </a:r>
              <a:r>
                <a:rPr b="1" lang="en-US" sz="1400" spc="-1" strike="noStrike">
                  <a:solidFill>
                    <a:srgbClr val="012318"/>
                  </a:solidFill>
                  <a:latin typeface="Times New Roman"/>
                </a:rPr>
                <a:t>PHY params info</a:t>
              </a:r>
              <a:r>
                <a:rPr b="1" lang="en-US" sz="1200" spc="-1" strike="noStrike">
                  <a:solidFill>
                    <a:srgbClr val="02083c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2083c"/>
                  </a:solidFill>
                  <a:latin typeface="Times New Roman"/>
                </a:rPr>
                <a:t>+ KEY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38840" y="1974960"/>
              <a:ext cx="110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fig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72160" y="1295280"/>
              <a:ext cx="3004920" cy="316080"/>
            </a:xfrm>
            <a:prstGeom prst="rect">
              <a:avLst/>
            </a:prstGeom>
            <a:gradFill rotWithShape="0">
              <a:gsLst>
                <a:gs pos="0">
                  <a:srgbClr val="7a997a"/>
                </a:gs>
                <a:gs pos="50000">
                  <a:srgbClr val="ccffcc"/>
                </a:gs>
                <a:gs pos="100000">
                  <a:srgbClr val="7a99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2318"/>
                  </a:solidFill>
                  <a:latin typeface="Times New Roman"/>
                </a:rPr>
                <a:t>Baseband PHY Transmit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13320" y="2209680"/>
              <a:ext cx="1568520" cy="552600"/>
            </a:xfrm>
            <a:prstGeom prst="rect">
              <a:avLst/>
            </a:prstGeom>
            <a:gradFill rotWithShape="0">
              <a:gsLst>
                <a:gs pos="0">
                  <a:srgbClr val="7a997a"/>
                </a:gs>
                <a:gs pos="50000">
                  <a:srgbClr val="ccffcc"/>
                </a:gs>
                <a:gs pos="100000">
                  <a:srgbClr val="7a99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2318"/>
                  </a:solidFill>
                  <a:latin typeface="Times New Roman"/>
                </a:rPr>
                <a:t>PHY Transmitter config para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9760" y="1771560"/>
              <a:ext cx="2192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36720" y="1143000"/>
              <a:ext cx="1582920" cy="61920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ramed data from Media Access Control (MAC) la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21760" y="2228760"/>
              <a:ext cx="1265400" cy="514440"/>
            </a:xfrm>
            <a:prstGeom prst="rect">
              <a:avLst/>
            </a:prstGeom>
            <a:gradFill rotWithShape="0">
              <a:gsLst>
                <a:gs pos="0">
                  <a:srgbClr val="7a997a"/>
                </a:gs>
                <a:gs pos="50000">
                  <a:srgbClr val="ccffcc"/>
                </a:gs>
                <a:gs pos="100000">
                  <a:srgbClr val="7a99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2318"/>
                  </a:solidFill>
                  <a:latin typeface="Times New Roman"/>
                </a:rPr>
                <a:t>Transmitter Front-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960" y="1768320"/>
              <a:ext cx="91440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40440" y="3054240"/>
              <a:ext cx="1993680" cy="451080"/>
            </a:xfrm>
            <a:prstGeom prst="rect">
              <a:avLst/>
            </a:prstGeom>
            <a:gradFill rotWithShape="0">
              <a:gsLst>
                <a:gs pos="0">
                  <a:srgbClr val="7a997a"/>
                </a:gs>
                <a:gs pos="50000">
                  <a:srgbClr val="ccffcc"/>
                </a:gs>
                <a:gs pos="100000">
                  <a:srgbClr val="7a997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2318"/>
                  </a:solidFill>
                  <a:latin typeface="Times New Roman"/>
                </a:rPr>
                <a:t>sent using prior-known PHY confi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1000" y="2425680"/>
              <a:ext cx="2198520" cy="522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2318"/>
                  </a:solidFill>
                  <a:latin typeface="Times New Roman"/>
                </a:rPr>
                <a:t>PHY Transmitter param info + KEY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63680" y="2368440"/>
              <a:ext cx="0" cy="981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3680" y="2368440"/>
              <a:ext cx="3117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31200" y="2324160"/>
              <a:ext cx="474840" cy="236520"/>
            </a:xfrm>
            <a:prstGeom prst="ellipse">
              <a:avLst/>
            </a:prstGeom>
            <a:gradFill rotWithShape="0">
              <a:gsLst>
                <a:gs pos="0">
                  <a:srgbClr val="5e4675"/>
                </a:gs>
                <a:gs pos="50000">
                  <a:srgbClr val="cc99ff"/>
                </a:gs>
                <a:gs pos="100000">
                  <a:srgbClr val="5e46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69520" y="1771560"/>
              <a:ext cx="0" cy="55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06040" y="2481120"/>
              <a:ext cx="31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97880" y="2884320"/>
              <a:ext cx="960480" cy="39240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dd before actual dat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4083120" y="1969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847040" y="1969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34120" y="3276720"/>
              <a:ext cx="1524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6880320" y="2536560"/>
              <a:ext cx="0" cy="73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58360" y="1592280"/>
              <a:ext cx="205560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12318"/>
                  </a:solidFill>
                  <a:latin typeface="Times New Roman"/>
                </a:rPr>
                <a:t>Transmit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16400" y="4552920"/>
              <a:ext cx="1841760" cy="552600"/>
            </a:xfrm>
            <a:prstGeom prst="rect">
              <a:avLst/>
            </a:prstGeom>
            <a:gradFill rotWithShape="0">
              <a:gsLst>
                <a:gs pos="0">
                  <a:srgbClr val="577491"/>
                </a:gs>
                <a:gs pos="50000">
                  <a:srgbClr val="99ccff"/>
                </a:gs>
                <a:gs pos="100000">
                  <a:srgbClr val="57749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2083c"/>
                  </a:solidFill>
                  <a:latin typeface="Times New Roman"/>
                </a:rPr>
                <a:t>PHY Receiver config para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520" y="4025880"/>
              <a:ext cx="230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79760" y="3606840"/>
              <a:ext cx="1581120" cy="946080"/>
            </a:xfrm>
            <a:prstGeom prst="rect">
              <a:avLst/>
            </a:prstGeom>
            <a:solidFill>
              <a:srgbClr val="ff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ramed data To Media Access Control (MAC) layer 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acker can access only at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63000" y="4524480"/>
              <a:ext cx="1265400" cy="428400"/>
            </a:xfrm>
            <a:prstGeom prst="rect">
              <a:avLst/>
            </a:prstGeom>
            <a:gradFill rotWithShape="0">
              <a:gsLst>
                <a:gs pos="0">
                  <a:srgbClr val="577491"/>
                </a:gs>
                <a:gs pos="50000">
                  <a:srgbClr val="99ccff"/>
                </a:gs>
                <a:gs pos="100000">
                  <a:srgbClr val="57749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2083c"/>
                  </a:solidFill>
                  <a:latin typeface="Times New Roman"/>
                </a:rPr>
                <a:t>Receiver Front-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840640" y="4025880"/>
              <a:ext cx="949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60880" y="556272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4920" y="4648320"/>
              <a:ext cx="312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89960" y="4025880"/>
              <a:ext cx="0" cy="78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89960" y="4735440"/>
              <a:ext cx="47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019760" y="4331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813560" y="43207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789960" y="4779720"/>
              <a:ext cx="0" cy="50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16840" y="3878280"/>
              <a:ext cx="126540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2083c"/>
                  </a:solidFill>
                  <a:latin typeface="Times New Roman"/>
                </a:rPr>
                <a:t>Recei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681880" y="5288040"/>
              <a:ext cx="110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19640" y="3349800"/>
              <a:ext cx="833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4920" y="464832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3635280"/>
              <a:ext cx="3025800" cy="316080"/>
            </a:xfrm>
            <a:prstGeom prst="rect">
              <a:avLst/>
            </a:prstGeom>
            <a:gradFill rotWithShape="0">
              <a:gsLst>
                <a:gs pos="0">
                  <a:srgbClr val="577491"/>
                </a:gs>
                <a:gs pos="50000">
                  <a:srgbClr val="99ccff"/>
                </a:gs>
                <a:gs pos="100000">
                  <a:srgbClr val="57749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2083c"/>
                  </a:solidFill>
                  <a:latin typeface="Times New Roman"/>
                </a:rPr>
                <a:t>Baseband PHY Recei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97440" y="4322880"/>
              <a:ext cx="11080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fig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94120" y="5234040"/>
              <a:ext cx="2687760" cy="709560"/>
            </a:xfrm>
            <a:prstGeom prst="rect">
              <a:avLst/>
            </a:prstGeom>
            <a:gradFill rotWithShape="0">
              <a:gsLst>
                <a:gs pos="0">
                  <a:srgbClr val="577491"/>
                </a:gs>
                <a:gs pos="50000">
                  <a:srgbClr val="99ccff"/>
                </a:gs>
                <a:gs pos="100000">
                  <a:srgbClr val="57749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2083c"/>
                  </a:solidFill>
                  <a:latin typeface="Times New Roman"/>
                </a:rPr>
                <a:t>Decode transmitted PHY params info using prior-known PHY confi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2160" y="1600200"/>
              <a:ext cx="3004920" cy="3808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2318"/>
                  </a:solidFill>
                  <a:latin typeface="Times New Roman"/>
                </a:rPr>
                <a:t>Modifications to Tx Algorithms based on KEY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36720" y="3124080"/>
              <a:ext cx="1582920" cy="374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2318"/>
                  </a:solidFill>
                  <a:latin typeface="Times New Roman"/>
                </a:rPr>
                <a:t>Encrypt with KEY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3680" y="3349800"/>
              <a:ext cx="47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35360" y="3962520"/>
              <a:ext cx="3005280" cy="380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2083c"/>
                  </a:solidFill>
                  <a:latin typeface="Times New Roman"/>
                </a:rPr>
                <a:t>Modifications to Rx Algorithms based on KEY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9760" y="5398920"/>
              <a:ext cx="1581120" cy="392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2083c"/>
                  </a:solidFill>
                  <a:latin typeface="Times New Roman"/>
                </a:rPr>
                <a:t>Decrypt with KEY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04920" y="5562720"/>
              <a:ext cx="474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Proposed System Features</a:t>
            </a:r>
            <a:endParaRPr b="1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7600" y="814320"/>
            <a:ext cx="7672320" cy="53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KEY1 delivered to valid users using some sec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key distribu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Possible Physical layer system parameters encryp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using KEY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rror Control Coding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Type of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Length of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econd Level Key KEY2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Possible Physical layer system parameters mod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using KEY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Interleaving 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Phase offset of OFDM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Constellation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Proposed System - Example</a:t>
            </a:r>
            <a:endParaRPr b="1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3352680"/>
            <a:ext cx="8534520" cy="28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KEY2 can be varied from packet to pac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6666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One may modify using random numbers seeded by KEY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Phase offset of OFDM symbols at IFF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Note:- Phases of only data points (excluding pilots and zero padding) should be al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09480" y="1143000"/>
            <a:ext cx="7086600" cy="1676160"/>
            <a:chOff x="609480" y="1143000"/>
            <a:chExt cx="7086600" cy="1676160"/>
          </a:xfrm>
        </p:grpSpPr>
        <p:sp>
          <p:nvSpPr>
            <p:cNvPr id="141" name=""/>
            <p:cNvSpPr/>
            <p:nvPr/>
          </p:nvSpPr>
          <p:spPr>
            <a:xfrm>
              <a:off x="609480" y="1143000"/>
              <a:ext cx="2133720" cy="380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99"/>
                  </a:solidFill>
                  <a:latin typeface="Arial"/>
                </a:rPr>
                <a:t>Error Control Coding R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3200" y="1143000"/>
              <a:ext cx="1371600" cy="380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99"/>
                  </a:solidFill>
                  <a:latin typeface="Arial"/>
                </a:rPr>
                <a:t>Modulation 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14800" y="1143000"/>
              <a:ext cx="1219320" cy="380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99"/>
                  </a:solidFill>
                  <a:latin typeface="Arial"/>
                </a:rPr>
                <a:t>Packet Leng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1143000"/>
              <a:ext cx="2286000" cy="380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99"/>
                  </a:solidFill>
                  <a:latin typeface="Arial"/>
                </a:rPr>
                <a:t>KEY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81280" y="2361960"/>
              <a:ext cx="838440" cy="457200"/>
            </a:xfrm>
            <a:prstGeom prst="ellipse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99"/>
                  </a:solidFill>
                  <a:latin typeface="Arial"/>
                </a:rPr>
                <a:t>X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9480" y="2438280"/>
              <a:ext cx="2286000" cy="380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99"/>
                  </a:solidFill>
                  <a:latin typeface="Arial"/>
                </a:rPr>
                <a:t>Random No. Gene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9480" y="1523880"/>
              <a:ext cx="33530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962520" y="1523880"/>
              <a:ext cx="36576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2520" y="2057400"/>
              <a:ext cx="0" cy="30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259056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19720" y="2590560"/>
              <a:ext cx="3124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25960" y="2057400"/>
              <a:ext cx="3570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6699"/>
                  </a:solidFill>
                  <a:latin typeface="Arial"/>
                </a:rPr>
                <a:t>Encrypted 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90720" y="1828800"/>
              <a:ext cx="914400" cy="3808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66699"/>
                  </a:solidFill>
                  <a:latin typeface="Arial"/>
                </a:rPr>
                <a:t>KEY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4792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Proposed System – Application to 802.20</a:t>
            </a:r>
            <a:endParaRPr b="1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6880" y="885960"/>
            <a:ext cx="785808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Physical Layer of 802.20 is ev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OFDM could be an integral part of PHY giv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operational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The proposed scheme can easily be ada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to the 802.20 OFDM PH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The proposed scheme is not limited to OFDM PHY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Mitigation of Security Threats </a:t>
            </a:r>
            <a:br>
              <a:rPr sz="3200"/>
            </a:br>
            <a:r>
              <a:rPr b="1" lang="en-US" sz="3200" spc="-1" strike="noStrike">
                <a:solidFill>
                  <a:srgbClr val="666699"/>
                </a:solidFill>
                <a:latin typeface="Arial"/>
              </a:rPr>
              <a:t>- Data Privacy</a:t>
            </a:r>
            <a:endParaRPr b="1" lang="en-US" sz="32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5800" y="1084320"/>
            <a:ext cx="835344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Known-Plaintext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Recording of encrypted data at MAC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Key can be found out if Data is 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Proposed Scheme prevents hackers from recording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encrypted data at MAC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( wrong FEC rate, wrong modulation, unknown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offset, unknown interleaving pattern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5T06:41:46Z</dcterms:created>
  <dc:creator>Arpan Pal</dc:creator>
  <dc:description/>
  <dc:language>en-US</dc:language>
  <cp:lastModifiedBy>Mark Klerer</cp:lastModifiedBy>
  <cp:lastPrinted>2002-11-07T13:27:51Z</cp:lastPrinted>
  <dcterms:modified xsi:type="dcterms:W3CDTF">2003-09-16T08:52:47Z</dcterms:modified>
  <cp:revision>1511</cp:revision>
  <dc:subject/>
  <dc:title>No Slide Title</dc:title>
</cp:coreProperties>
</file>