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868C-95D8-4216-BD59-1DB98EFC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CC97-E706-472C-9D50-F2932E2B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E4F6-20A6-4FF4-BC34-103A5B26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480B-B2D6-4EE2-B645-10F54243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8CE8-5AC3-4EA3-BC9B-5C9F9D43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1DE9-202C-4995-8093-6E026DA9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8F55-3CC0-40E1-80B4-8765736A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6D1-170C-4D1F-99EC-F4BC3663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A63-AB10-444E-9E8F-0640EC70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518F-6EFD-4273-8D47-D98ED668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CDC-0827-4427-8612-20BAC34D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4E5-052C-45C5-9C94-1F7B24F3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385C-10CB-4E82-BA55-53666B871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of 802.20 Channel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5905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802.20 WG Session 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15-19,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iang G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or, Channel Modeling Correspondenc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228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802.20-03/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istics of RMS and MAX Delay Sprea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micro-seco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2133720"/>
          <a:ext cx="8229600" cy="3728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1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Delay Spread in 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Delay Spread in 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 ITU-R M.1225, “Guideline for Evaluation of Radio Transmission Technologies for IMT-2000,”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802.20-03/12, “Antenna Arrays for MBWA: Overview and Field Experiment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802.20-03/19, “Frequency-Domain-Oriented Approaches for MBWA: Overview and Field Experiment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Status of 802.20 Channel Mod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ference call has been held since July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sus reached on a few channel model 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outdoor-to-indoor model into channel model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ying MIMO/SIMO/MISO/SISO channel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discrepant views on the maximum delay spread in MBWA channel models and the frequency of occurrence of such channels in the real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ore conference calls schedu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14, 2003,2:00 - 3:00pm E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29, 2003, 2:00 - 3:00pm E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door-to-Indoo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d to examine the ITU pedestrian model as starting point and then look into how to extrapolate it to the outdoor-to-indoo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as also a consensus that very little is known about the MIMO nature of outdoor-indoo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U Outdoor-to-Indoor and Pedestrian Model [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 with low antenna heights, located out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transmit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destrian users located on streets and inside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pler rate set by walking speeds, with occasional higher rates due to vehicular ref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ical path loss ru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ppropriate, 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encountered due to trees and other ob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penetration loss averages 12 dB with a standard deviation of 8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MO/SIMO/MISO/SISO 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d to specify MIMO channel model first, and then tweak the parameters so that it will approximate the characteristics of SIMO/MISO/SISO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pecify guidelines for setting the key parameters of model based on a selected set of test environments, such as micro/macro, typical urban/suburban/rural, outdoor-to-indoor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sure the model have appropriate delay spread, Doppler spread, and spatial characteristics that are typical of licensed bands below 3.5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MO/SIMO/MISO/SISO  Models 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ing separate SISO models would confuse the process of comparing SISO techniques to MIMO/MISO/SIMO techniques, because it would be difficult to guarantee a fair comparison between the 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atial characteristics of MIMO model will heavily influence the Doppler characteristics, which would make it difficult to compare a Jakes-faded SISO model to a spatial MIMO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ximum Delay Sp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different opinions on the maximum delay spread in MBWA channel models and the frequency of occurrence of such channels in the re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define a vehicular channel model for MBWA, which would have power delay profile less than ITU Vehicula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isfy ourselves with the ITU Vehicular B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accurately evaluate candidate physical-layer technologies, it is desirable to model the variety of delay spreads, which is justifiable based on real world channel measu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regarding delay spread measurement campaign would help 802.20 Channel Modeling CG understand the issue and reach group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ay Spread Measurements on a Mobile Broadband Channel at 3.6 GHz [2,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reported in [2,3], an experimental mobile broadband communication system developed for the purpose of evaluating candidate physical-layer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ollected by this experimental system also used to characterize the 2x2 MIMO channel impulse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lay spread characteristics of a 20MHz channel at 3.675 GHz  is summarized here, based on a series of field experiments conducted in a suburban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described in [3], outdoor measurements were performed on various driving routes around th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 speed varies from 0 to 60 m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ay Spread Measurements on a Mobile Broadband Channel at 3.6 GHz [Con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spread measurements are calculated from power delay profiles given by the magnitude squared of the estimated channel impuls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nel impulse response is determined with a frequency-domain channel estimator designed using the fact that all the transmitted data is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rrelator operating in the time-domain was also designed to detect multi-path components with delays of up to 25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is correlator, it was observed that the maximum delay spread beyond 10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s statistically in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tal of 5474 profiles, including 2142 profiles captured at LOS locations and 3332 profiles captured at NLOS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21:41:33Z</dcterms:created>
  <dc:creator>Qiang Guo, Editor, Channel Modeling Subgroup</dc:creator>
  <dc:description/>
  <dc:language>en-US</dc:language>
  <cp:lastModifiedBy>Mark Klerer</cp:lastModifiedBy>
  <dcterms:modified xsi:type="dcterms:W3CDTF">2003-09-17T00:41:51Z</dcterms:modified>
  <cp:revision>86</cp:revision>
  <dc:subject/>
  <dc:title>802.20 MBWA Channel Models</dc:title>
</cp:coreProperties>
</file>