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26D-BEF6-45FD-8C99-C13C60F3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5B8-E891-486C-B070-4F319631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D93-9D9C-4BB9-800B-F71799B7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95E-5C22-4164-86B1-5473FC16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DE8A-78D4-4866-85CA-D4F85496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D3FF-69F0-44BC-AA76-E069E8C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AE09-931A-4B37-ADEE-A5178097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3C1C-EE69-402F-A180-2604CB38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C41B-364B-4738-90B3-AD4C27D0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2EBF-FC47-42EE-922B-F07BC45C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B046-CA5B-436A-A806-37970A1A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A52-BBF7-4356-83C5-F7D83E6B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603D-6F15-4C76-AEEA-1FFDB140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0E81-7E04-4ED3-A1B3-3EF30B5D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DFA2-F2C5-4C05-8326-018CDCF1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9138F-A21D-48FA-837E-6754B9A9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0D81-177E-4A71-89E8-8CBB7F63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178-BC6E-455C-B727-16FD3C8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D64-07A2-4DF6-9AFF-5624A315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15C-C6D8-4ECC-938F-53AAA798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BD2-79FB-4A8B-913B-194F8326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B52-3913-430B-BD2B-7616FE5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37A-B918-4F10-889C-D2E1EA6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94A-6CBE-4FF9-9116-BF8831E8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24280" y="617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-11-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6176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EEE 802.20 Contribution # C802.20-03-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10280" y="617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0A4C-082B-45E0-8880-B43801745D2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7B86-5B89-4772-9293-EE566EE571C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8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EEE 802.20 MBWA Standard Development Projec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Presentation of Contribution C802.20-03-98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Nov-11-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"/>
              </a:rPr>
              <a:t>Dan Gal,  email: dgal@lucen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14800"/>
            <a:ext cx="822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itle: Evaluation of 802.20 Proposals – Coexistence-Affecting Characte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4598-8319-4B7E-B0BA-B9DEF4467C25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ansmitter Characteristics (3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3   Spurious Emission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ITU-R Recommendation M.329-7 [2] defines spurious emissions as “Emission on a frequency, or frequencies, which are outside the necessary bandwidth and the level of which may be reduced without affecting the corresponding transmission of information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Spurious emissions include </a:t>
            </a:r>
            <a:r>
              <a:rPr b="1" lang="en-US" sz="2400" spc="-1" strike="noStrike">
                <a:solidFill>
                  <a:srgbClr val="ffcc66"/>
                </a:solidFill>
                <a:latin typeface="TimesNewRoman,Bold"/>
              </a:rPr>
              <a:t>harmonic</a:t>
            </a:r>
            <a:r>
              <a:rPr b="1" lang="en-US" sz="2400" spc="-1" strike="noStrike">
                <a:solidFill>
                  <a:srgbClr val="ffffff"/>
                </a:solidFill>
                <a:latin typeface="TimesNewRoman,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emissions, </a:t>
            </a:r>
            <a:r>
              <a:rPr b="1" lang="en-US" sz="2400" spc="-1" strike="noStrike">
                <a:solidFill>
                  <a:srgbClr val="ffcc66"/>
                </a:solidFill>
                <a:latin typeface="TimesNewRoman,Bold"/>
              </a:rPr>
              <a:t>parasitic</a:t>
            </a:r>
            <a:r>
              <a:rPr b="1" lang="en-US" sz="2400" spc="-1" strike="noStrike">
                <a:solidFill>
                  <a:srgbClr val="ffffff"/>
                </a:solidFill>
                <a:latin typeface="TimesNewRoman,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emissions, </a:t>
            </a:r>
            <a:r>
              <a:rPr b="1" lang="en-US" sz="2400" spc="-1" strike="noStrike">
                <a:solidFill>
                  <a:srgbClr val="ffcc66"/>
                </a:solidFill>
                <a:latin typeface="TimesNewRoman,Bold"/>
              </a:rPr>
              <a:t>intermodulation</a:t>
            </a:r>
            <a:r>
              <a:rPr b="1" lang="en-US" sz="2400" spc="-1" strike="noStrike">
                <a:solidFill>
                  <a:srgbClr val="ffffff"/>
                </a:solidFill>
                <a:latin typeface="TimesNewRoman,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products and </a:t>
            </a:r>
            <a:r>
              <a:rPr b="1" lang="en-US" sz="2400" spc="-1" strike="noStrike">
                <a:solidFill>
                  <a:srgbClr val="ffcc66"/>
                </a:solidFill>
                <a:latin typeface="TimesNewRoman,Bold"/>
              </a:rPr>
              <a:t>frequency conversion</a:t>
            </a:r>
            <a:r>
              <a:rPr b="1" lang="en-US" sz="2400" spc="-1" strike="noStrike">
                <a:solidFill>
                  <a:srgbClr val="ffffff"/>
                </a:solidFill>
                <a:latin typeface="TimesNewRoman,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products bu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NewRoman"/>
              </a:rPr>
              <a:t>exclude</a:t>
            </a:r>
            <a:r>
              <a:rPr b="0" lang="en-US" sz="2400" spc="-1" strike="noStrike">
                <a:solidFill>
                  <a:srgbClr val="ffffff"/>
                </a:solidFill>
                <a:latin typeface="TimesNewRoman"/>
              </a:rPr>
              <a:t> out-of-band emissions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D0C-A737-46A8-ADEF-9E0A4AB413C8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ansmitter Characteristics (4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3.3   Spurious Emissions (cont’d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rious emissions are generated by non-linear components in the transmitter in the process of carrier signal generation, mixing, modulation and amplif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performance levels for each type of spurious emission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086-EB11-4327-A70B-CDE20083AD69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ansmitter Characteristics (5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4   Frequency Accuracy and Stability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accuracy is expressed in PPM (parts per million) and is a measure of the frequency deviation from the assigned carrier frequenc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stability is a measure of this deviation that is caused by operational time-varying factors such as temperature, humidity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frequency accuracy and stability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856-D0AC-4799-855A-BF23C4174586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eiver Characteristics (1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5   Receiver Sensitivit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[1] defines receiver sensitivity as the minimum power, measured at the antenna port, at which the frame error rate (FER) or bit error rate (BER) are below a certain specified lim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itivity is a function of the information bit rate, 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N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emperature and the receiver noise-figure (NF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receiver sensitivity levels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CB5-0B27-4124-BFAF-65025861A30B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eiver Characteristics (2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6   Intermodulation Sensitivit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as the levels of out-of-band interfering signals that when mixed in the receiver front-end,  produce an in-band third order non-linearity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receiver intermodulation sensitivity levels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A86-2454-469C-8321-C20A69671476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eiver Characteristics (3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7   Receiver Blocking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 blocking is the effect of a strong out-of-band signal, present at the input of the receiver, on the receiver’s ability to detect an in-band wanted sign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locking signal reduces the specified receiver sensitivity by a certain number of dB'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receiver blocking performance levels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621-C3F3-41F8-9555-5439C134EC9D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eiver Characteristics (4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8   Spurious Response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rious response in a receiver occurs when unwanted signals, having frequencies other than the tuned frequency, produce a receiver output as if they were wanted signa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urious response is specified in terms of the frequencies and signal levels that produce such unwanted receiver outp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receiver spurious response performance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7BD-C3DA-4D43-AC49-726F1824F0CE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eiver Characteristics (5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9   Selectivity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ver selectivity is a measure of the receiver’s ability to reject signals from adjacent channels while receiving a wanted signal on its tuned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ivity is specified as the ratio (in dB) of the adjacent channel signal level to the assigned channel signal level in which a reference BER/FER is maintain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receiver selectivity performance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0E3-BE80-4C2A-8906-AA50350D7E82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 and incorporate this contribution into the 802.20 Evaluation Criteria docum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a detailed evaluation methodology  for assessing the coexistence capability (of proposals) in a well defined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epresentative RF environment and scen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0C46-F631-4020-A49A-7226DFA66092}" type="slidenum">
              <a:t>18</a:t>
            </a:fld>
          </a:p>
        </p:txBody>
      </p:sp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urpose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lp define a criteria for evaluating the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exist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apabil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IEEE 802.20 technology proposals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2DFB-35C1-4B1A-9FB3-0E6E01161218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TU-R IMT-2000 evaluatio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F characteristics that determine a radio transceiver’s ability to coexist with other mobile radio technolog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mmenda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441-48F4-43E7-A7B8-7B5CAD2D6D87}" type="slidenum">
              <a:t>3</a:t>
            </a:fld>
          </a:p>
        </p:txBody>
      </p:sp>
    </p:spTree>
  </p:cSld>
  <p:transition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TU-R Reference Documen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1]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ommendation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M.145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KEY CHARACTERISTICS FOR THE INTERNATIONAL MOBILE TELECOMMUNICATIONS-2000 (IMT-2000) RADIO INTERFACES”</a:t>
            </a: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2]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ommendation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SM.329-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SPURIOUS EMISSIONS”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3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ommendation 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Arial"/>
              </a:rPr>
              <a:t>M.122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GUIDELINES FOR EVALUATION OF RADIO TRANSMISSION TECHNOLOGIES FOR IMT-2000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02E-D47F-4697-ABA0-EB2B58E4985D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TU-R IMT-2000’s Key Characteristic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623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MT-2000 3G Radio Transmission Technologies (RTT) evaluation process required data on key RF characteris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defined in ITU-R Recommendation. M.1455 [1]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RF characteristics that determine  a radio’s coexistence performance are highlighted below (in the next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EE6-5787-4665-BA51-8DC3274FE235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existence-Affecting Key RF Performance Characteristics (1/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623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dio Transmit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mit power &amp; emission ma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LR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urious E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quency Accuracy &amp; Stability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ACLR = Adjacent Channel Leakage (power)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E2B-43E5-439D-8601-206A1DA52937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existence-Affecting Key RF Performance Characteristics (2/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623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Radio Receiv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odulation sensi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ck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urious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v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390D-0A79-4359-AD03-40D706A1FDDA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ansmitter Characteristics (1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30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1   Emission Mask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ximum transmit power and emission mask should be stated (for both MS and BS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proposed radio technology supports severa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wer clas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y should be specified as we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emission mask(s)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663-4061-443E-9B27-6C463CC3D9ED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ransmitter Characteristics (2/5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62300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3.2   ACLR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LR is defined as the attenuation of the transmit power which is “spilled” into the adjacent channels (due to filtering imperfecti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measured relative to the carrier signal power and expressed as dBc attenuation valu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LR is a function of the frequency offset from the assigned channel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</a:rPr>
              <a:t>Test results and a statement on the specified ACLR  are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42A-29BF-4CA8-8161-F74964B548B9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3:48:02Z</dcterms:created>
  <dc:creator>Dan Gal</dc:creator>
  <dc:description/>
  <dc:language>en-US</dc:language>
  <cp:lastModifiedBy>Mark Klerer</cp:lastModifiedBy>
  <dcterms:modified xsi:type="dcterms:W3CDTF">2003-11-12T18:22:42Z</dcterms:modified>
  <cp:revision>168</cp:revision>
  <dc:subject/>
  <dc:title>Training</dc:title>
</cp:coreProperties>
</file>