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CFA-1F29-486B-97D8-50074771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5B3F-292E-4A6D-9CBE-59932451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6A2-5C4B-4A2F-94E6-4148E769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584-1C89-4D2B-908A-93951F1B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AB8C-E4E1-4083-A03C-9C626E67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B91-23E9-4B98-810D-2AD08FB5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45A-2936-4AD1-8D10-EB696C91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5F3-82F9-407E-BA2E-EF081618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DF8-F6E0-421C-B540-1D6948A7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B17-0B6E-48FB-AF8D-998B0621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C2C-206F-4588-886C-2330BC4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A73-4C7C-45AA-A9A7-8DD0BE45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A8C8-E0FA-4ABB-BB97-72D3034B4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3.wmf"/><Relationship Id="rId2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of 802.20 Channel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.20 WG Session 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2-15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iang G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, Channel Modeling Correspondenc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8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802.20-04/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Outdoor-to-Indoor and Pedestrian Deployment Model [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subscribers include both outdoor and indoor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oor coverage is to be provided by the outdoor base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quires that additional loss duo to building penetration be accommodated in the link 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door-to-Indoor MIMO Channe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MO channel matrix can be separated into a LOS matrix and a NLOS Rayleight matrix [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S matrix is an option for urban micro, outdoor-to-indoor, and indoor pico-cell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modeling will not be defined for suburban or urban macro cases duo to the low probability of occur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1640" y="2819520"/>
          <a:ext cx="243828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1640" y="2819520"/>
                    <a:ext cx="243828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door-to-Indoor MIMO Channe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NLOS case, the Ricean K factor is set to 0, thus the fading is determined by the combination of sub-r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LOS case, the Ricean K factor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d is the distance between MS and BS in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bability for LOS or NLOS depends on various environmental 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simplicity, the probability of LOS is defined to be unity at zero distance, and decreases linearly until a cutoff point, e.g, at d=433m, where the LOS probability is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00400" y="2819520"/>
          <a:ext cx="139716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2819520"/>
                    <a:ext cx="13971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25960" y="5715000"/>
          <a:ext cx="1958760" cy="3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25960" y="5715000"/>
                    <a:ext cx="19587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door-to-Indoor MIMO Channe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K-factor and shadow fading standard deviation will all be chosen based on the selected outdoor-to-indoor path, i.e., from LOS to NL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09680" y="3962520"/>
          <a:ext cx="414036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962520"/>
                    <a:ext cx="41403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 Values of MIMO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purpose of link level simulations, reference values of the average correlation are given below [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ference values are provided for the calibration of simulation soft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 Values of MIMO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14600" y="38098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98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812880" y="116064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2880" y="116064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2880" y="116064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2880" y="1160640"/>
            <a:ext cx="85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676520" y="1600200"/>
          <a:ext cx="5897520" cy="5083200"/>
        </p:xfrm>
        <a:graphic>
          <a:graphicData uri="http://schemas.openxmlformats.org/drawingml/2006/table">
            <a:tbl>
              <a:tblPr/>
              <a:tblGrid>
                <a:gridCol w="411120"/>
                <a:gridCol w="857160"/>
                <a:gridCol w="1314360"/>
                <a:gridCol w="1086120"/>
                <a:gridCol w="1028520"/>
                <a:gridCol w="1200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ntenna Spac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S (degre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OA (degre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rrelation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(magnitud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mplex Corre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96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743+0.8448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99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7367+0.6725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32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144+0.2408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6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8025+0.3158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7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0617+i0.0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50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2762-i0.41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30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30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6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77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6948-i0.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4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0861+0.431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.77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0.6948+i0.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286000" y="2362320"/>
          <a:ext cx="33012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362320"/>
                    <a:ext cx="330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286000" y="5334120"/>
          <a:ext cx="330120" cy="1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334120"/>
                    <a:ext cx="330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362320" y="5638680"/>
          <a:ext cx="330120" cy="17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5638680"/>
                    <a:ext cx="330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438280" y="6019920"/>
          <a:ext cx="330480" cy="177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6019920"/>
                    <a:ext cx="330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362320" y="6400800"/>
          <a:ext cx="330120" cy="1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62320" y="6400800"/>
                    <a:ext cx="330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362320" y="2819520"/>
          <a:ext cx="330120" cy="17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2819520"/>
                    <a:ext cx="330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362320" y="3276720"/>
          <a:ext cx="215640" cy="177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62320" y="3276720"/>
                    <a:ext cx="2156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362320" y="3809880"/>
          <a:ext cx="215640" cy="177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362320" y="3809880"/>
                    <a:ext cx="21564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362320" y="4343400"/>
          <a:ext cx="279360" cy="17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62320" y="4343400"/>
                    <a:ext cx="27936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438280" y="4876920"/>
          <a:ext cx="279360" cy="177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38280" y="4876920"/>
                    <a:ext cx="27936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 ITU-R M.1225, “Guideline for Evaluation of Radio Transmission Technologies for IMT-2000,”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802.20-PD V10, “802.20 Requirements Documen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. Medbo and P. Schramm, “Channel Models for HIPERLAN/2 in Different Indoor Scenarios”, ETSI BRAN 3ERI0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SI UMTS 30.03 V3.2.0, “Selection Procedures for the Choice of Radio Transmission Technologies of the UMTS”,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.P. Kermoal, L. Schumacher, P.E. Mogensen and K.I. Pedersen, “Experimental investigation of correlation properties of MIMO radio channels for indoor picocell scenario,“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Proc. IEEE VTC2000 F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Boston, MA, vol. 1, Sept. 2000, pp. 14-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GPP &amp; 3GPP2 SCM AHG, “Spatial Channel Model Text Description”, SCM Text V6.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of 802.20 Channel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list of key working items have been identified and sent to the email refle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굴림"/>
              </a:rPr>
              <a:t>Add Indoor Pico-cell to the MBWA channel environmen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굴림"/>
              </a:rPr>
              <a:t>Investigate the MIMO nature of Outdoor-to-Indoor mod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굴림"/>
              </a:rPr>
              <a:t>Determine the reference values of spatial channel model paramet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Determine and validate the statistical distributions of PAS and angular parameters in both CASE-IV &amp; CASE-V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vide the detailed algorithm for generating channel model parameters in various MBWA channel environmen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Investigate and determine the correlation values between channel model paramet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Model inter-cell/inter-sector interferen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ystem level calibration and implementatio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rovide the algorithm for generating channel model parameters in the case of  antenna polarization (option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oor Pico-Cell Channel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TU Indoor Office Model [1] is proposed as the MBWA Indoor Pico-cell channe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lection is consistent with the rest of MBWA channe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nvironment is characteriz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mall cell radius (approximately 100m BS-to-BS distance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d on ITU Indoor Office Deployment Model, 10000    per floor (total 10 floo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arge office building with an open floor plan layout, with1000 potential user per fl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 cubicles are separated by movable part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base stations and pedestrian users are located in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angle spread and very low delay sp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mobility (0 – 3 km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del is sensitive to antenna heights and scattering environment (such as walls, floors, and metallic structu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400800" y="3581280"/>
          <a:ext cx="216000" cy="2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3581280"/>
                    <a:ext cx="21600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h Loss Model for Indoor Pico-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oor path loss is based on the COST 231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R is the distance between BS and MS in meters, n is the number of penetrated floors (n=4 is an average for indoor office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g-normal shadow fading standard deviation of 12 dB can be expected for indoor pico-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ing ranges from Ricean to Rayleigh with Doppler frequency offsets set by walking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346560" y="2101680"/>
          <a:ext cx="2095560" cy="3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101680"/>
                    <a:ext cx="209556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centage of ITU Channe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286000"/>
          <a:ext cx="7467480" cy="3692520"/>
        </p:xfrm>
        <a:graphic>
          <a:graphicData uri="http://schemas.openxmlformats.org/drawingml/2006/table">
            <a:tbl>
              <a:tblPr/>
              <a:tblGrid>
                <a:gridCol w="1493640"/>
                <a:gridCol w="1494000"/>
                <a:gridCol w="1492200"/>
                <a:gridCol w="1493640"/>
                <a:gridCol w="1494000"/>
              </a:tblGrid>
              <a:tr h="379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nel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Delay Spread (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Occurrenc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Delay Spread (n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age of Occurrence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or Off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door-to-Indoor and Pedest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hicu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Pico-Cell Test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8440" y="-264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666880" y="1371600"/>
          <a:ext cx="4496040" cy="400536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762120"/>
                <a:gridCol w="533520"/>
                <a:gridCol w="703080"/>
                <a:gridCol w="668520"/>
              </a:tblGrid>
              <a:tr h="504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CASE-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CASE-V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D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Indoor-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Indoor-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oppler Spectr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Class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Classic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o. of Pa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ath Power (d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elay (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3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3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10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1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7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18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1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10.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26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18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32.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-25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peed (km/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or Pico-Cell Test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68440" y="-264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90880" y="605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12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52600" y="73836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68580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410080" y="5410080"/>
          <a:ext cx="2086200" cy="37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410080"/>
                    <a:ext cx="20862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219320" y="1371600"/>
          <a:ext cx="6933960" cy="4494240"/>
        </p:xfrm>
        <a:graphic>
          <a:graphicData uri="http://schemas.openxmlformats.org/drawingml/2006/table">
            <a:tbl>
              <a:tblPr/>
              <a:tblGrid>
                <a:gridCol w="2155680"/>
                <a:gridCol w="1909800"/>
                <a:gridCol w="28684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Channel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Urban Mic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Indoor P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umber of paths (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,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,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umber of sub-paths (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 per-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ean AoD at 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er-path rms AS at B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(LOS and NL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5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, 35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(LOS and NL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BS per-path PAS Distribu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aplac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U(-18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, 18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ean AoA at 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er-path rms AS at 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10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S Per-path PAS 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aplac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U(-18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, 18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ean total RMS Delay Sprea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.25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.035, 0.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istribution for path del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(0, 1.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(0, 0.3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),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U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(0, 0.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ognormal shadowing standard devi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LOS: 1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OS: 4d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LOS: 12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OS: 4d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athloss model (dB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is in me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LOS: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4.53 +38 log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1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(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OS: 30.18 + 26log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1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(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door-to-Indoo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ed to examine the ITU pedestrian model as starting point and then look into how to extrapolate it to the outdoor-to-indoo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as also a consensus that very little is known about the MIMO nature of outdoor-to-indoo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Outdoor-to-Indoor and Pedestrian Model [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 with low antenna heights, located out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ell size, low transmi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estrian users located on streets and insid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pler rate set by walking speeds, with occasional higher rates due to vehicular ref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al path loss 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ppropriate, 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encountered due to trees and other 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-normal shadow fading w/ standard deviation of 10 dB for outdoors and 12 dB for in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penetration loss averages 12 dB with a standard deviation of 8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41:33Z</dcterms:created>
  <dc:creator>Qiang Guo, Editor, Channel Modeling CG</dc:creator>
  <dc:description/>
  <dc:language>en-US</dc:language>
  <cp:lastModifiedBy>Motorola PC</cp:lastModifiedBy>
  <dcterms:modified xsi:type="dcterms:W3CDTF">2004-01-14T08:17:02Z</dcterms:modified>
  <cp:revision>168</cp:revision>
  <dc:subject/>
  <dc:title>802.20 MBWA Channel Models</dc:title>
</cp:coreProperties>
</file>