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5638680" cy="152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60345F52-80BC-40FA-9A7A-70A1ED2E6A5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97640" y="15228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802.20-04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04920" y="0"/>
          <a:ext cx="835632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563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Frame Aggreg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ltiple vocoder frames can be aggregated to form a bigger VoIP pa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Higher payload to overhead rati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cause a single set of protocol overhead applies to an aggregated pack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cket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22716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95640" y="11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9880" y="1143000"/>
          <a:ext cx="5334120" cy="51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143000"/>
                    <a:ext cx="533412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Frame Aggregation (2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1066680"/>
          <a:ext cx="7645320" cy="47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6453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947880" y="5715000"/>
            <a:ext cx="63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ing packet aggregation (bundling) over 6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ame Aggr.+Hdr. compress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533520" y="1066680"/>
          <a:ext cx="7645320" cy="47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64532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1017720" y="5715000"/>
            <a:ext cx="609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aggregation (bundling) over 6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ressed RTP/UDP/IP header: 2 bytes (16-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ce Activity Detection (VAD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Typical voice conversations contain approximately 50 percent silenc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Voice Activity Detection (VAD) sends RTP packets only when voice is detec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IA/EIA/IS-871, the voice activity factor is 0.4 with 29% full rate (8.6Kb/s), 4% half rate, 7% quarter rate and 60% eighth rate voice fra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G.729 Annex-B and G.723.1 Annex-A codecs include an integrated VAD func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Performance Metric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way packet de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cket delay includes the vocoder lookahead delay (e.g. 7.5ms for G.723.1), total air-interface delay, IP network delay and the receiver processing delay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one-way delay required to maintain good interaction between the two end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(&lt;150ms), Acceptable (150-300ms), Unacceptable (&gt;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300ms</a:t>
            </a: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ITU G.114 requiremen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lay jitter (standard deviation of delay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cessive jitter may lead to loss of packets in the receiver jitter buff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Performance Metrics (2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 loss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mission err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opped packets due to delay thresh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cket loss rate of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1%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cceptable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s rate on aggregated VoIP packet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consecutive vocoder frames are lost due to a missing aggregated VoIP fra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act of loss rate on RT/UDP/IP header compression?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oIP Traffic model required for 802.20 system capacity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del should captur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TP/UDP/IP ov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/PHY ov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s that potentially enhance capacity can be considered in the VoIP model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TP/UDP/IP header compre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ice activity detection (V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coder frame aggregation (bund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ropriate VoIP performance metrics (one-way delay, jitter and packet loss rate etc.) and corresponding target values also need to be defin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Models for 802.20 System Performance Evalua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rooq K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Interim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ncouver, BC, Can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anuary 12-16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ce over IP (VoIP)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587600" y="2581200"/>
            <a:ext cx="5852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BWA will support VoIP servic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will provide latency, jitte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packet loss required to e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industry standard Codec’s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Capacity Analysi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IP capacity can not be estimated based on raw data throughpu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ing 10Kb/s voice source, theoretical capacity of 802.11b is 11M/10K=110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55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wo-way VoIP ses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ever, in practice only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 fe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VoIP users can be supported in 802.11b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easons for such a low capacity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 payload to overhead ratio for short VoIP packets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herent inefficiency in 802.11 MA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ophisticated system simulation with appropriate VoIP model is required to accurately evaluate 802.20 system capac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oIP Packe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22716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716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981080" y="939960"/>
          <a:ext cx="5943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939960"/>
                    <a:ext cx="594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677960" y="5594400"/>
            <a:ext cx="62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VoIP packet contains vocoder fram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ious protocol h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1384200"/>
          <a:ext cx="7797960" cy="25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84200"/>
                    <a:ext cx="779796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otential Models for VoIP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rce bit rates do not assume any Voice Activity Detection (VA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ice source coders differ in terms of bit rate, number of bits per frame and the vocoder frame d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023840" y="5873760"/>
            <a:ext cx="459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RC: Enhanced Variable Rate Codec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IA/EIA/IS-12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tocol Overhea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TP/UDP/IP overh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2+8+20 =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40 by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320 bi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 overhead example – 802.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C header size: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34 by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272 bi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 header size: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24 by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192 bit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02.16 has a smaller MAC overh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16-bit connection identifier (CID) is used to identify a session in place of 48-bit MAC addresses in 802.1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valuation of 802.20, some of the MAC/PHY overhead would be proposal depend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e MAC/PHY desig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ffect of protocol overhea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38080" y="1523880"/>
          <a:ext cx="7493040" cy="39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493040" cy="39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1271520" y="5257800"/>
            <a:ext cx="646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coders with larger frame duration suffer les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 packet protocol overh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TP/UDP/IP Hdr. compress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523880"/>
          <a:ext cx="772164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72164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066320" y="5257800"/>
            <a:ext cx="636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ing 40-bytes RTP/UDP/IP header compr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 to only 2-bytes (16-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Farooq</cp:lastModifiedBy>
  <dcterms:modified xsi:type="dcterms:W3CDTF">2004-01-12T19:52:18Z</dcterms:modified>
  <cp:revision>286</cp:revision>
  <dc:subject/>
  <dc:title>Evaluation Methodology for 802.20 MBWA</dc:title>
</cp:coreProperties>
</file>