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5638680" cy="152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15200" y="6324480"/>
            <a:ext cx="10666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fld id="{5F28F0D5-4982-4EE3-A42E-F0569EBADDE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97640" y="15228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802.20-04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0"/>
          <a:ext cx="835632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35632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ased Approach for Technology Evalu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agreed in principle to adopt a phased approach for technology evalu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with lowest complexity simulations and incrementally add more detai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-4 phases may be specif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tails of the various phases are TB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802.20 Evaluation Criteria Updat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rooq K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EEE 802.20 Interim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couver, BC, Can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nuary 12-16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valuation Criteria Statu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conference calls (12/16 and 1/6) since the November Plen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scussion focused on the following item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face between link and system simul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stem simulation calib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of various channel bandwidth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rness crit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ased approach for technology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ink-system Interface (LSI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valuation criteria would specify an acceptable interface between link and system simulation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needed because the link and system simulations are performed separately (the simulation complexity would be very high if joint link and system simulations are required)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discussed 2 potential solutions to the link-system interfa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actual link cur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fy an LSI method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as also pointed out that the group may not need to specify any link-system interface at all. It can be left to individual proposals to justify and validate the link-system interface used in the simul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Use actual link curv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is option, link curves are produced for each of the coding, modulation and channel model combin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hannel models currently being specified in the channel modeling correspondence group are based on a stochastic approach and therefore results in infinite combinations making this approach impracti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fore, if the link curve approach is to be used, we need to have a small set (4-5) of discrete channel mode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pecify an LSI methodolog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this option, a single AWGN curve (or a small set of curves) is used as refer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eviations ("fudge factors") from this reference curve for different coding, modulations and channel model realizations are determined based on some analytical formul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ystem simulation calibr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valuation criteria would specify a system simulation calibration proc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it is not clear, at this stage, to what level of detail different simulations need to be calibrat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is open to proposals to nail down the calibration specific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ulation of various channel bandwidth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bjective of the evaluation criteria group is to have a small number of preferred channel bandwidths for simulation purpo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ever, people will be free to simulate the full set of channel bandwidth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this point, it seems too early to specify this small set of channel bandwidths for sim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was also discussed that a small number of spectrum allocation (over which the results are quoted) can be specif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dividual technology proposals may then split the total spectrum into a given number of carriers  w/ reuse of 1 or greater than 1 (if needed by the technology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airness criteri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irness criteria based on the normalized throughput currently specified in the document may apply to only a subset of applications such as full buffers cas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alues used in the fairness criteria CDF curve may need to be revisit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dividual fairness criteria (or outage criteria) would be needed on a application by application basis in the absence of the fairness criteria based on normalized throughp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roup also discussed the possibility of using fairness as the performance metric rather than as a constrai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rness metric would be provided as output of the sim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21:55:05Z</dcterms:created>
  <dc:creator>Farooq Khan</dc:creator>
  <dc:description/>
  <dc:language>en-US</dc:language>
  <cp:lastModifiedBy>Farooq</cp:lastModifiedBy>
  <dcterms:modified xsi:type="dcterms:W3CDTF">2004-01-12T19:20:39Z</dcterms:modified>
  <cp:revision>321</cp:revision>
  <dc:subject/>
  <dc:title>Evaluation Methodology for 802.20 MBWA</dc:title>
</cp:coreProperties>
</file>