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5638680" cy="152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15200" y="6324480"/>
            <a:ext cx="10666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fld id="{4DB916B2-EDA9-4BBE-9071-B7A469C886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97640" y="15228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802.20-04/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0"/>
          <a:ext cx="835632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5632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ireless Gaming traffic mod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reless multi-party wireless gaming is an important application that needs to be considered in 802.20 system eval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required on mobile wireless gaming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r scenario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discussed if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the user scenarios (Laptop, PDA, Smart phone, machine-to-machine) need to be considered 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a subset of the user scenarios can be simulat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order to capture different user scenarios, parameters values of some traffic models (e.g. web browsing) would be adapted to the user sc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xample, heavy, medium or light web browsing appli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02.20 Traffic Models Upda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rooq K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EEE 802.20 Interim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couver, BC, Can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 12-16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ffic Models Statu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ce conference call (12/2) since the November Ple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cussion focused on the following ite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ication of traffic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layer protocol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TP traffic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 buffers (Infinite backlog) mode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e station buffer size consid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IP Traffic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reless multi-party Gaming traffic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scen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cification of traffic mix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ffic modeling group foresees scenarios where various traffic types are simulated simultaneous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only a list of traffic types is provide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sue of percentage of various traffic types in a mixed scenario is still open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ions invited on possible traffic mix scenarios (percentage of different traffic types) and potential phases of simulatio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igher layer protocol model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on higher layer protocols for applications other than web brows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web browsing application, the consensus is to use HTTP/1.1 protoco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TP traffic mod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discussed if the current model is a realistic representation of an FTP user behavior in practi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articular, it was questioned if "think time" applies to the FTP model the same way as the web browsing mod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FTP, another request can be generated while the previous file is downloading in the backgroun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ions on whether we need to modify the existing FTP traffic mode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ll buffers mod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 buffers is currently not considered as a traffic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on whether we need to include a simulation case with Full buffers traffic on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xample, a first stage simulation for “calibration” purpose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bile station buffer siz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discussed if the mobile station buffer size limitations need to be considered in the evaluation pha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options were pointed ou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ing a maximum buffer size constraint 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ing infinite buffer size with average and distribution of buffer occupancy collected as output metric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as also mentioned that requirements on delay and jitter may already capture the buffer limitation aspect and it is not necessary to include any buffer size constraint separate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P Traffic mod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P is one of the traffic types to be simulated in the 802.20 eval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, there is no model specified for the VoIP traffic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ibutions are invited on potential VoIP models suitable for 802.20 air-interface eval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21:55:05Z</dcterms:created>
  <dc:creator>Farooq Khan</dc:creator>
  <dc:description/>
  <dc:language>en-US</dc:language>
  <cp:lastModifiedBy>Farooq</cp:lastModifiedBy>
  <dcterms:modified xsi:type="dcterms:W3CDTF">2004-01-12T21:06:59Z</dcterms:modified>
  <cp:revision>308</cp:revision>
  <dc:subject/>
  <dc:title>Evaluation Methodology for 802.20 MBWA</dc:title>
</cp:coreProperties>
</file>