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01194-F138-4ED5-9B52-0D4C686D1D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9DEC0-9C00-4434-8E01-7F66540E7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BC272-564E-4018-A7E2-E3C9B2F23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F05F6-B18C-4E0D-A3C5-D115F0A0A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9E105-F44B-481D-8FB1-7CDE5F4E3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DE9D2-7C3F-420E-8E19-27C133218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D8359-40A1-4C93-B9F2-47388F38E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C06AD-697E-4663-9E20-08AE14B02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C1C74-C8D9-4DA0-9DBA-84EE33BD2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75DB5-764A-4B3E-83E5-934CFFE2F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4632C-7FDC-4BA1-8466-86465C6E7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A1CBC-06C0-4A16-8643-6E2B024FF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5F166-E107-43DB-B8EE-E836775C27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http://grouper.ieee.org/groups/802/20/" TargetMode="External"/><Relationship Id="rId3" Type="http://schemas.openxmlformats.org/officeDocument/2006/relationships/hyperlink" Target="http://grouper.ieee.org/groups/802/20/" TargetMode="External"/><Relationship Id="rId4" Type="http://schemas.openxmlformats.org/officeDocument/2006/relationships/hyperlink" Target="http://standards.ieee.org/guides/opman/sect6.html#6.3" TargetMode="External"/><Relationship Id="rId5" Type="http://schemas.openxmlformats.org/officeDocument/2006/relationships/hyperlink" Target="http://standards.ieee.org/guides/opman/sect6.html#6.3" TargetMode="External"/><Relationship Id="rId6" Type="http://schemas.openxmlformats.org/officeDocument/2006/relationships/hyperlink" Target="http://standards.ieee.org/guides/opman/sect6.html#6.3" TargetMode="External"/><Relationship Id="rId7" Type="http://schemas.openxmlformats.org/officeDocument/2006/relationships/hyperlink" Target="http://standards.ieee.org/guides/opman/sect6.html#6.3" TargetMode="External"/><Relationship Id="rId8" Type="http://schemas.openxmlformats.org/officeDocument/2006/relationships/hyperlink" Target="http://standards.ieee.org/guides/opman/sect6.html#6.3" TargetMode="External"/><Relationship Id="rId9" Type="http://schemas.openxmlformats.org/officeDocument/2006/relationships/hyperlink" Target="http://standards.ieee.org/guides/opman/sect6.html#6.3" TargetMode="External"/><Relationship Id="rId10" Type="http://schemas.openxmlformats.org/officeDocument/2006/relationships/hyperlink" Target="http://standards.ieee.org/board/pat/guide.html" TargetMode="External"/><Relationship Id="rId11" Type="http://schemas.openxmlformats.org/officeDocument/2006/relationships/hyperlink" Target="http://standards.ieee.org/board/pat/guide.html" TargetMode="External"/><Relationship Id="rId12" Type="http://schemas.openxmlformats.org/officeDocument/2006/relationships/hyperlink" Target="http://standards.ieee.org/board/pat/guide.html" TargetMode="External"/><Relationship Id="rId1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 y="757728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2" name=""/>
          <p:cNvGrpSpPr/>
          <p:nvPr/>
        </p:nvGrpSpPr>
        <p:grpSpPr>
          <a:xfrm>
            <a:off x="990720" y="380880"/>
            <a:ext cx="6933960" cy="5867640"/>
            <a:chOff x="990720" y="380880"/>
            <a:chExt cx="6933960" cy="5867640"/>
          </a:xfrm>
        </p:grpSpPr>
        <p:grpSp>
          <p:nvGrpSpPr>
            <p:cNvPr id="43" name=""/>
            <p:cNvGrpSpPr/>
            <p:nvPr/>
          </p:nvGrpSpPr>
          <p:grpSpPr>
            <a:xfrm>
              <a:off x="995040" y="383760"/>
              <a:ext cx="6924600" cy="5861160"/>
              <a:chOff x="995040" y="383760"/>
              <a:chExt cx="6924600" cy="5861160"/>
            </a:xfrm>
          </p:grpSpPr>
          <p:grpSp>
            <p:nvGrpSpPr>
              <p:cNvPr id="44" name=""/>
              <p:cNvGrpSpPr/>
              <p:nvPr/>
            </p:nvGrpSpPr>
            <p:grpSpPr>
              <a:xfrm>
                <a:off x="995040" y="383760"/>
                <a:ext cx="983880" cy="539640"/>
                <a:chOff x="995040" y="383760"/>
                <a:chExt cx="983880" cy="539640"/>
              </a:xfrm>
            </p:grpSpPr>
            <p:sp>
              <p:nvSpPr>
                <p:cNvPr id="45" name=""/>
                <p:cNvSpPr/>
                <p:nvPr/>
              </p:nvSpPr>
              <p:spPr>
                <a:xfrm>
                  <a:off x="1062720" y="383760"/>
                  <a:ext cx="848520" cy="53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j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 name=""/>
                <p:cNvSpPr/>
                <p:nvPr/>
              </p:nvSpPr>
              <p:spPr>
                <a:xfrm>
                  <a:off x="995040" y="383760"/>
                  <a:ext cx="98388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 name=""/>
              <p:cNvGrpSpPr/>
              <p:nvPr/>
            </p:nvGrpSpPr>
            <p:grpSpPr>
              <a:xfrm>
                <a:off x="1978920" y="383760"/>
                <a:ext cx="5940720" cy="539640"/>
                <a:chOff x="1978920" y="383760"/>
                <a:chExt cx="5940720" cy="539640"/>
              </a:xfrm>
            </p:grpSpPr>
            <p:sp>
              <p:nvSpPr>
                <p:cNvPr id="48" name=""/>
                <p:cNvSpPr/>
                <p:nvPr/>
              </p:nvSpPr>
              <p:spPr>
                <a:xfrm>
                  <a:off x="2046600" y="383760"/>
                  <a:ext cx="5805000" cy="53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EEE 802.20 Working Group on Mobile Broadband Wireless Acces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t;</a:t>
                  </a:r>
                  <a:r>
                    <a:rPr b="0" lang="en-US" sz="1200" spc="-1" strike="noStrike" u="sng">
                      <a:solidFill>
                        <a:srgbClr val="ccccff"/>
                      </a:solidFill>
                      <a:uFillTx/>
                      <a:latin typeface="Times New Roman"/>
                      <a:ea typeface="Times New Roman"/>
                      <a:hlinkClick r:id="rId1"/>
                    </a:rPr>
                    <a:t>http://grouper.</a:t>
                  </a:r>
                  <a:r>
                    <a:rPr b="0" lang="en-US" sz="1200" spc="-1" strike="noStrike" u="sng">
                      <a:solidFill>
                        <a:srgbClr val="ccccff"/>
                      </a:solidFill>
                      <a:uFillTx/>
                      <a:latin typeface="Times New Roman"/>
                      <a:ea typeface="Times New Roman"/>
                      <a:hlinkClick r:id="rId2"/>
                    </a:rPr>
                    <a:t>ieee</a:t>
                  </a:r>
                  <a:r>
                    <a:rPr b="0" lang="en-US" sz="1200" spc="-1" strike="noStrike" u="sng">
                      <a:solidFill>
                        <a:srgbClr val="ccccff"/>
                      </a:solidFill>
                      <a:uFillTx/>
                      <a:latin typeface="Times New Roman"/>
                      <a:ea typeface="Times New Roman"/>
                      <a:hlinkClick r:id="rId3"/>
                    </a:rPr>
                    <a:t>.org/groups/802/20/</a:t>
                  </a:r>
                  <a:r>
                    <a:rPr b="1" lang="en-US" sz="1200" spc="-1" strike="noStrike">
                      <a:solidFill>
                        <a:srgbClr val="000000"/>
                      </a:solidFill>
                      <a:latin typeface="Times New Roman"/>
                      <a:ea typeface="Times New Roman"/>
                    </a:rPr>
                    <a:t>&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 name=""/>
                <p:cNvSpPr/>
                <p:nvPr/>
              </p:nvSpPr>
              <p:spPr>
                <a:xfrm>
                  <a:off x="1978920" y="383760"/>
                  <a:ext cx="5940720" cy="53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 name=""/>
              <p:cNvGrpSpPr/>
              <p:nvPr/>
            </p:nvGrpSpPr>
            <p:grpSpPr>
              <a:xfrm>
                <a:off x="995040" y="923400"/>
                <a:ext cx="983880" cy="419760"/>
                <a:chOff x="995040" y="923400"/>
                <a:chExt cx="983880" cy="419760"/>
              </a:xfrm>
            </p:grpSpPr>
            <p:sp>
              <p:nvSpPr>
                <p:cNvPr id="51" name=""/>
                <p:cNvSpPr/>
                <p:nvPr/>
              </p:nvSpPr>
              <p:spPr>
                <a:xfrm>
                  <a:off x="1062720" y="923400"/>
                  <a:ext cx="848520" cy="41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t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 name=""/>
                <p:cNvSpPr/>
                <p:nvPr/>
              </p:nvSpPr>
              <p:spPr>
                <a:xfrm>
                  <a:off x="995040" y="923400"/>
                  <a:ext cx="98388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1978920" y="923400"/>
                <a:ext cx="5940720" cy="419760"/>
                <a:chOff x="1978920" y="923400"/>
                <a:chExt cx="5940720" cy="419760"/>
              </a:xfrm>
            </p:grpSpPr>
            <p:sp>
              <p:nvSpPr>
                <p:cNvPr id="54" name=""/>
                <p:cNvSpPr/>
                <p:nvPr/>
              </p:nvSpPr>
              <p:spPr>
                <a:xfrm>
                  <a:off x="2046600" y="923400"/>
                  <a:ext cx="5805000" cy="41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iaison relationships with external organiz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 name=""/>
                <p:cNvSpPr/>
                <p:nvPr/>
              </p:nvSpPr>
              <p:spPr>
                <a:xfrm>
                  <a:off x="1978920" y="923400"/>
                  <a:ext cx="594072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 name=""/>
              <p:cNvGrpSpPr/>
              <p:nvPr/>
            </p:nvGrpSpPr>
            <p:grpSpPr>
              <a:xfrm>
                <a:off x="995040" y="1343520"/>
                <a:ext cx="983880" cy="540000"/>
                <a:chOff x="995040" y="1343520"/>
                <a:chExt cx="983880" cy="540000"/>
              </a:xfrm>
            </p:grpSpPr>
            <p:sp>
              <p:nvSpPr>
                <p:cNvPr id="57" name=""/>
                <p:cNvSpPr/>
                <p:nvPr/>
              </p:nvSpPr>
              <p:spPr>
                <a:xfrm>
                  <a:off x="1062720" y="1343520"/>
                  <a:ext cx="848520" cy="54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e Submit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 name=""/>
                <p:cNvSpPr/>
                <p:nvPr/>
              </p:nvSpPr>
              <p:spPr>
                <a:xfrm>
                  <a:off x="995040" y="1343520"/>
                  <a:ext cx="983880" cy="54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1978920" y="1343520"/>
                <a:ext cx="5940720" cy="540000"/>
                <a:chOff x="1978920" y="1343520"/>
                <a:chExt cx="5940720" cy="540000"/>
              </a:xfrm>
            </p:grpSpPr>
            <p:sp>
              <p:nvSpPr>
                <p:cNvPr id="60" name=""/>
                <p:cNvSpPr/>
                <p:nvPr/>
              </p:nvSpPr>
              <p:spPr>
                <a:xfrm>
                  <a:off x="2046600" y="1343520"/>
                  <a:ext cx="5805000" cy="54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4-01-1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1978920" y="1343520"/>
                  <a:ext cx="5940720" cy="54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995040" y="1883880"/>
                <a:ext cx="983880" cy="779400"/>
                <a:chOff x="995040" y="1883880"/>
                <a:chExt cx="983880" cy="779400"/>
              </a:xfrm>
            </p:grpSpPr>
            <p:sp>
              <p:nvSpPr>
                <p:cNvPr id="63" name=""/>
                <p:cNvSpPr/>
                <p:nvPr/>
              </p:nvSpPr>
              <p:spPr>
                <a:xfrm>
                  <a:off x="1062720" y="1883880"/>
                  <a:ext cx="848520" cy="77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 name=""/>
                <p:cNvSpPr/>
                <p:nvPr/>
              </p:nvSpPr>
              <p:spPr>
                <a:xfrm>
                  <a:off x="995040" y="1883880"/>
                  <a:ext cx="983880" cy="77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1978920" y="1883880"/>
                <a:ext cx="2568600" cy="779400"/>
                <a:chOff x="1978920" y="1883880"/>
                <a:chExt cx="2568600" cy="779400"/>
              </a:xfrm>
            </p:grpSpPr>
            <p:sp>
              <p:nvSpPr>
                <p:cNvPr id="66" name=""/>
                <p:cNvSpPr/>
                <p:nvPr/>
              </p:nvSpPr>
              <p:spPr>
                <a:xfrm>
                  <a:off x="2046600" y="1883880"/>
                  <a:ext cx="2432880" cy="77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shwar Pittampalli </a:t>
                  </a:r>
                  <a:br>
                    <a:rPr sz="1200"/>
                  </a:br>
                  <a:r>
                    <a:rPr b="1" i="1" lang="en-US" sz="1000" spc="-1" strike="noStrike">
                      <a:solidFill>
                        <a:srgbClr val="000000"/>
                      </a:solidFill>
                      <a:latin typeface="Times New Roman"/>
                      <a:ea typeface="Times New Roman"/>
                    </a:rPr>
                    <a:t>IEEE 802.20 Liaison Vice Chair</a:t>
                  </a:r>
                  <a:r>
                    <a:rPr b="0" lang="en-US" sz="1200" spc="-1" strike="noStrike">
                      <a:solidFill>
                        <a:srgbClr val="000000"/>
                      </a:solidFill>
                      <a:latin typeface="Times New Roman"/>
                      <a:ea typeface="Times New Roman"/>
                    </a:rPr>
                    <a:t>            67 Whippany Road                  Whippany, NJ 0798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
                <p:cNvSpPr/>
                <p:nvPr/>
              </p:nvSpPr>
              <p:spPr>
                <a:xfrm>
                  <a:off x="1978920" y="1883880"/>
                  <a:ext cx="2568600" cy="77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4547520" y="1883880"/>
                <a:ext cx="3371760" cy="779400"/>
                <a:chOff x="4547520" y="1883880"/>
                <a:chExt cx="3371760" cy="779400"/>
              </a:xfrm>
            </p:grpSpPr>
            <p:sp>
              <p:nvSpPr>
                <p:cNvPr id="69" name=""/>
                <p:cNvSpPr/>
                <p:nvPr/>
              </p:nvSpPr>
              <p:spPr>
                <a:xfrm>
                  <a:off x="4615200" y="1883880"/>
                  <a:ext cx="3236040" cy="77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oice: 1-973-386-2908</a:t>
                  </a:r>
                  <a:br>
                    <a:rPr sz="1200"/>
                  </a:br>
                  <a:r>
                    <a:rPr b="0" lang="en-US" sz="1200" spc="-1" strike="noStrike">
                      <a:solidFill>
                        <a:srgbClr val="000000"/>
                      </a:solidFill>
                      <a:latin typeface="Times New Roman"/>
                      <a:ea typeface="Times New Roman"/>
                    </a:rPr>
                    <a:t>Fax:  1-973-386-4555</a:t>
                  </a:r>
                  <a:br>
                    <a:rPr sz="1200"/>
                  </a:br>
                  <a:r>
                    <a:rPr b="0" lang="en-US" sz="1200" spc="-1" strike="noStrike">
                      <a:solidFill>
                        <a:srgbClr val="000000"/>
                      </a:solidFill>
                      <a:latin typeface="Times New Roman"/>
                      <a:ea typeface="Times New Roman"/>
                    </a:rPr>
                    <a:t>Email: pittampalli@lucent.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
                <p:cNvSpPr/>
                <p:nvPr/>
              </p:nvSpPr>
              <p:spPr>
                <a:xfrm>
                  <a:off x="4547520" y="1883880"/>
                  <a:ext cx="3371760" cy="77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995040" y="2663280"/>
                <a:ext cx="983880" cy="419760"/>
                <a:chOff x="995040" y="2663280"/>
                <a:chExt cx="983880" cy="419760"/>
              </a:xfrm>
            </p:grpSpPr>
            <p:sp>
              <p:nvSpPr>
                <p:cNvPr id="72" name=""/>
                <p:cNvSpPr/>
                <p:nvPr/>
              </p:nvSpPr>
              <p:spPr>
                <a:xfrm>
                  <a:off x="1062720" y="2663280"/>
                  <a:ext cx="848520" cy="41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
                <p:cNvSpPr/>
                <p:nvPr/>
              </p:nvSpPr>
              <p:spPr>
                <a:xfrm>
                  <a:off x="995040" y="2663280"/>
                  <a:ext cx="98388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1978920" y="2663280"/>
                <a:ext cx="5940720" cy="419760"/>
                <a:chOff x="1978920" y="2663280"/>
                <a:chExt cx="5940720" cy="419760"/>
              </a:xfrm>
            </p:grpSpPr>
            <p:sp>
              <p:nvSpPr>
                <p:cNvPr id="75" name=""/>
                <p:cNvSpPr/>
                <p:nvPr/>
              </p:nvSpPr>
              <p:spPr>
                <a:xfrm>
                  <a:off x="2046600" y="2663280"/>
                  <a:ext cx="5805000" cy="41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BWA Call for Contribu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
                <p:cNvSpPr/>
                <p:nvPr/>
              </p:nvSpPr>
              <p:spPr>
                <a:xfrm>
                  <a:off x="1978920" y="2663280"/>
                  <a:ext cx="594072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995040" y="3083400"/>
                <a:ext cx="983880" cy="419760"/>
                <a:chOff x="995040" y="3083400"/>
                <a:chExt cx="983880" cy="419760"/>
              </a:xfrm>
            </p:grpSpPr>
            <p:sp>
              <p:nvSpPr>
                <p:cNvPr id="78" name=""/>
                <p:cNvSpPr/>
                <p:nvPr/>
              </p:nvSpPr>
              <p:spPr>
                <a:xfrm>
                  <a:off x="1062720" y="3083400"/>
                  <a:ext cx="848520" cy="41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stra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
                <p:cNvSpPr/>
                <p:nvPr/>
              </p:nvSpPr>
              <p:spPr>
                <a:xfrm>
                  <a:off x="995040" y="3083400"/>
                  <a:ext cx="98388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978920" y="3083400"/>
                <a:ext cx="5940720" cy="419760"/>
                <a:chOff x="1978920" y="3083400"/>
                <a:chExt cx="5940720" cy="419760"/>
              </a:xfrm>
            </p:grpSpPr>
            <p:sp>
              <p:nvSpPr>
                <p:cNvPr id="81" name=""/>
                <p:cNvSpPr/>
                <p:nvPr/>
              </p:nvSpPr>
              <p:spPr>
                <a:xfrm>
                  <a:off x="2046600" y="3083400"/>
                  <a:ext cx="5805000" cy="41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view and adop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
                <p:cNvSpPr/>
                <p:nvPr/>
              </p:nvSpPr>
              <p:spPr>
                <a:xfrm>
                  <a:off x="1978920" y="3083400"/>
                  <a:ext cx="5940720" cy="419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995040" y="3503520"/>
                <a:ext cx="983880" cy="540000"/>
                <a:chOff x="995040" y="3503520"/>
                <a:chExt cx="983880" cy="540000"/>
              </a:xfrm>
            </p:grpSpPr>
            <p:sp>
              <p:nvSpPr>
                <p:cNvPr id="84" name=""/>
                <p:cNvSpPr/>
                <p:nvPr/>
              </p:nvSpPr>
              <p:spPr>
                <a:xfrm>
                  <a:off x="1062720" y="3503520"/>
                  <a:ext cx="848520" cy="54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urpo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995040" y="3503520"/>
                  <a:ext cx="983880" cy="54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1978920" y="3503520"/>
                <a:ext cx="5940720" cy="540000"/>
                <a:chOff x="1978920" y="3503520"/>
                <a:chExt cx="5940720" cy="540000"/>
              </a:xfrm>
            </p:grpSpPr>
            <p:sp>
              <p:nvSpPr>
                <p:cNvPr id="87" name=""/>
                <p:cNvSpPr/>
                <p:nvPr/>
              </p:nvSpPr>
              <p:spPr>
                <a:xfrm>
                  <a:off x="2046600" y="3503520"/>
                  <a:ext cx="5805000" cy="540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stablish liaison relationships with external standards developing organizations (SDO) for exchange of information of mutual inter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
                <p:cNvSpPr/>
                <p:nvPr/>
              </p:nvSpPr>
              <p:spPr>
                <a:xfrm>
                  <a:off x="1978920" y="3503520"/>
                  <a:ext cx="5940720" cy="540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995040" y="4043520"/>
                <a:ext cx="983880" cy="700200"/>
                <a:chOff x="995040" y="4043520"/>
                <a:chExt cx="983880" cy="700200"/>
              </a:xfrm>
            </p:grpSpPr>
            <p:sp>
              <p:nvSpPr>
                <p:cNvPr id="90" name=""/>
                <p:cNvSpPr/>
                <p:nvPr/>
              </p:nvSpPr>
              <p:spPr>
                <a:xfrm>
                  <a:off x="1062720" y="4043520"/>
                  <a:ext cx="848520" cy="70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
                <p:cNvSpPr/>
                <p:nvPr/>
              </p:nvSpPr>
              <p:spPr>
                <a:xfrm>
                  <a:off x="995040" y="4043520"/>
                  <a:ext cx="983880" cy="70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1978920" y="4043520"/>
                <a:ext cx="5940720" cy="700200"/>
                <a:chOff x="1978920" y="4043520"/>
                <a:chExt cx="5940720" cy="700200"/>
              </a:xfrm>
            </p:grpSpPr>
            <p:sp>
              <p:nvSpPr>
                <p:cNvPr id="93" name=""/>
                <p:cNvSpPr/>
                <p:nvPr/>
              </p:nvSpPr>
              <p:spPr>
                <a:xfrm>
                  <a:off x="2046600" y="4043520"/>
                  <a:ext cx="5805000" cy="70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 name=""/>
                <p:cNvSpPr/>
                <p:nvPr/>
              </p:nvSpPr>
              <p:spPr>
                <a:xfrm>
                  <a:off x="1978920" y="4043520"/>
                  <a:ext cx="5940720" cy="700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995040" y="4744080"/>
                <a:ext cx="983880" cy="900360"/>
                <a:chOff x="995040" y="4744080"/>
                <a:chExt cx="983880" cy="900360"/>
              </a:xfrm>
            </p:grpSpPr>
            <p:sp>
              <p:nvSpPr>
                <p:cNvPr id="96" name=""/>
                <p:cNvSpPr/>
                <p:nvPr/>
              </p:nvSpPr>
              <p:spPr>
                <a:xfrm>
                  <a:off x="1062720" y="4744080"/>
                  <a:ext cx="848520" cy="90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le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
                <p:cNvSpPr/>
                <p:nvPr/>
              </p:nvSpPr>
              <p:spPr>
                <a:xfrm>
                  <a:off x="995040" y="4744080"/>
                  <a:ext cx="983880" cy="900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978920" y="4744080"/>
                <a:ext cx="5940720" cy="900360"/>
                <a:chOff x="1978920" y="4744080"/>
                <a:chExt cx="5940720" cy="900360"/>
              </a:xfrm>
            </p:grpSpPr>
            <p:sp>
              <p:nvSpPr>
                <p:cNvPr id="99" name=""/>
                <p:cNvSpPr/>
                <p:nvPr/>
              </p:nvSpPr>
              <p:spPr>
                <a:xfrm>
                  <a:off x="2046600" y="4744080"/>
                  <a:ext cx="5805000" cy="90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0" name=""/>
                <p:cNvSpPr/>
                <p:nvPr/>
              </p:nvSpPr>
              <p:spPr>
                <a:xfrm>
                  <a:off x="1978920" y="4744080"/>
                  <a:ext cx="5940720" cy="900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995040" y="5644800"/>
                <a:ext cx="983880" cy="600120"/>
                <a:chOff x="995040" y="5644800"/>
                <a:chExt cx="983880" cy="600120"/>
              </a:xfrm>
            </p:grpSpPr>
            <p:sp>
              <p:nvSpPr>
                <p:cNvPr id="102" name=""/>
                <p:cNvSpPr/>
                <p:nvPr/>
              </p:nvSpPr>
              <p:spPr>
                <a:xfrm>
                  <a:off x="1062720" y="5644800"/>
                  <a:ext cx="848520" cy="600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tent Polic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995040" y="5644800"/>
                  <a:ext cx="983880" cy="60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1978920" y="5644800"/>
                <a:ext cx="5940720" cy="600120"/>
                <a:chOff x="1978920" y="5644800"/>
                <a:chExt cx="5940720" cy="600120"/>
              </a:xfrm>
            </p:grpSpPr>
            <p:sp>
              <p:nvSpPr>
                <p:cNvPr id="105" name=""/>
                <p:cNvSpPr/>
                <p:nvPr/>
              </p:nvSpPr>
              <p:spPr>
                <a:xfrm>
                  <a:off x="2046600" y="5644800"/>
                  <a:ext cx="5805000" cy="600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ea typeface="Times New Roman"/>
                    </a:rPr>
                    <a:t>The contributor is familiar with IEEE patent policy, as outlined in </a:t>
                  </a:r>
                  <a:r>
                    <a:rPr b="0" lang="en-US" sz="1000" spc="-1" strike="noStrike" u="sng">
                      <a:solidFill>
                        <a:srgbClr val="ccccff"/>
                      </a:solidFill>
                      <a:uFillTx/>
                      <a:latin typeface="Times New Roman"/>
                      <a:ea typeface="Times New Roman"/>
                      <a:hlinkClick r:id="rId4"/>
                    </a:rPr>
                    <a:t>Section 6.3 of the IEEE-SA Standards Board Operations Manual</a:t>
                  </a:r>
                  <a:r>
                    <a:rPr b="0" lang="en-US" sz="1000" spc="-1" strike="noStrike">
                      <a:solidFill>
                        <a:srgbClr val="000099"/>
                      </a:solidFill>
                      <a:latin typeface="Times New Roman"/>
                      <a:ea typeface="Times New Roman"/>
                    </a:rPr>
                    <a:t> &lt;</a:t>
                  </a:r>
                  <a:r>
                    <a:rPr b="0" lang="en-US" sz="1000" spc="-1" strike="noStrike" u="sng">
                      <a:solidFill>
                        <a:srgbClr val="ccccff"/>
                      </a:solidFill>
                      <a:uFillTx/>
                      <a:latin typeface="Times New Roman"/>
                      <a:ea typeface="Times New Roman"/>
                      <a:hlinkClick r:id="rId5"/>
                    </a:rPr>
                    <a:t>http://standards.</a:t>
                  </a:r>
                  <a:r>
                    <a:rPr b="0" lang="en-US" sz="1000" spc="-1" strike="noStrike" u="sng">
                      <a:solidFill>
                        <a:srgbClr val="ccccff"/>
                      </a:solidFill>
                      <a:uFillTx/>
                      <a:latin typeface="Times New Roman"/>
                      <a:ea typeface="Times New Roman"/>
                      <a:hlinkClick r:id="rId6"/>
                    </a:rPr>
                    <a:t>ieee</a:t>
                  </a:r>
                  <a:r>
                    <a:rPr b="0" lang="en-US" sz="1000" spc="-1" strike="noStrike" u="sng">
                      <a:solidFill>
                        <a:srgbClr val="ccccff"/>
                      </a:solidFill>
                      <a:uFillTx/>
                      <a:latin typeface="Times New Roman"/>
                      <a:ea typeface="Times New Roman"/>
                      <a:hlinkClick r:id="rId7"/>
                    </a:rPr>
                    <a:t>.org/guides/</a:t>
                  </a:r>
                  <a:r>
                    <a:rPr b="0" lang="en-US" sz="1000" spc="-1" strike="noStrike" u="sng">
                      <a:solidFill>
                        <a:srgbClr val="ccccff"/>
                      </a:solidFill>
                      <a:uFillTx/>
                      <a:latin typeface="Times New Roman"/>
                      <a:ea typeface="Times New Roman"/>
                      <a:hlinkClick r:id="rId8"/>
                    </a:rPr>
                    <a:t>opman</a:t>
                  </a:r>
                  <a:r>
                    <a:rPr b="0" lang="en-US" sz="1000" spc="-1" strike="noStrike" u="sng">
                      <a:solidFill>
                        <a:srgbClr val="ccccff"/>
                      </a:solidFill>
                      <a:uFillTx/>
                      <a:latin typeface="Times New Roman"/>
                      <a:ea typeface="Times New Roman"/>
                      <a:hlinkClick r:id="rId9"/>
                    </a:rPr>
                    <a:t>/sect6.html#6.3</a:t>
                  </a:r>
                  <a:r>
                    <a:rPr b="0" lang="en-US" sz="1000" spc="-1" strike="noStrike">
                      <a:solidFill>
                        <a:srgbClr val="000099"/>
                      </a:solidFill>
                      <a:latin typeface="Times New Roman"/>
                      <a:ea typeface="Times New Roman"/>
                    </a:rPr>
                    <a:t>&gt; and in </a:t>
                  </a:r>
                  <a:r>
                    <a:rPr b="0" i="1" lang="en-US" sz="1000" spc="-1" strike="noStrike">
                      <a:solidFill>
                        <a:srgbClr val="000099"/>
                      </a:solidFill>
                      <a:latin typeface="Times New Roman"/>
                      <a:ea typeface="Times New Roman"/>
                    </a:rPr>
                    <a:t>Understanding Patent Issues During IEEE Standards Development</a:t>
                  </a:r>
                  <a:r>
                    <a:rPr b="0" lang="en-US" sz="1000" spc="-1" strike="noStrike">
                      <a:solidFill>
                        <a:srgbClr val="000099"/>
                      </a:solidFill>
                      <a:latin typeface="Times New Roman"/>
                      <a:ea typeface="Times New Roman"/>
                    </a:rPr>
                    <a:t> &lt;</a:t>
                  </a:r>
                  <a:r>
                    <a:rPr b="0" lang="en-US" sz="1000" spc="-1" strike="noStrike" u="sng">
                      <a:solidFill>
                        <a:srgbClr val="ccccff"/>
                      </a:solidFill>
                      <a:uFillTx/>
                      <a:latin typeface="Times New Roman"/>
                      <a:ea typeface="Times New Roman"/>
                      <a:hlinkClick r:id="rId10"/>
                    </a:rPr>
                    <a:t>http://standards.</a:t>
                  </a:r>
                  <a:r>
                    <a:rPr b="0" lang="en-US" sz="1000" spc="-1" strike="noStrike" u="sng">
                      <a:solidFill>
                        <a:srgbClr val="ccccff"/>
                      </a:solidFill>
                      <a:uFillTx/>
                      <a:latin typeface="Times New Roman"/>
                      <a:ea typeface="Times New Roman"/>
                      <a:hlinkClick r:id="rId11"/>
                    </a:rPr>
                    <a:t>ieee</a:t>
                  </a:r>
                  <a:r>
                    <a:rPr b="0" lang="en-US" sz="1000" spc="-1" strike="noStrike" u="sng">
                      <a:solidFill>
                        <a:srgbClr val="ccccff"/>
                      </a:solidFill>
                      <a:uFillTx/>
                      <a:latin typeface="Times New Roman"/>
                      <a:ea typeface="Times New Roman"/>
                      <a:hlinkClick r:id="rId12"/>
                    </a:rPr>
                    <a:t>.org/board/pat/guide.html</a:t>
                  </a:r>
                  <a:r>
                    <a:rPr b="0" lang="en-US" sz="1000" spc="-1" strike="noStrike">
                      <a:solidFill>
                        <a:srgbClr val="000099"/>
                      </a:solidFill>
                      <a:latin typeface="Times New Roman"/>
                      <a:ea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 name=""/>
                <p:cNvSpPr/>
                <p:nvPr/>
              </p:nvSpPr>
              <p:spPr>
                <a:xfrm>
                  <a:off x="1978920" y="5644800"/>
                  <a:ext cx="5940720" cy="600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 name=""/>
            <p:cNvSpPr/>
            <p:nvPr/>
          </p:nvSpPr>
          <p:spPr>
            <a:xfrm>
              <a:off x="990720" y="380880"/>
              <a:ext cx="6933960" cy="58676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240" y="757728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838080" y="685800"/>
            <a:ext cx="7391520" cy="506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ea typeface="Arial"/>
              </a:rPr>
              <a:t>Scop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ea typeface="Arial"/>
              </a:rPr>
              <a:t>Liaison relationships need to be established with the relevant groups within IEEE 802 LMSC, and other relevant standards setting bodies, industry promotional bodies, Special Interest Groups (SIGs), and Radio Spectrum regulatory bodies.</a:t>
            </a:r>
            <a:r>
              <a:rPr b="0" lang="en-US" sz="2000" spc="-1" strike="noStrike">
                <a:solidFill>
                  <a:srgbClr val="000099"/>
                </a:solidFill>
                <a:latin typeface="Times New Roman"/>
                <a:ea typeface="Arial"/>
              </a:rPr>
              <a:t> </a:t>
            </a:r>
            <a:r>
              <a:rPr b="0" lang="en-US" sz="1800" spc="-1" strike="noStrike">
                <a:solidFill>
                  <a:srgbClr val="000000"/>
                </a:solidFill>
                <a:latin typeface="Times New Roman"/>
                <a:ea typeface="Times New Roman"/>
              </a:rPr>
              <a:t>This contribution recommends establishing liaison relationships with the Standards Development Organizations (SDOs) and other groups indicat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bjectiv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se liaison relationships will assist IEEE 802.20 in developing standards in an open forum and thus eliminating possible duplicative efforts.  </a:t>
            </a:r>
            <a:r>
              <a:rPr b="0" lang="en-US" sz="1800" spc="-1" strike="noStrike">
                <a:solidFill>
                  <a:srgbClr val="000099"/>
                </a:solidFill>
                <a:latin typeface="Times New Roman"/>
                <a:ea typeface="Times New Roman"/>
              </a:rPr>
              <a:t>This arrangement will encourage an exchange of ideas and draft documents as appropriate to help forge a common approach to coexistence and technology related issues for broadband wireless acces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ithin IEEE, we will liaison with 802.19 for coexistence and 802.18 for regulatory issues/concer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240" y="757728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
          <p:cNvSpPr/>
          <p:nvPr/>
        </p:nvSpPr>
        <p:spPr>
          <a:xfrm>
            <a:off x="533520" y="304920"/>
            <a:ext cx="80010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e recommend the establishment of liaison relationships with the following external organiz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se external organizations are listed in the order of priorit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TU</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rtnership Projec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GP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GPP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I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1P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RIB</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W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ETSI</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ir-Interface Agnostic Organiza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ET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M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ecial Interest Groups/Foru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240" y="757728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3T15:28:33Z</dcterms:created>
  <dc:creator>pittampalli</dc:creator>
  <dc:description/>
  <dc:language>en-US</dc:language>
  <cp:lastModifiedBy>pittampalli</cp:lastModifiedBy>
  <dcterms:modified xsi:type="dcterms:W3CDTF">2004-05-13T15:35:04Z</dcterms:modified>
  <cp:revision>4</cp:revision>
  <dc:subject/>
  <dc:title>PowerPoint Presentation</dc:title>
</cp:coreProperties>
</file>