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2ED-3E1B-470E-9E5D-933723D7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375-00E6-471A-8C51-EDA9176C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D8AB-9E6F-41DF-B00F-9A31D6F8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017-36DA-4AB3-B996-9FEB46E6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142D-850B-4A1B-96D1-4085F03F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3FF5-CC5A-438B-82BC-E912B4FE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356C-B46C-497A-BF30-E9530B86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96D8-F1FC-4B4A-B640-5C05E663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7C34-2F00-4557-92B0-29B10FA0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AFF3-0C81-46AC-BD87-559D0313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C789-58CB-43B0-91B3-D9D34C98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6DA-EBD6-4B63-912A-8D41A613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8A3B-E925-481E-B691-8D9DE002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1C9C-A270-4CED-98B8-F368E05C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ED61-7972-4CBF-BE4B-D8EC023C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4F1A-A31A-4E2C-8F98-2AE26086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4300-9770-4F20-B224-1AF6590D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AC72-4643-4207-9DE6-FD2DC236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1347-CB83-4A31-96EA-D9C2952D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72FD-BC27-409D-B408-E47EBD5E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BD9C-55E0-4F4C-82BC-5BA5631C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435-65B2-42B0-A001-0499BCFA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BC9E-3217-4B57-9D00-9CE13508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1970-9A50-4C15-A4FF-8DD37D8E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C5DE-AA95-4455-AC45-48006044CCA3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4479-F5FF-4FD0-AB36-3C3301E637E1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304920" y="0"/>
          <a:ext cx="8005680" cy="65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005680" cy="65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ome retrospec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ink budget templat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hall be completed for both the forward and reverse links for each deployment environment and each test case servic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ink level simulations are used to determine the required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Eb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/(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0 +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0) and  the required 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C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/</a:t>
            </a:r>
            <a:r>
              <a:rPr b="0" i="1" lang="en-US" sz="2400" spc="-1" strike="noStrike">
                <a:solidFill>
                  <a:srgbClr val="006699"/>
                </a:solidFill>
                <a:latin typeface="Verdana"/>
              </a:rPr>
              <a:t>I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f their RTT to meet the performance criteri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ath loss formulas are used to determine the maximum range and the coverage are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ome retrospec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ote on Link budget templat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 Eb/(N0+I0),  the significance and method of calculating this value will vary from RTT to RTT, so the proponent must give a detailed explanation of their method for calculating this value and its significance in determining capacity and coverage of the RTT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 particular, the proponent must state explicitly what frequency reuse ratio and traffic loading per sector are assumed in determining this quantit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ome retrospec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eployment mod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sed to extract critical parameters, such as coverage efficiency and spectrum efficiency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lso give a general idea of the amount of infrastructure required to provide service to the specified model deployment area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e simulations used to complete the link budget template are required to complete the model deployment for each test environment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marks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 use link budget template, should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fine test case service for AI by traffic model, bit rates, BER, delay constraint, etc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fine the evaluation criteria for cell search and synchronization, random access procedure, etc, as Eb/(N0+I0) for traffic chann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efine the realistic noise interference models for performance evaluation especially for adjacent cell interferenc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ealistic Noise Model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ong scramble code CDMA syste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r reuse factor one, all users take over all the time-frequency resource simultaneous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-533520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he interference from adjacent cells is power dependant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FDM syste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ifferent users may take over different time frequency resource, and the noise from adjacent cells may act like hit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he noise interference is also dependant on time-frequency multiplexing metho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erformance criteri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raffic channel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Define test case service by bit rates, BER, delay constraint, traffic mod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Eb/(N0+I0) versus service requiremen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ell search and synchronization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ime, frequency, power resource constraint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Eb/(N0+I0) versus probability and time duration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andom acces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ime frequency resource constraint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Eb/(N0+I0) versus probability and time duration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u Bingyu</cp:lastModifiedBy>
  <dcterms:modified xsi:type="dcterms:W3CDTF">2004-03-09T01:46:3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21310443</vt:r8>
  </property>
  <property fmtid="{D5CDD505-2E9C-101B-9397-08002B2CF9AE}" pid="3" name="_AuthorEmail">
    <vt:lpwstr>qubingyu@huawei.com</vt:lpwstr>
  </property>
  <property fmtid="{D5CDD505-2E9C-101B-9397-08002B2CF9AE}" pid="4" name="_AuthorEmailDisplayName">
    <vt:lpwstr>Qu Bingyu</vt:lpwstr>
  </property>
  <property fmtid="{D5CDD505-2E9C-101B-9397-08002B2CF9AE}" pid="5" name="_EmailSubject">
    <vt:lpwstr>The contribution to march plenary meeting</vt:lpwstr>
  </property>
</Properties>
</file>