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E654-124B-47D1-8B73-31D270F8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9672-146F-4E46-BCCF-3D0D0DDA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EA6C-D422-4C86-8DC2-22CCFEF9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3AE-E906-4C06-8060-A4C8BBB5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93C-BD6E-4B3B-AE81-E834F77C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85A-71EE-4E28-A437-8710E725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4D89-43AE-4574-A792-76648E17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4E8-5209-4F77-938F-DA25A071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39F-64C6-4330-BEB8-52B48944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C42-BE20-4643-8E40-D83A6ED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18A-8DD9-43DE-BCFF-C8328895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FDE-2A81-4696-AEC3-89F10F26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12F9-78D2-4744-8184-64B3C8BED27C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us of 802.20 Channe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 802.20 WG Session #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 15-19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iang 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itor, Channel Modeling Correspond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802.20-04/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68440" y="-264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90880" y="605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12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2600" y="73836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68580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14400" y="990720"/>
          <a:ext cx="7391160" cy="5295960"/>
        </p:xfrm>
        <a:graphic>
          <a:graphicData uri="http://schemas.openxmlformats.org/drawingml/2006/table">
            <a:tbl>
              <a:tblPr/>
              <a:tblGrid>
                <a:gridCol w="3920760"/>
                <a:gridCol w="3470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hannel 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rban Mic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umber of path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umber of sub-path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 per-p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AoD at 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er-path rms AS at 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(LOS and NL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BS per-path PAS Distrib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apla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AoA at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8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er-path rms AS at 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5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S Per-path PAS Distrib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aplac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total RMS Delay Spre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.25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istribution for path del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0, 1.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gnormal shadowing standard devi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LOS: 10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S: 4d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athloss model (dB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is in me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LOS: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4.53 +38 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S: 30.18 + 26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ing User Parameters </a:t>
            </a:r>
            <a:br>
              <a:rPr sz="32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for Urban Microcel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1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oose the urban microcel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various distance and orientation parameter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the bulk path loss and log normal shadow fad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4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the random delays for each of the N multipath compon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5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random average powers for each of the N multipath compon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6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 AoDs for each of the N multipath compon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7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andomly associate the multipath delays with A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8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the powers, phases, and offset AoDs of the M = 20 sub-paths for each of the N paths at the B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9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the AoAs for each of the multipath component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10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the offset AoAs of the M = 20 sub-paths for each of the N paths at the 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1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ssociate the BS and MS paths and sub-paths.  Sub-paths are randomly paired for each path, and the sub-path phases defined at the BS and MS are maintain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1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termine the antenna gains of the BS and MS sub-paths as a function of their respective sub-path AoDs and AoA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ep 13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ply the path loss based on the BS to MS distance and the log normal shadow fading determined in Step 3 as bulk parameters to each of the sub-path powers of the channel mode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rating Channel Coeffic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e denote the channel matrix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 multipath compon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1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as      .   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,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th componen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1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= 1,…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 of          is given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895480" y="2133720"/>
          <a:ext cx="520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520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209680" y="2438280"/>
          <a:ext cx="57168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57168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04920" y="3276720"/>
          <a:ext cx="8559720" cy="229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276720"/>
                    <a:ext cx="855972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rk with Evaluation Group to specify system level implementation and calibr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ne-tune the channel mode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mmendation ITU-R M.1225, “Guideline for Evaluation of Radio Transmission Technologies for IMT-2000,”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GPP &amp; 3GPP2 SCM AHG, “Spatial Channel Model Text Description”, SCM Text V6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rrent Status of 802.20 Channel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ne conference call (3/3/04) since Session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list of key working items have been iden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Add Indoor Pico-cell to the MBWA channel environmen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Investigate the MIMO nature of Outdoor-to-Indoor mod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Determine the reference values of spatial channel model paramet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Determine and validate the statistical distributions of PAS and angular parameters in both CASE-IV &amp; CASE-V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굴림"/>
              </a:rPr>
              <a:t>Provide the detailed algorithm for generating channel model parameters in various MBWA channel environmen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굴림"/>
              </a:rPr>
              <a:t>Investigate and determine the correlation values between channel model paramet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굴림"/>
              </a:rPr>
              <a:t>Model inter-cell/inter-sector interferen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굴림"/>
              </a:rPr>
              <a:t>System level calibration and implementa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Provide the algorithm for generating channel model parameters in the case of  antenna polarization (option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MO Channel Model for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escription is in the context of a downlink system, i.e., the BS transmits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following figure shows a MIMO channel model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ransmit antennas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ceive anten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16120" y="247680"/>
          <a:ext cx="6173640" cy="638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247680"/>
                    <a:ext cx="617364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MO Channel Model (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or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lement BS array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element MS arra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hannel coefficients for on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-path components are given by an complex matri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broadband MIMO radio channel transfer matrix can be modeled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21240" y="2476440"/>
          <a:ext cx="18795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476440"/>
                    <a:ext cx="1879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16400" y="3314880"/>
          <a:ext cx="256536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6400" y="3314880"/>
                    <a:ext cx="256536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32040" y="4349880"/>
          <a:ext cx="129564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2040" y="4349880"/>
                    <a:ext cx="1295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657600" y="5029200"/>
          <a:ext cx="2324160" cy="1270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5029200"/>
                    <a:ext cx="232416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MO Channel Model (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ice that the above equation is a simple tapped delay line model in a matrix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ignals at the MS antenna array are deno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milarly, the signals at the BS antenna arra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relation between the input and output vector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here it is assumed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zero-me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lex Gaussian distributed,   i.e.,                     is Raileigh distribu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48120" y="2590920"/>
          <a:ext cx="247644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590920"/>
                    <a:ext cx="2476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8120" y="3429000"/>
          <a:ext cx="240012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2400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48120" y="4572000"/>
          <a:ext cx="222228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572000"/>
                    <a:ext cx="22222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038480" y="5181480"/>
          <a:ext cx="38124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5181480"/>
                    <a:ext cx="3812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962520" y="5638680"/>
          <a:ext cx="45720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5638680"/>
                    <a:ext cx="457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dure for Generating Ch. Mat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ify an environment, i.e., suburban macro, urban macro,  urban micro, or indoor p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tain the parameters to be used in simulations, associated with tha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enerate the channel coefficients based on the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The received signal at MS consists of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N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time-delayed multi-path replicas of the transmitted sig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These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N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paths are defined by the channel PDP, and are chosen randomly according to the channel generation proced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ＭＳ Ｐゴシック"/>
              </a:rPr>
              <a:t>Each path consists of M sub-path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chart for Generating Ch. Matr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325600" y="1066680"/>
          <a:ext cx="407520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5600" y="1066680"/>
                    <a:ext cx="40752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itions of Angular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28600" y="1600200"/>
          <a:ext cx="8686800" cy="48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868680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Qiang Guo, Editor, Channel Modeling CG</dc:creator>
  <dc:description/>
  <dc:language>en-US</dc:language>
  <cp:lastModifiedBy>wu</cp:lastModifiedBy>
  <dcterms:modified xsi:type="dcterms:W3CDTF">2004-03-18T15:35:43Z</dcterms:modified>
  <cp:revision>195</cp:revision>
  <dc:subject/>
  <dc:title>802.20 MBWA Channel Models</dc:title>
</cp:coreProperties>
</file>