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8EE26E-CF1A-43EE-857B-170B2D5E86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8729F0-94F9-4704-9CDF-3F2CA9B4DA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19D033-4501-49A6-810D-0ADEBAF032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A7B417-4A5F-42BF-8C5A-89F84804C4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692251-BDA3-473B-A520-A001648B34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BDC0D3-3379-446B-A03D-965AC56831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D0D844-219D-4EBE-9F2C-E777D2B671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DE8371-1018-427F-A604-B587E2959D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22A47C-D7EC-4F0B-B434-EE66AD0952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445493-BC92-4840-ADAA-B5B7F15741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F7EA5C-A235-4317-967E-82F3FDF7B4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2D79D-103C-4B93-9319-93D30A058D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4944F-3129-4C56-B549-B1F4DA9025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grouper.ieee.org/groups/802/20/" TargetMode="External"/><Relationship Id="rId2" Type="http://schemas.openxmlformats.org/officeDocument/2006/relationships/hyperlink" Target="http://standards.ieee.org/guides/opman/sect6.html#6.3" TargetMode="External"/><Relationship Id="rId3" Type="http://schemas.openxmlformats.org/officeDocument/2006/relationships/hyperlink" Target="http://standards.ieee.org/guides/opman/sect6.html#6.3" TargetMode="External"/><Relationship Id="rId4" Type="http://schemas.openxmlformats.org/officeDocument/2006/relationships/hyperlink" Target="http://standards.ieee.org/board/pat/guide.html" TargetMode="External"/><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281240" y="795240"/>
            <a:ext cx="2457360" cy="360"/>
          </a:xfrm>
          <a:prstGeom prst="rect">
            <a:avLst/>
          </a:prstGeom>
          <a:noFill/>
          <a:ln w="0">
            <a:noFill/>
          </a:ln>
        </p:spPr>
        <p:style>
          <a:lnRef idx="0"/>
          <a:fillRef idx="0"/>
          <a:effectRef idx="0"/>
          <a:fontRef idx="minor"/>
        </p:style>
        <p:txBody>
          <a:bodyPr wrap="none" lIns="90000" rIns="90000" tIns="-46440" bIns="-46440" anchor="t">
            <a:spAutoFit/>
          </a:bodyPr>
          <a:p>
            <a:endParaRPr b="0" lang="en-US" sz="2400" spc="-1" strike="noStrike">
              <a:solidFill>
                <a:srgbClr val="000000"/>
              </a:solidFill>
              <a:latin typeface="Times New Roman"/>
            </a:endParaRPr>
          </a:p>
        </p:txBody>
      </p:sp>
      <p:graphicFrame>
        <p:nvGraphicFramePr>
          <p:cNvPr id="42" name=""/>
          <p:cNvGraphicFramePr/>
          <p:nvPr/>
        </p:nvGraphicFramePr>
        <p:xfrm>
          <a:off x="457200" y="533520"/>
          <a:ext cx="8458200" cy="6197400"/>
        </p:xfrm>
        <a:graphic>
          <a:graphicData uri="http://schemas.openxmlformats.org/drawingml/2006/table">
            <a:tbl>
              <a:tblPr/>
              <a:tblGrid>
                <a:gridCol w="1042920"/>
                <a:gridCol w="2992680"/>
                <a:gridCol w="4422600"/>
              </a:tblGrid>
              <a:tr h="519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Project</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바탕"/>
                        </a:rPr>
                        <a:t>IEEE 802.20 Working Group on Mobile Broadband Wireless Acces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바탕"/>
                        </a:rPr>
                        <a:t>&lt;</a:t>
                      </a:r>
                      <a:r>
                        <a:rPr b="0" lang="en-US" sz="1200" spc="-1" strike="noStrike" u="sng">
                          <a:solidFill>
                            <a:srgbClr val="009999"/>
                          </a:solidFill>
                          <a:uFillTx/>
                          <a:latin typeface="Times New Roman"/>
                          <a:ea typeface="바탕"/>
                          <a:hlinkClick r:id="rId1"/>
                        </a:rPr>
                        <a:t>http://grouper.ieee.org/groups/802/20/</a:t>
                      </a:r>
                      <a:r>
                        <a:rPr b="1" lang="en-US" sz="1200" spc="-1" strike="noStrike">
                          <a:solidFill>
                            <a:srgbClr val="000000"/>
                          </a:solidFill>
                          <a:latin typeface="Times New Roman"/>
                          <a:ea typeface="바탕"/>
                        </a:rPr>
                        <a:t>&gt;</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12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Title</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바탕"/>
                        </a:rPr>
                        <a:t>IEEE 802.20 MBWA Security Architecture</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5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Date Submitted</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바탕"/>
                        </a:rPr>
                        <a:t>2004-3-11</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185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Source(s)</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T.Charles Clanc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clancy@waa-assoc.com</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William A. Arbaugh</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waa@waa-assoc.com</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WAA Associates, LLC.</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443)-283-7641</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Paul Nguye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Paul.nguyen@ncr.disa.mi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Defense Information Systems Agenc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Center for Standards Management - Networks Divis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703)-681-255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703)-681-2794 (Fax)</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Re:</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Straw man Security Architecture</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37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Abstract</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This presentation presents a straw man security architecture for 802.20. The design goals of this architecture are to meet the 802.20 security and mobility requirements, meet U.S. DOD requirements for the protection of sensitive but UNCLASSIFED information, and be free of intellectual property claims.</a:t>
                      </a:r>
                      <a:endParaRPr b="0" lang="en-US" sz="1200" spc="-1" strike="noStrike">
                        <a:solidFill>
                          <a:srgbClr val="000000"/>
                        </a:solidFill>
                        <a:latin typeface="Times New Roman"/>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12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Purpose</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Informational</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97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Notice</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바탕"/>
                        </a:rPr>
                        <a:t>This document has been prepared to assist the IEEE 802.20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0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039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Release</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바탕"/>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20.</a:t>
                      </a:r>
                      <a:endParaRPr b="0" lang="en-US" sz="10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23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Patent Policy</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바탕"/>
                        </a:rPr>
                        <a:t>The contributor is familiar with IEEE patent policy, as outlined in </a:t>
                      </a:r>
                      <a:r>
                        <a:rPr b="0" lang="en-US" sz="1000" spc="-1" strike="noStrike" u="sng">
                          <a:solidFill>
                            <a:srgbClr val="009999"/>
                          </a:solidFill>
                          <a:uFillTx/>
                          <a:latin typeface="Times New Roman"/>
                          <a:ea typeface="바탕"/>
                          <a:hlinkClick r:id="rId2"/>
                        </a:rPr>
                        <a:t>Section 6.3 of the IEEE-SA Standards Board Operations Manual</a:t>
                      </a:r>
                      <a:r>
                        <a:rPr b="0" lang="en-US" sz="1000" spc="-1" strike="noStrike">
                          <a:solidFill>
                            <a:srgbClr val="000099"/>
                          </a:solidFill>
                          <a:latin typeface="Times New Roman"/>
                          <a:ea typeface="바탕"/>
                        </a:rPr>
                        <a:t> </a:t>
                      </a:r>
                      <a:r>
                        <a:rPr b="0" lang="en-US" sz="1000" spc="-1" strike="noStrike">
                          <a:solidFill>
                            <a:srgbClr val="000000"/>
                          </a:solidFill>
                          <a:latin typeface="Times New Roman"/>
                          <a:ea typeface="바탕"/>
                        </a:rPr>
                        <a:t>&lt;</a:t>
                      </a:r>
                      <a:r>
                        <a:rPr b="0" lang="en-US" sz="1000" spc="-1" strike="noStrike" u="sng">
                          <a:solidFill>
                            <a:srgbClr val="009999"/>
                          </a:solidFill>
                          <a:uFillTx/>
                          <a:latin typeface="Times New Roman"/>
                          <a:ea typeface="바탕"/>
                          <a:hlinkClick r:id="rId3"/>
                        </a:rPr>
                        <a:t>http://standards.ieee.org/guides/opman/sect6.html#6.3</a:t>
                      </a:r>
                      <a:r>
                        <a:rPr b="0" lang="en-US" sz="1000" spc="-1" strike="noStrike" u="sng">
                          <a:solidFill>
                            <a:srgbClr val="000000"/>
                          </a:solidFill>
                          <a:uFillTx/>
                          <a:latin typeface="Times New Roman"/>
                          <a:ea typeface="바탕"/>
                        </a:rPr>
                        <a:t>&gt; and in </a:t>
                      </a:r>
                      <a:r>
                        <a:rPr b="0" i="1" lang="en-US" sz="1000" spc="-1" strike="noStrike">
                          <a:solidFill>
                            <a:srgbClr val="000000"/>
                          </a:solidFill>
                          <a:latin typeface="Times New Roman"/>
                          <a:ea typeface="바탕"/>
                        </a:rPr>
                        <a:t>Understanding Patent Issues During IEEE Standards Development</a:t>
                      </a:r>
                      <a:r>
                        <a:rPr b="0" lang="en-US" sz="1000" spc="-1" strike="noStrike">
                          <a:solidFill>
                            <a:srgbClr val="000000"/>
                          </a:solidFill>
                          <a:latin typeface="Times New Roman"/>
                          <a:ea typeface="바탕"/>
                        </a:rPr>
                        <a:t> &lt;</a:t>
                      </a:r>
                      <a:r>
                        <a:rPr b="0" lang="en-US" sz="1000" spc="-1" strike="noStrike" u="sng">
                          <a:solidFill>
                            <a:srgbClr val="009999"/>
                          </a:solidFill>
                          <a:uFillTx/>
                          <a:latin typeface="Times New Roman"/>
                          <a:ea typeface="바탕"/>
                          <a:hlinkClick r:id="rId4"/>
                        </a:rPr>
                        <a:t>http://standards.ieee.org/board/pat/guide.html</a:t>
                      </a:r>
                      <a:r>
                        <a:rPr b="0" lang="en-US" sz="1000" spc="-1" strike="noStrike" u="sng">
                          <a:solidFill>
                            <a:srgbClr val="000000"/>
                          </a:solidFill>
                          <a:uFillTx/>
                          <a:latin typeface="Times New Roman"/>
                          <a:ea typeface="바탕"/>
                        </a:rPr>
                        <a:t>&gt;.</a:t>
                      </a:r>
                      <a:endParaRPr b="0" lang="en-US" sz="10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43" name=""/>
          <p:cNvSpPr/>
          <p:nvPr/>
        </p:nvSpPr>
        <p:spPr>
          <a:xfrm>
            <a:off x="6553080" y="152280"/>
            <a:ext cx="2314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ppleMyungjo"/>
              </a:rPr>
              <a:t>IEEE C802.20-04/XXXX</a:t>
            </a:r>
            <a:r>
              <a:rPr b="0" lang="en-US" sz="1400" spc="-1" strike="noStrike">
                <a:solidFill>
                  <a:srgbClr val="000000"/>
                </a:solidFill>
                <a:latin typeface="Arial"/>
                <a:ea typeface="AppleMyungjo"/>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fault EAP Method</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 802.11 defines EAP/TLS as the default method.</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o slow (~800ms best case and ~3sec worst case) for fast roaming unless combined with back-end methods.</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ditional password systems suffer from passive and active dictionary attacks (those that don’t, e.g. EKE, SPEKE, et. al. are patent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fault EAP Method, cont.</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ve developed a method to “boot strap” a plain text password/PIN into a cryptographically strong password.</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ffers from a very small window where a dictionary is attack can theoretically succeed, e.g. during initial registration only. We can prevent this attack with additional computation, but we’re not sure it is worth the cost.</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s strong key management, i.e. agreement on current session key and updating of authentication key.</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ll be submitted to the IETF for standardization and is IP free (we believ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xt Steps</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599840"/>
            <a:ext cx="77724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edback from group (March)</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alize design and authentication method (Early April)</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blish design and authentication method for review (Mid April)</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velop a C based reference implementation for the authentication method (End of April)</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pdate design and authentication as needed based on review (End of April / early Ma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sentation of final design document (May meet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stion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바탕"/>
              </a:rPr>
              <a:t>IEEE 802.20 MBWA</a:t>
            </a:r>
            <a:br>
              <a:rPr sz="3200"/>
            </a:br>
            <a:r>
              <a:rPr b="1" lang="en-US" sz="3200" spc="-1" strike="noStrike">
                <a:solidFill>
                  <a:srgbClr val="000000"/>
                </a:solidFill>
                <a:latin typeface="Times New Roman"/>
                <a:ea typeface="바탕"/>
              </a:rPr>
              <a:t>Mobile Broadband Wireless Access</a:t>
            </a:r>
            <a:br>
              <a:rPr sz="3200"/>
            </a:br>
            <a:r>
              <a:rPr b="1" lang="en-US" sz="3200" spc="-1" strike="noStrike">
                <a:solidFill>
                  <a:srgbClr val="000000"/>
                </a:solidFill>
                <a:latin typeface="Times New Roman"/>
                <a:ea typeface="바탕"/>
              </a:rPr>
              <a:t>Security Architecture</a:t>
            </a:r>
            <a:br>
              <a:rPr sz="3200"/>
            </a:br>
            <a:endParaRPr b="0" lang="en-US" sz="3200" spc="-1" strike="noStrike">
              <a:solidFill>
                <a:srgbClr val="000000"/>
              </a:solidFill>
              <a:latin typeface="Times New Roman"/>
            </a:endParaRPr>
          </a:p>
        </p:txBody>
      </p:sp>
      <p:sp>
        <p:nvSpPr>
          <p:cNvPr id="45" name="PlaceHolder 2"/>
          <p:cNvSpPr>
            <a:spLocks noGrp="1"/>
          </p:cNvSpPr>
          <p:nvPr>
            <p:ph type="subTitle"/>
          </p:nvPr>
        </p:nvSpPr>
        <p:spPr>
          <a:xfrm>
            <a:off x="1523880" y="3657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 Charles Clancy</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lliam A. Arbaugh</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ul Nguy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verview</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ign Requirements and Challenge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tential Solution Set</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posed Solution and Motivatio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xt Steps and Timelin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ign Requirements and Goals</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et 802.20 Security and Mobility requirement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 fast hand-off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current upper layer standards when appropriate</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et minimum US DOD requirements for protection of sensitive but UNCLASSIFIED information (SBU).</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PS 140-2 compliant</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 public key based mutual authentication</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ee of intellectual property claim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lution Space</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fidentialit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 Messages: None</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eded for trouble shooting</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AES-CCM based solution is only algorithm/mode pair meeting all requirement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grit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 Messages: HMAC-SHA1</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vents denial of service and session hijacking at the protocol level</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AES-CCM</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lution Space cont.</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thentication and Access Control</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 802.1X / EAP</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 issues such as state machine synchronization and transitivity of trust, but adopted by 802.11 and most actively worked solution at the moment.</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oss domain roaming issues currently unresolved.</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rberos</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as many issues as 1x/EAP but more complex.</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ports cross domain roaming.</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ctionary attack against default authentication method.</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ems to be losing fav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lution Space cont.</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ault Authentication Method</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blic key systems have suffered deployment and management problems and are costly in terms of computation for clients.</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ssword based systems suffer from dictionary attacks and the lack of key managem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posed Solution</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fidentiality (Layer 2)</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ol Messages: None</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Messages: AES-CCM</a:t>
            </a:r>
            <a:endParaRPr b="0" lang="en-US" sz="28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ity (Layer 2)</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ol Messages: HMAC-SHA1</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Messages: AES-CC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posed Solution, cont.</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thentication and Access Control</a:t>
            </a:r>
            <a:endParaRPr b="0" lang="en-US" sz="28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 802.1x / EAP</a:t>
            </a:r>
            <a:endParaRPr b="0" lang="en-US" sz="2400" spc="-1" strike="noStrike">
              <a:solidFill>
                <a:srgbClr val="000000"/>
              </a:solidFill>
              <a:latin typeface="Times New Roman"/>
            </a:endParaRPr>
          </a:p>
          <a:p>
            <a:pPr lvl="2" marL="11430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rrent approach embraced by 802.11 and actively being worked in IETF and IEEE.</a:t>
            </a:r>
            <a:endParaRPr b="0" lang="en-US" sz="2000" spc="-1" strike="noStrike">
              <a:solidFill>
                <a:srgbClr val="000000"/>
              </a:solidFill>
              <a:latin typeface="Times New Roman"/>
            </a:endParaRPr>
          </a:p>
          <a:p>
            <a:pPr lvl="2" marL="11430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ould allow Interworking once cross domain roaming issues resolved.</a:t>
            </a:r>
            <a:endParaRPr b="0" lang="en-US" sz="2000" spc="-1" strike="noStrike">
              <a:solidFill>
                <a:srgbClr val="000000"/>
              </a:solidFill>
              <a:latin typeface="Times New Roman"/>
            </a:endParaRPr>
          </a:p>
          <a:p>
            <a:pPr lvl="2" marL="11430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ports multiple, standardized, authentication methods.</a:t>
            </a:r>
            <a:endParaRPr b="0" lang="en-US" sz="2000" spc="-1" strike="noStrike">
              <a:solidFill>
                <a:srgbClr val="000000"/>
              </a:solidFill>
              <a:latin typeface="Times New Roman"/>
            </a:endParaRPr>
          </a:p>
          <a:p>
            <a:pPr lvl="2" marL="11430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ust transitivity can be mitigated by ensuring that ALL base stations mutually authenticates with the AAA server and communicate via a secure channe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6T02:04:36Z</dcterms:created>
  <dc:creator>William Arbaugh</dc:creator>
  <dc:description/>
  <dc:language>en-US</dc:language>
  <cp:lastModifiedBy>William Arbaugh</cp:lastModifiedBy>
  <dcterms:modified xsi:type="dcterms:W3CDTF">2004-03-12T03:30:15Z</dcterms:modified>
  <cp:revision>18</cp:revision>
  <dc:subject/>
  <dc:title>PowerPoint Presentation</dc:title>
</cp:coreProperties>
</file>