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BC9-5323-4D92-9C4B-54EBC15E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25E-8C76-421F-92BE-7818DBE6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52E9-9DEF-456F-B5AB-7146BDBC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516-25E7-4304-A409-82EF30A0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BFDF-B626-44B8-BDF9-0C9EEC76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4E4-3170-4306-9F8B-44436B53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25FB-CA55-4625-91CC-F59C5C0E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8928-E012-4AF9-9B34-B6B3E54C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4B0-BE43-4C21-A0CE-7F5C5284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6F2-30AE-453C-9F85-62A98D4D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B13-CD9A-4E8F-9361-993FD2EA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4B3-57E4-467C-9C8D-D015CFA7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E624-590A-47B4-B067-0F895FFEE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al Efficiency Ad-ho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ing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8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9880" y="4648320"/>
            <a:ext cx="117180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ing Report of SE Ad-h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d-hoc group did not reach consensus on a single option but is recommending two options for further consideration by the Working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dification of Option 1 (referred to as Option 1b) which more explicit explanation of how the values in the table are to be interpre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3 with a proposed correction to one of th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as also discussion on the ramifications of mandatory require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terpretation is that all mandatory requirements  must be met be the final standard and if this is not feasible the requirements document will have to be revi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lternate interpretation was that as long as the final standard did not violate the effective PAR, the requirements document would not require rev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tion 1b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960480"/>
            <a:ext cx="85345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spectral efficiency of the 802.20 air interface shall be quoted for the case of a three sector baseline configuration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t shall be computed in a loaded multi-cellular network setting, which shall be simulated based on the methodology established by the 802.20 evaluation criteria group. It shall consider among other factors a minimum expected data rate/user and/or other fairness criteria, and percentage of throughput due to duplicated information flow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simulations shall be run with the following three mobility classes, 3 km/h, 120 km/hand 250 km/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alues shall be quoted on a b/s/Hz/sector basis.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eighted average of the spectral efficiency shall be computed by multiplying the spectral efficiency at 3 km/h by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spectral efficiency at 120 km/h by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, and spectral efficiency at 250 km/h by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z. (Where x,y,z &gt; 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and x+y+z=1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[values TBD e.g. x=.4, y=.5, z=.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eighted averag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spectral efficiency of the 802.20 air interface shall be greater th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tion 1b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960480"/>
            <a:ext cx="853452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he spectral efficiency at different mobility speeds should degrade gracefully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nce the base configuration is only required for the purpose of comparing system spectral efficiency, proposals may submit deployment models over and beyond the base configu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33520" y="990720"/>
          <a:ext cx="8229600" cy="2616120"/>
        </p:xfrm>
        <a:graphic>
          <a:graphicData uri="http://schemas.openxmlformats.org/drawingml/2006/table">
            <a:tbl>
              <a:tblPr/>
              <a:tblGrid>
                <a:gridCol w="2057400"/>
                <a:gridCol w="1523880"/>
                <a:gridCol w="1355760"/>
                <a:gridCol w="1646280"/>
                <a:gridCol w="1646280"/>
              </a:tblGrid>
              <a:tr h="444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tral Efficiency Requirements and Targe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d Minim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rable 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d Minim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rable Tar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tral Effici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/s/Hz/se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document, the term “System Spectral Efficiency” is defined in the context of a full block assignment deployment and is, thus, calculated as the average aggregate throughput per sector (bps/sector), divided by the spectrum block assignment size (Hz)( taking out all PHY/MAC overhea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roposal evaluation purposes, the System Spectral Efficiency of the 802.20 air interface shall be quoted for the case of a three sector baseline configuration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n agreed-upon block assignment size. It shall be computed in a loaded multi-cellular network setting, which shall be simulated based on the methodology established by the 802.20 evaluation criteria group. It shall consider, among other factors, a minimum expected data rate/user and/or other fairness criteria, QoS and percentage of throughput due to duplicated information fl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[1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base configuration is only required for the purpose of comparing system spectral efficiency, proposals may submit deployment models over and beyond the base configu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spectral efficiency of the 802.20 air interface shall be greater than the values indicated in table 4-1. The spectral efficiency at higher speeds than those shown should degrade graceful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05040" y="30211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838080" y="3200400"/>
          <a:ext cx="7696440" cy="2666880"/>
        </p:xfrm>
        <a:graphic>
          <a:graphicData uri="http://schemas.openxmlformats.org/drawingml/2006/table">
            <a:tbl>
              <a:tblPr/>
              <a:tblGrid>
                <a:gridCol w="1940040"/>
                <a:gridCol w="706320"/>
                <a:gridCol w="708120"/>
                <a:gridCol w="782640"/>
                <a:gridCol w="785880"/>
                <a:gridCol w="717480"/>
                <a:gridCol w="684360"/>
                <a:gridCol w="703080"/>
                <a:gridCol w="668520"/>
              </a:tblGrid>
              <a:tr h="6382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e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nel Bandwid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 MHz. @ 3km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 MHz . @ 120km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MHz.@ 3km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MHz. @  120 km/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ectral Efficiency (b/s/Hz/sect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tion 3m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oposed simplification of table and corr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spectral efficiency of the 802.20 air interface shall be greater than the values indicated in table 4-1. The spectral efficiency at higher speeds than those shown should degrade graceful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05040" y="3021120"/>
            <a:ext cx="0" cy="0"/>
          </a:xfrm>
          <a:prstGeom prst="line">
            <a:avLst/>
          </a:prstGeom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09480" y="3352680"/>
          <a:ext cx="8229600" cy="2573280"/>
        </p:xfrm>
        <a:graphic>
          <a:graphicData uri="http://schemas.openxmlformats.org/drawingml/2006/table">
            <a:tbl>
              <a:tblPr/>
              <a:tblGrid>
                <a:gridCol w="2057400"/>
                <a:gridCol w="1371600"/>
                <a:gridCol w="1508400"/>
                <a:gridCol w="1645920"/>
                <a:gridCol w="1646280"/>
              </a:tblGrid>
              <a:tr h="453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tral Efficiency Requirements and Target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km/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km/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km/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km/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tral Effici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/s/Hz/se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)</a:t>
                      </a:r>
                      <a:br>
                        <a:rPr sz="20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orrection propos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06:06:24Z</dcterms:created>
  <dc:creator>Mark Klerer B_</dc:creator>
  <dc:description/>
  <dc:language>en-US</dc:language>
  <cp:lastModifiedBy>Mark Klerer B_</cp:lastModifiedBy>
  <dcterms:modified xsi:type="dcterms:W3CDTF">2004-03-18T14:29:15Z</dcterms:modified>
  <cp:revision>7</cp:revision>
  <dc:subject/>
  <dc:title>Spectral Efficiency Ad-ho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54308544</vt:r8>
  </property>
  <property fmtid="{D5CDD505-2E9C-101B-9397-08002B2CF9AE}" pid="3" name="_AuthorEmail">
    <vt:lpwstr>M.Klerer@flarion.com</vt:lpwstr>
  </property>
  <property fmtid="{D5CDD505-2E9C-101B-9397-08002B2CF9AE}" pid="4" name="_AuthorEmailDisplayName">
    <vt:lpwstr>Klerer Mark</vt:lpwstr>
  </property>
  <property fmtid="{D5CDD505-2E9C-101B-9397-08002B2CF9AE}" pid="5" name="_EmailSubject">
    <vt:lpwstr>Spectral Efficiency ad-hoc</vt:lpwstr>
  </property>
</Properties>
</file>