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5638680" cy="76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315200" y="6324480"/>
            <a:ext cx="106668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fld id="{0C23778B-1CFE-49CE-81A6-D99917D5021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utput from the Joint 802.20 Evaluation Criteria and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hannel Models AH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rooq K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 18, 200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mmend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nel models for Phase 1 of the simul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Current Recommendation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is to use suburban macro, 3 Km/h pedestrian B and 120Km/h  Vehicular B mode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lso decided to revisit the issue later if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nel models for full link and system simulations (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t discussed due to lack of ti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How the ITU models in section 2 relate to the stochastic models in section 3 of channel models docu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Use of fixed versus random parameters in link and system simula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21:55:05Z</dcterms:created>
  <dc:creator>Farooq Khan</dc:creator>
  <dc:description/>
  <dc:language>en-US</dc:language>
  <cp:lastModifiedBy>Farooq</cp:lastModifiedBy>
  <dcterms:modified xsi:type="dcterms:W3CDTF">2004-03-18T18:54:04Z</dcterms:modified>
  <cp:revision>369</cp:revision>
  <dc:subject/>
  <dc:title>Evaluation Methodology for 802.20 MBWA</dc:title>
</cp:coreProperties>
</file>