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39EE-202E-4BC6-BFAC-B5366CE2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03CF-874A-4E7A-9E8F-6B7E81B7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C7F-544F-4F17-A9A2-82D55A5FA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E239-0EA8-4138-85E8-8B6F784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107B-0A9B-4101-B4D3-B6514478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42A9-D213-4654-BFDD-E4C1985A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5F9E-B0DB-467B-8577-A0339E57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F50B-8966-4870-82CE-B3B4F4F5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7792-2504-4DF9-A70D-29A0A70A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B6C7-5876-487B-9BFD-6F27C9404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A096-538E-4819-A7C0-DD79823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D50-0ABA-4EBE-8135-D350F09E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FA94-F785-4A2C-98B8-6D3B05C0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0882-6E88-4484-8A30-9B4C5EDF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A0EC-2540-4DE2-AC2A-0946EB1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4303-F342-4163-B98E-0D5237AD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5B4C-75CC-47BE-99EC-B8BF94489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0C0-AE97-4FE5-8653-DC82BD769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AFA-69A8-4DB4-9B72-9D8D055E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9AEF-5B92-4888-99F1-D4E25050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993-9938-48E1-90E0-00211F71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6D14-6346-4378-8584-5A108E4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D82-7292-4605-8184-11660FB1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4798-4769-4B5F-82D8-BD11D69A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03640" y="614376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May-12-200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09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IEEE 802.20 Contribution # C802.20-04/51r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17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19D-6642-4E46-85A6-B291B4506F73}" type="slidenum">
              <a:rPr b="0" lang="ja-JP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2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0A53-5628-4E91-95F6-964CCCA4A391}" type="slidenum">
              <a:rPr b="0" lang="ja-JP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81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EEE 802.20 MBWA Standard Projec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7816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ribution: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C802.20-04-51r2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te: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May-12-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F Performance Evaluation Cri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191120"/>
            <a:ext cx="822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an Gal    </a:t>
            </a:r>
            <a:br>
              <a:rPr sz="2000"/>
            </a:br>
            <a:r>
              <a:rPr b="0" lang="en-US" sz="2000" spc="-1" strike="noStrike">
                <a:solidFill>
                  <a:srgbClr val="00ccff"/>
                </a:solidFill>
                <a:latin typeface="Arial"/>
                <a:ea typeface="ＭＳ Ｐゴシック"/>
              </a:rPr>
              <a:t>dgal@lucen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FAC9-3032-47ED-AE17-5BA5FF21391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eceiver Selectivit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 for selectivity val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MS: 33 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BS: 63 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327-D059-467D-8261-A094344BD119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eceiver Blockin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r blocking is the effect of a stro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ut-of-band sig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at channels other than the adjacent and spurious) on the receiver’s ability to detect a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wan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signal in the tuned channel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blocking signal reduces the specified receiver sensitivity by a certain number of dB'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 at 3 dB above sensitivity and BER 0.001, the blocking signal level and type:</a:t>
            </a:r>
            <a:br>
              <a:rPr sz="2400"/>
            </a:b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MS: -56 dBm (same technology)    </a:t>
            </a:r>
            <a:br>
              <a:rPr sz="2400"/>
            </a:b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BS: -40 dBm (same technology); -15 dBm (C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62C-7442-426D-88A5-2D457D8AB2D2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ecommend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200" y="1981080"/>
            <a:ext cx="77756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gree upon or modify the proposed R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rformance values and adopt into the 802.2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aluation Criteria Docu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3F2-3F98-4C04-AA9E-38C5A588D410}" type="slidenum">
              <a:t>12</a:t>
            </a:fld>
          </a:p>
        </p:txBody>
      </p:sp>
    </p:spTree>
  </p:cSld>
  <p:transition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FCC Emission Limits for the PCS Ban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CFR 47,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§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24.238  Emission limitations for Broadband PCS equip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ules in this section govern the spectral characteristics of emissions in the Broadband Personal Communications Servic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 of band emission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wer of any emission outside of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zed operating frequency ranges must be attenuated below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mitting power (P) by a factor of at least 43 + 10 log(P) dB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838-344C-49E1-9999-016FAB19E7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Abstrac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iscussion of and proposed values for key RF performance characteristics,  recommended for adoption by the IEEE 802.20 Evaluation Criteria document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65F-0664-4266-ADBB-881E978412F7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F Performance Evaluati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Characteristic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/2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623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mitter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mit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mission ma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LR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 ACLR = Adjacent Channel (power) Leakag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0F4-9302-41F6-A050-9CB5E5E4CF8E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95280" y="1447920"/>
            <a:ext cx="762336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lock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09480"/>
            <a:ext cx="84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F Performance Evaluation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Characteristics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EF0-A503-43F4-AAFD-C357BF053F97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Transmitter Power   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fine maximum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ea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transmit power per 1-MHz of channel bandwidth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  </a:t>
            </a:r>
            <a:br>
              <a:rPr sz="2400"/>
            </a:b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- BS: +43 dBm/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- MS: +27 d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fine limits for out-of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nne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t-of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a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miss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 adopt the FCC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ut of band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defined for the PCS band.</a:t>
            </a:r>
            <a:r>
              <a:rPr b="0" lang="en-US" sz="20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3FAA-6DE7-44D5-A53C-6B0EDD1E0D49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Transmitter Emission Limits   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693756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ut-of-Channel channel emission limi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annel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mission Mas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pproach,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ACL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pproach (or both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define channel BW as containing 99% of the emission power, and, require ACLR minimum value: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BE0-AA7F-45CB-8D13-432ABF512E4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Transmitter ACLR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62336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LR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LR is defined as the attenuation (relative to the carrier) of the transmit power which is “spilled” into the adjacent channels. ACLR is expressed as dBc attenuation values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LR is a function of the frequency offset from the assigned channel frequenc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MS: 33 dB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BS: 45 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5E47-D84C-42A4-A3E2-16CC6AD286EE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eceiver Sensitivity</a:t>
            </a:r>
            <a:br>
              <a:rPr sz="32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r Sensitivity is defined as the minimum power, measured at the antenna port, at which the frame error rate (FER) or bit error rate (BER) are better (lower) than a required limit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nsitivity is a function of the informatio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bit 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b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/N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, operat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temperat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nd the receiver 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oise-figure (NF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. Sensitivity = S/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KTB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F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Proposal: define requir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NF values  (10 dB for MS and 5 dB for BS) </a:t>
            </a:r>
            <a:r>
              <a:rPr b="0" lang="en-US" sz="2400" spc="-1" strike="noStrike">
                <a:solidFill>
                  <a:srgbClr val="ccff66"/>
                </a:solidFill>
                <a:latin typeface="Arial"/>
                <a:ea typeface="ＭＳ Ｐゴシック"/>
              </a:rPr>
              <a:t>and require minimum FER/BER values in conjunction with the evaluated traffic mod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C006-50E5-4B24-A82D-74EFFBBDB47F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304560"/>
            <a:ext cx="8461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  <a:ea typeface="ＭＳ Ｐゴシック"/>
              </a:rPr>
              <a:t>Receiver Selectivit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ceiver selectivity is a measure of the receiver’s ability to reject signals from adjacent channels while receiving a wanted signal on its tuned frequenc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ivity is specified as the ratio (in dB) of the adjacent channel signal level to the assigned channel’s signal level in which a reference BER/FER is maintained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0BC-06B6-4B9F-81D3-62528A9B3462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48:02Z</dcterms:created>
  <dc:creator>Dan Gal</dc:creator>
  <dc:description/>
  <dc:language>en-US</dc:language>
  <cp:lastModifiedBy>dgal</cp:lastModifiedBy>
  <dcterms:modified xsi:type="dcterms:W3CDTF">2004-05-12T17:14:14Z</dcterms:modified>
  <cp:revision>319</cp:revision>
  <dc:subject/>
  <dc:title>Training</dc:title>
</cp:coreProperties>
</file>