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F69-A807-41AA-BDB7-F15FAF18A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6DD-4884-4258-82FB-80865D25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BEA-535D-4B1B-94CD-2918A7D5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30E9-4D02-4D53-856E-0B76DB1B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E6B-81EC-48A7-BA23-9462FE60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71F-97EF-4A5C-87BF-511B1685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A0C-5162-41E9-8BFF-2E706F47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1DC-8B03-4948-A00A-E7DE7DAD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D8C-65BD-4C4F-ACDC-D9C093A0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57A-689B-4CBC-BB05-CD6DC496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17D-43EB-4B7B-A286-2823642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AFBB-0B08-417C-B1B0-6F9A6C15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981-5713-48EA-B4B1-0538EE0D6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20 WG Session #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10-13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4/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68440" y="-264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90880" y="6058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12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52600" y="73836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685800"/>
            <a:ext cx="274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14600" y="1371600"/>
          <a:ext cx="4065480" cy="4584600"/>
        </p:xfrm>
        <a:graphic>
          <a:graphicData uri="http://schemas.openxmlformats.org/drawingml/2006/table">
            <a:tbl>
              <a:tblPr/>
              <a:tblGrid>
                <a:gridCol w="2155680"/>
                <a:gridCol w="1909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Channel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uburban Mac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paths 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Number of sub-paths (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 per-pa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D at 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B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BS per-path PAS Distribu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AoA at 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6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er-path rms AS at M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5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S Per-path PAS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Mean total RMS Delay Sprea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0.1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istribution for path del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Lognormal shadowing standard devia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8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Pathloss model (dB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is in me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31.5 +35 log</a:t>
                      </a:r>
                      <a:r>
                        <a:rPr b="0" lang="es-ES" sz="1200" spc="-1" strike="noStrike" baseline="-30000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1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(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New York"/>
                          <a:ea typeface="굴림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4800600" y="2971800"/>
          <a:ext cx="660240" cy="24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971800"/>
                    <a:ext cx="6602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800600" y="3886200"/>
          <a:ext cx="647640" cy="24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86200"/>
                    <a:ext cx="6476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ng User Parameters </a:t>
            </a:r>
            <a:br>
              <a:rPr sz="32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Suburban Macrocel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 suburban macrocell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various distance and orientation parameter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path loss and log normal shadow fading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4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random delays for each of the N multipath compon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5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random average powers for each of the N multipath compon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6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 AoDs for each of the N multipath componen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7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ly associate the multipath delays with AoD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8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the powers, phases, and offset AoDs of the M = 20 sub-paths for each of the N paths at the B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9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rmine the AoAs for each of the multipath component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0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rmine the offset AoAs of the M = 20 sub-paths for each of the N paths at the 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1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ssociate the BS and MS paths and sub-paths.  Sub-paths are randomly paired for each path, and the sub-path phases defined at the BS and MS are maintain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2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termine the antenna gains of the BS and MS sub-paths as a function of their respective sub-path AoDs and AoAs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ep 13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pply the path loss based on the BS to MS distance and the log normal shadow fading determined in Step 3 as bulk parameters to each of the sub-path powers of the channel mod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ss-Polarized Anten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nel models discussed so far assume that the antennas at BS and MS with identical polar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antennas with different polarizations at the transmitter and receiver leads to polarization diversity g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o to the physical limit on handheld devices, cross- polarized antennas becomes the primary way to implement MIMO technique on small handheld dev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a MIMO polarization channel model is needed for 802.20 W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ting User Parameters </a:t>
            </a:r>
            <a:br>
              <a:rPr sz="32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Suburban Macrocell Environment and Polarized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-12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ame as previou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3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dditional cross-polarized subpa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4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he AoD and AoA of each subpath in Step 13 equal to that of the corresponding subpath of the co-polarized antenna ori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5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phase offsets for the cross-polarized eleme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6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mpose each of the co-polarized and cross-polarized sub-rays into vertical and horizontal components based on the co-polarized and cross-polarized ori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7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of each sub-path in the horizontal orientation is set relative to the power of each sub-path in the vertical orientation according to the polarization coupling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8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receive antennas, decompose each of the vertical and horizontal components into components that are co-polarized with the receive antennas and sum the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9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he path loss based on the BS to MS distance from Step 2, and the log normal shadow fading determined in step 3 as bulk parameters to each of the sub-path powers of the channel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tions for Evaluating MIMO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peration of a MIMO technique should be described in sufficient details, including Tx and Rx algorithms, higher layer signaling to support MIMO, etc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the channel quality metric used for rate or link adaptation should be describ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mobility should be supported, including high-speed c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istic simulations should include effects such as delay, channel estimation error, signaling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ation ITU-R M.1225, “Guideline for Evaluation of Radio Transmission Technologies for IMT-2000,” 19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PP &amp; 3GPP2 SCM AHG, “Spatial Channel Model Text Description”, SCM Text V6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of 802.20 Channel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 list of key working items have been iden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Add Indoor Pico-cell to the MBWA channel environment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Investigate the MIMO nature of Outdoor-to-Indoor mode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Determine the reference values of spatial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Determine and validate the statistical distributions of PAS and angular parameters in both CASE-IV &amp; CASE-V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굴림"/>
              </a:rPr>
              <a:t>Review the detailed algorithm for generating channel model parameters in suburban macro channel environmen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Investigate and determine the correlation values between channel model parameter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Model inter-cell/inter-sector interferenc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bbe0e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굴림"/>
              </a:rPr>
              <a:t>System level calibration and implementation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굴림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  <a:ea typeface="굴림"/>
              </a:rPr>
              <a:t>Provide the algorithm for generating channel model parameters in the case of  antenna polarization (option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 Channel Model for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scription is in the context of a downlink system, i.e., the BS transmits to 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figure shows a MIMO channel model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ansmit antennas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eive anten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716120" y="477720"/>
          <a:ext cx="571176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6120" y="477720"/>
                    <a:ext cx="571176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 Channel Model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 BS array and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ment MS arra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nel coefficients for one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ath components are given by an complex matrix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roadband MIMO radio channel transfer matrix can be modeled 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21240" y="2476440"/>
          <a:ext cx="187956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1240" y="2476440"/>
                    <a:ext cx="18795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81280" y="3390840"/>
          <a:ext cx="223524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390840"/>
                    <a:ext cx="22352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32040" y="4349880"/>
          <a:ext cx="1295640" cy="3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2040" y="4349880"/>
                    <a:ext cx="1295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683160" y="5105520"/>
          <a:ext cx="2273040" cy="1117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83160" y="5105520"/>
                    <a:ext cx="2273040" cy="111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 Channel Model (continu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(u,s) th element of  the nth multi-path component channel matrix            is given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14760" y="333864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38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828800" y="2057400"/>
          <a:ext cx="609480" cy="3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2057400"/>
                    <a:ext cx="609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286000" y="2666880"/>
          <a:ext cx="4432320" cy="10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666880"/>
                    <a:ext cx="443232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09480" y="4191120"/>
            <a:ext cx="80964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 Sig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that the above equation is a simple tapped delay line model in a matrix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ls at the MS Rx antenna array are deno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ly, the signals at the BS Tx antenna arra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 between the input and output vector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       is AWG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743200" y="2590920"/>
          <a:ext cx="308628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3086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2755800" y="3429000"/>
          <a:ext cx="298476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55800" y="3429000"/>
                    <a:ext cx="29847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68760" y="4572000"/>
          <a:ext cx="2781000" cy="380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8760" y="4572000"/>
                    <a:ext cx="27810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784520" y="5302080"/>
          <a:ext cx="38088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84520" y="530208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2597040" y="5708520"/>
          <a:ext cx="293364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7040" y="5708520"/>
                    <a:ext cx="293364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MO Signal Model (Cont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lation between the input and output vectors can be simpl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374920" y="2666880"/>
          <a:ext cx="4140360" cy="26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4920" y="2666880"/>
                    <a:ext cx="4140360" cy="26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cedure for Generating Ch.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 an environment, i.e., suburban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the parameters to be used in simulations, associated with tha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the channel coefficients based on the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received signal at MS consists of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time-delayed multi-path replicas of the transmitted sig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se </a:t>
            </a:r>
            <a:r>
              <a:rPr b="1" i="1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aths are defined by the channel PDP, and are chosen randomly according to the channel generation proced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ach path consists of M sub-path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CG</dc:creator>
  <dc:description/>
  <dc:language>en-US</dc:language>
  <cp:lastModifiedBy>Motorola PC</cp:lastModifiedBy>
  <dcterms:modified xsi:type="dcterms:W3CDTF">2004-05-13T13:32:42Z</dcterms:modified>
  <cp:revision>229</cp:revision>
  <dc:subject/>
  <dc:title>802.20 MBWA Channel Models</dc:title>
</cp:coreProperties>
</file>