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5638680" cy="76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EC8AC731-DFD4-41FD-B92E-F755310B53F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utput from LSI Ad Hoc Grou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ponent is free to use link curves for the link-system interfa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encourages contributions on various possible approaches for link-system methodology. The goal would be to get agreement on a common methodology, if possible, subject to the satisfaction of the grou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absence of a common methodology, a technology specific methodology can be used if provided with full verification subject to the satisfaction of the group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Farooq Khan</cp:lastModifiedBy>
  <dcterms:modified xsi:type="dcterms:W3CDTF">2004-05-12T21:56:14Z</dcterms:modified>
  <cp:revision>382</cp:revision>
  <dc:subject/>
  <dc:title>Evaluation Methodology for 802.20 MBWA</dc:title>
</cp:coreProperties>
</file>