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87A-5372-43CD-9E43-09B3DC6BC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E865-FF49-4D47-A5E2-FDB7B825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167-3AF1-43B7-92D4-25342C7A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F0A5-6A7E-4711-BA36-0ABDC1A2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A79A3-B0AA-4713-9BDD-DC769B6A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C618-8D89-4D0E-8FA6-43E4233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7360-13BE-4ABF-92CD-892D5EBC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4261-6F13-4967-8677-794CCF1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6FF8-67A3-4808-9BD1-7FC30B4D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91C1-0947-41DD-B404-949F513A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C31C1-C301-45AD-9E90-C934A2CA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6016-CCFE-40D0-87B3-2E2A4D0D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D135-D12E-41D9-B87B-0FCC730A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6E24-02EB-4EEB-B327-F2DB6EF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4B9B-1440-425F-AA16-3524763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3F1C-84FE-4F28-9ACF-2F0BD821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83A3-415D-4493-BE8A-FDF5428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330-9D06-47A4-9C27-152D49A8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C99-6552-471E-84D1-76AA853F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50A-462A-43AD-BD25-EA1EB180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759-39AB-4350-8CE3-DDB8670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A5E-8A6B-4679-99B1-0BFA65B9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BA20-456D-49F1-A52A-4E42C639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A7A-C634-45E6-88EA-A5071EA4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2667-3333-446F-965D-E9558A16CA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EEE 802.20 Contribution # C802.20-04-64addend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F4E5-7F58-4B49-8B82-FF8E2117BF4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DF3E-6759-4A8D-AED0-541DAFD078A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82281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EEE 802.20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Interference Environment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47920" y="2438280"/>
            <a:ext cx="67816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Informative addendum to 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C802.20-04-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 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lin, September 14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4191120"/>
            <a:ext cx="822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Interference Environmen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ignal at the input of the receiver consists of signals received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wanted transmit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t the wanted chan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tters operating in the same channel (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-channel signa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akage power from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djacent chann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generated by the co-tower/antenna transmitters and other nearby towe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mitters operating in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econd-adjacent channel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(generating blocking signa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Other externa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RF interference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n-line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purio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ransmission produc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80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ACLR, Selectivity and Block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086280" y="1295280"/>
            <a:ext cx="3886200" cy="1689120"/>
            <a:chOff x="3086280" y="1295280"/>
            <a:chExt cx="3886200" cy="1689120"/>
          </a:xfrm>
        </p:grpSpPr>
        <p:sp>
          <p:nvSpPr>
            <p:cNvPr id="95" name=""/>
            <p:cNvSpPr/>
            <p:nvPr/>
          </p:nvSpPr>
          <p:spPr>
            <a:xfrm>
              <a:off x="4610160" y="205704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33cc3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0160" y="2895480"/>
              <a:ext cx="990720" cy="88920"/>
            </a:xfrm>
            <a:custGeom>
              <a:avLst/>
              <a:gdLst/>
              <a:ahLst/>
              <a:rect l="l" t="t" r="r" b="b"/>
              <a:pathLst>
                <a:path w="624" h="56">
                  <a:moveTo>
                    <a:pt x="576" y="0"/>
                  </a:moveTo>
                  <a:cubicBezTo>
                    <a:pt x="600" y="20"/>
                    <a:pt x="624" y="40"/>
                    <a:pt x="528" y="48"/>
                  </a:cubicBezTo>
                  <a:cubicBezTo>
                    <a:pt x="432" y="56"/>
                    <a:pt x="216" y="52"/>
                    <a:pt x="0" y="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5960" y="205704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48400" y="205704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ffcc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86280" y="1295280"/>
              <a:ext cx="914400" cy="167616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58080" y="1295280"/>
              <a:ext cx="914400" cy="167616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ffff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343400" y="3962520"/>
            <a:ext cx="1371600" cy="22860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33cc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10160" y="4800600"/>
            <a:ext cx="990720" cy="88920"/>
          </a:xfrm>
          <a:custGeom>
            <a:avLst/>
            <a:gdLst/>
            <a:ahLst/>
            <a:rect l="l" t="t" r="r" b="b"/>
            <a:pathLst>
              <a:path w="624" h="56">
                <a:moveTo>
                  <a:pt x="576" y="0"/>
                </a:moveTo>
                <a:cubicBezTo>
                  <a:pt x="600" y="20"/>
                  <a:pt x="624" y="40"/>
                  <a:pt x="528" y="48"/>
                </a:cubicBezTo>
                <a:cubicBezTo>
                  <a:pt x="432" y="56"/>
                  <a:pt x="216" y="52"/>
                  <a:pt x="0" y="4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3962520"/>
            <a:ext cx="1371600" cy="22860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86280" y="3200400"/>
            <a:ext cx="1028520" cy="304812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3962520"/>
            <a:ext cx="1295280" cy="22860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19920" y="3200400"/>
            <a:ext cx="1028520" cy="304812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ff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14600" y="48769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487692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90920" y="6248520"/>
            <a:ext cx="5029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72680" y="45720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70d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2680" y="5867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90d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2971800"/>
            <a:ext cx="39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87520" y="1295280"/>
            <a:ext cx="166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1 – Wanted Chann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1600200"/>
            <a:ext cx="0" cy="464832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6240" y="16765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4160" y="16765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4120" y="9907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25920" y="9907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1080" y="3276720"/>
            <a:ext cx="239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1 – Wanted Chann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2, F3 – Adjacent Channe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F4, F5 – Blocking Chann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057400"/>
            <a:ext cx="914400" cy="91440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3962520"/>
            <a:ext cx="914400" cy="228600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9000" y="26668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70dB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90920" y="2971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805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B, Channel Spacing and Guard-band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1600200"/>
            <a:ext cx="0" cy="449568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666880"/>
            <a:ext cx="3962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9560" y="128124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7640" y="1447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6440" y="144792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590920" y="26668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75248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1752480"/>
            <a:ext cx="914400" cy="914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1752480"/>
            <a:ext cx="914400" cy="914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86400" y="175248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1752480"/>
            <a:ext cx="914400" cy="914400"/>
          </a:xfrm>
          <a:prstGeom prst="rect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429000"/>
            <a:ext cx="7621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33cc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429000"/>
            <a:ext cx="914400" cy="91440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4495680"/>
            <a:ext cx="762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733920" y="342900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3429000"/>
            <a:ext cx="22860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 Spa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352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495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95480" y="434340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34340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6200" y="4343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343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4343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434340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0000" y="3733920"/>
            <a:ext cx="102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lock-edg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guard b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95640" y="4024440"/>
            <a:ext cx="63828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4876920"/>
            <a:ext cx="914400" cy="1371600"/>
            <a:chOff x="3657600" y="4876920"/>
            <a:chExt cx="914400" cy="1371600"/>
          </a:xfrm>
        </p:grpSpPr>
        <p:sp>
          <p:nvSpPr>
            <p:cNvPr id="155" name=""/>
            <p:cNvSpPr/>
            <p:nvPr/>
          </p:nvSpPr>
          <p:spPr>
            <a:xfrm>
              <a:off x="3733920" y="5181840"/>
              <a:ext cx="76176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33cc3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7600" y="5181840"/>
              <a:ext cx="914400" cy="914400"/>
            </a:xfrm>
            <a:prstGeom prst="rect">
              <a:avLst/>
            </a:prstGeom>
            <a:noFill/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920" y="609624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373392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49568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5760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568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57600" y="4876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h Spa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7600" y="48769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7600" y="510552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920" y="624852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572000" y="4876920"/>
            <a:ext cx="914400" cy="1371600"/>
            <a:chOff x="4572000" y="4876920"/>
            <a:chExt cx="914400" cy="1371600"/>
          </a:xfrm>
        </p:grpSpPr>
        <p:sp>
          <p:nvSpPr>
            <p:cNvPr id="167" name=""/>
            <p:cNvSpPr/>
            <p:nvPr/>
          </p:nvSpPr>
          <p:spPr>
            <a:xfrm>
              <a:off x="4648320" y="5181840"/>
              <a:ext cx="76176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33cc3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5181840"/>
              <a:ext cx="914400" cy="914400"/>
            </a:xfrm>
            <a:prstGeom prst="rect">
              <a:avLst/>
            </a:prstGeom>
            <a:noFill/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648320" y="609624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4832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41008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1008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876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h Spa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0" y="48769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72000" y="510552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8320" y="624852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486400" y="4876920"/>
            <a:ext cx="914400" cy="1371600"/>
            <a:chOff x="5486400" y="4876920"/>
            <a:chExt cx="914400" cy="1371600"/>
          </a:xfrm>
        </p:grpSpPr>
        <p:sp>
          <p:nvSpPr>
            <p:cNvPr id="179" name=""/>
            <p:cNvSpPr/>
            <p:nvPr/>
          </p:nvSpPr>
          <p:spPr>
            <a:xfrm>
              <a:off x="5562720" y="5181840"/>
              <a:ext cx="76176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0" y="576"/>
                  </a:moveTo>
                  <a:cubicBezTo>
                    <a:pt x="24" y="456"/>
                    <a:pt x="48" y="336"/>
                    <a:pt x="96" y="240"/>
                  </a:cubicBezTo>
                  <a:cubicBezTo>
                    <a:pt x="144" y="144"/>
                    <a:pt x="224" y="0"/>
                    <a:pt x="288" y="0"/>
                  </a:cubicBezTo>
                  <a:cubicBezTo>
                    <a:pt x="352" y="0"/>
                    <a:pt x="432" y="144"/>
                    <a:pt x="480" y="240"/>
                  </a:cubicBezTo>
                  <a:cubicBezTo>
                    <a:pt x="528" y="336"/>
                    <a:pt x="552" y="456"/>
                    <a:pt x="576" y="576"/>
                  </a:cubicBezTo>
                </a:path>
              </a:pathLst>
            </a:custGeom>
            <a:solidFill>
              <a:srgbClr val="33cc3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5181840"/>
              <a:ext cx="914400" cy="914400"/>
            </a:xfrm>
            <a:prstGeom prst="rect">
              <a:avLst/>
            </a:prstGeom>
            <a:noFill/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720" y="6096240"/>
              <a:ext cx="7617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O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56272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324480" y="5181840"/>
              <a:ext cx="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8640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24480" y="5181840"/>
              <a:ext cx="76320" cy="91440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86400" y="487692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Ch Spacing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86400" y="487692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86400" y="510552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62720" y="6248520"/>
              <a:ext cx="76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>
            <a:off x="2590920" y="609588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6095880"/>
            <a:ext cx="2209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568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832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6272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324480" y="609588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5240" y="5334120"/>
            <a:ext cx="112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-channel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guard b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00320" y="5653080"/>
            <a:ext cx="60984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3429000"/>
            <a:ext cx="914400" cy="91440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429000"/>
            <a:ext cx="914400" cy="91440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8320" y="3429000"/>
            <a:ext cx="76176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33cc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10080" y="3429000"/>
            <a:ext cx="76212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0" y="576"/>
                </a:moveTo>
                <a:cubicBezTo>
                  <a:pt x="24" y="456"/>
                  <a:pt x="48" y="336"/>
                  <a:pt x="96" y="240"/>
                </a:cubicBezTo>
                <a:cubicBezTo>
                  <a:pt x="144" y="144"/>
                  <a:pt x="224" y="0"/>
                  <a:pt x="288" y="0"/>
                </a:cubicBezTo>
                <a:cubicBezTo>
                  <a:pt x="352" y="0"/>
                  <a:pt x="432" y="144"/>
                  <a:pt x="480" y="240"/>
                </a:cubicBezTo>
                <a:cubicBezTo>
                  <a:pt x="528" y="336"/>
                  <a:pt x="552" y="456"/>
                  <a:pt x="576" y="576"/>
                </a:cubicBezTo>
              </a:path>
            </a:pathLst>
          </a:custGeom>
          <a:solidFill>
            <a:srgbClr val="33cc33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3429000"/>
            <a:ext cx="22860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29200" y="33526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32767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79640" y="190512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 guard ban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7600" y="1600200"/>
            <a:ext cx="0" cy="4495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1523880"/>
            <a:ext cx="0" cy="4496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48:02Z</dcterms:created>
  <dc:creator>Dan Gal</dc:creator>
  <dc:description/>
  <dc:language>en-US</dc:language>
  <cp:lastModifiedBy>Dan</cp:lastModifiedBy>
  <dcterms:modified xsi:type="dcterms:W3CDTF">2004-09-14T16:18:16Z</dcterms:modified>
  <cp:revision>51</cp:revision>
  <dc:subject/>
  <dc:title>Training</dc:title>
</cp:coreProperties>
</file>