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237-74C1-414E-919E-6D7C4581A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640-2FED-495B-ABBD-B9DD9F45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C81-5E0E-4048-B534-A7636F7B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4E42-51A5-485E-A833-16511325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7676-C923-44F0-9D5F-B9221BCEB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F6F1-CD34-4758-BC09-34D7E89C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D6E6-BD10-4AE9-B3E7-503AF134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5C57-3D87-4A18-A4A0-A5BA964D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910E-44C5-49F2-8103-057B17E3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96CF-4C58-4FA3-B72B-A5FF4E74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894E-2702-4B4D-B9DB-885BEFC2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B31-38B2-4E17-8E3D-4ED01A8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6E5E-7A66-442A-BADD-AB147FF2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8EF8-9FDB-4223-9F9A-E5431A93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A076-E678-4552-BAEB-462AEE97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2EAA-518A-4657-9A3B-F74CC4D5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BC3B-A599-4081-A216-6C5945E9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F6A-BDBA-466B-AEFE-E4D20603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610-9AAE-4F1F-ADF9-D9E54D47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6D2D-765D-4C19-B6C9-356EB15B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A2D-B1A5-4180-8864-3692A7A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372-2C92-4519-B28A-BB0F6AF1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856B-B683-4313-B9BF-F1CCBBA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D2EA-9326-48B3-9D5E-A0F39FF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419360" y="6172200"/>
            <a:ext cx="19047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ptember 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68160" y="611820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EEE 802.20 Contribution C802.20-04-7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772040" y="6248520"/>
            <a:ext cx="11271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 anchorCtr="1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Slide </a:t>
            </a:r>
            <a:fld id="{7BCB579D-9DCE-49F4-B690-B7852AE834A2}" type="slidenum">
              <a:rPr b="0" lang="en-US" sz="1400" spc="-1" strike="noStrike">
                <a:solidFill>
                  <a:srgbClr val="ffcc00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DD4E-6B40-44C0-897E-C2B24DBC0E0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EEE 802.20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echnology Selection Proces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781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sentation of Contribution C802.20-04-7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lin, September 14, 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91120"/>
            <a:ext cx="822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9ADA-3CEE-4297-9300-CCE324F1FF14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3 – Tech Proposal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 II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echnology Descrip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technical description of the technolog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engineering white paper sty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how the proposal meets or exceeds the SRD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988-B95E-4D62-8146-A89D4DFC1D0B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4 – Tech Proposal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 III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HY, MAC Specification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 and level of detail -- similar to IEEE 802 standar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98B-8B77-48C9-86C8-617720FCABB0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5 – Tech Proposal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 IV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erformance Evaluation Resul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on Criteria test resul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a uniform tech report template (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B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8A4-2DFB-4552-9D10-0AB9F973A3C8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6 – Tech Proposal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 V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RD Compliance Statemen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92792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ully compliant proposal has no entries in the “P” colum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38080" y="2689200"/>
            <a:ext cx="7696440" cy="33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F1D-BF66-4C91-9B2F-0C4778981342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7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ubmis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y with th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call for proposal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on the 802.20 website, at least 30 calendar days before a working group interim or plenary meeting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4D68-764D-46CC-BFBF-1D671B1D66C3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7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 material shall be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ully consist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the text of the formal proposal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ase of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nconsistenci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formal proposal shall prevail and a corrected presentation shall be submitted ASAP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tions shall be treated like WG contribution and shall be allowed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adequate time slo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 the meeting agend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te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meeting minut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all presentations and associated Q&amp;A 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634C-A36D-4999-8E87-3FEF9400BD4E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8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Amendment &amp; Consolidat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ed proposals shall not include significant changes (that affect performance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mit and post amended proposals at least 14 days prior to the next WG sess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olidated proposals shall be considered 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new propos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D5A-1C7E-4C19-9A4A-2089803E936E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9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coring System (slide 1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scoring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hall consist of a list of th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ost essent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quantitative and qualitative) performance attributes required of a winning propos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eighted aver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oring system shall b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individual member scores and calculate the group average scores (tables 3 and 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929F-CEEB-4A0C-B4C5-43BE3A95285D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9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coring System (slide 2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90720" y="2057400"/>
            <a:ext cx="7391160" cy="3633840"/>
            <a:chOff x="990720" y="2057400"/>
            <a:chExt cx="7391160" cy="363384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990720" y="2057400"/>
              <a:ext cx="739116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990720" y="2057400"/>
              <a:ext cx="7391160" cy="363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82520" rIns="18252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A9C5-A18B-418D-8A46-3BC8BEC2A2DB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9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coring System (slide 3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43000" y="2133720"/>
            <a:ext cx="6861240" cy="3632040"/>
            <a:chOff x="1143000" y="2133720"/>
            <a:chExt cx="6861240" cy="36320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143000" y="2133720"/>
              <a:ext cx="6861240" cy="36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 txBox="1"/>
            <p:nvPr/>
          </p:nvSpPr>
          <p:spPr>
            <a:xfrm>
              <a:off x="1143000" y="2133720"/>
              <a:ext cx="6861240" cy="3632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82520" rIns="182520" tIns="46080" bIns="4608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6F9-71FC-4E9C-9AA1-AF9A2EC18889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ntroduction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presentation version of contribution C802.20-04-xx,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 proposal for IEEE 802.20 technology selection process (TS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tart a working group discussion and trigger follow-up contributions for an agreed-upon technology selection proced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Adopt a TSP in the November 2004 plenary mee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91B-2999-47E0-9C80-AC7DFC5A7F73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9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coring System (slide 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sues the WG needs to resol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 the most essential requirements – try to keep the list short (&lt; 20 item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ign averaging weigh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C99-2750-4815-B1E2-512207CDF78A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9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coring System (slide 5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coring process shall be conducted in a plenary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l scores shall be posted on the WG website prior to the next step – the voting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E3C-9D63-4AAC-A2C6-18F876B5A173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10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lection Roun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election of the winning proposal shall assure that the most meritorious proposal is chos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coring process shall be conducted in a plenary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mination rounds; followed by selection among the two final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ting of the winning proposal must be consistent with the scoring results, evaluation results and compliance 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C61-DE19-48BB-8883-E990CE5252B5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4 – Tech Proposal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lection Stag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6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ase 1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1:   Proposal submissio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2:   Working-group Presen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3:   Review proposal compliance tables and evaluation 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4:   Poll and document the member-sco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5:   Proposal elimination (round 1) – select the top-two propos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6: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i="1" lang="en-US" sz="1400" spc="-1" strike="noStrike">
                <a:solidFill>
                  <a:srgbClr val="ffcc00"/>
                </a:solidFill>
                <a:latin typeface="Arial"/>
              </a:rPr>
              <a:t>proposal consolidation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is requested, skip to “Phase 2” below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herwise, move to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round 2 and select the winning proposal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7:  Finalize the technology selection proces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hase 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  (optional, follow from stage 6 of “Phase 1” above)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1:   Consolidated proposals submi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2:   Working-group Presen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3:   Review proposal compliance tables and evaluation resul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4:   Poll and document new member-sco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5:   Present the proposal-scores and vote the top-two proposa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6:   Select the winning-proposal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34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ge 7:   Finalize the technology selection proces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t any TSP stage, the working group may decide (by simple majority) to abort it and cycle back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to the previous stag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9E5-36FE-4C28-B9EB-886AC64EF4BC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TSP proposal is designed to assure a balanced and fair selec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work is needed to bring this proposal to an agreed upon, complete TSP state (see TBD indications and the five annexes of contribution C802.20-04-7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9502-60E8-476B-88BB-6505C8BFA799}" type="slidenum">
              <a:t>24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TSP proposal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ggested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proces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ground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ion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process s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Form templa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list of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Arial"/>
              </a:rPr>
              <a:t>open issu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require additional contributions and working group resolu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A66-8E39-4203-AA4B-1268C4747583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TSP Elemen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Technology Proposal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ubmission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a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cor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lection r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decision criteria issu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require working group re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5F59-9389-487A-9B83-15B13E36A970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ction 1 - Introduc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roposal is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complete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recommended that an agreed upon TSP be adopt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call for 802.20 proposa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F06-C58F-484A-8D21-8E30BE9F0B7D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ection 2.1 – Document Precedenc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se of a conflict with the rules, the applicable IEEE SA rules, as well as the 802.20 rules, shall have higher precedence [than the TSP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8B7-EE1B-4C10-8069-D20E6E9084A7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1 – Proposal Submission Rul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 proposals shall include five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I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Specifications Summary (section 2.3.2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II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ology Description (section 2.3.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III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Y/MAC specifications (section 2.3.4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IV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 Criteria simulations results (section 2.3.5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 V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iance statement (section 2.3.6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195-5436-49E1-BCE5-D5BF17A8BD98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1 – Proposal Submission Rule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oposals need not b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fully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compli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ith the 802.20 SRD in order to be considered for the technology selection proce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osals shall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mply with the IEEE 802 SA patent poli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873-7462-4BBE-B35C-7D8660343962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ection 2.3.2 – Tech Proposal 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Part I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echnical Specifications Summar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SRD as a reference, specify values and indicate ran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3002040"/>
            <a:ext cx="8229600" cy="26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A3E-B43C-49C7-8F2E-E865D2198971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3:48:02Z</dcterms:created>
  <dc:creator>Dan Gal</dc:creator>
  <dc:description/>
  <dc:language>en-US</dc:language>
  <cp:lastModifiedBy>Dan</cp:lastModifiedBy>
  <dcterms:modified xsi:type="dcterms:W3CDTF">2004-09-13T09:05:53Z</dcterms:modified>
  <cp:revision>105</cp:revision>
  <dc:subject/>
  <dc:title>Training</dc:title>
</cp:coreProperties>
</file>