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3D1F-36D5-4CBA-9904-1A3C56FC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88C1-3674-459A-B1B1-E1EF73EA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8BB-5FD6-485E-B8F5-C4B4ACC7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91B-FC56-495E-A343-C72F02A7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9B5-D7D6-468F-9448-1EF39D16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BD1-8936-49E5-BAA6-AA7C77A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D50-12FB-476C-BF18-900F08D2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3AA-96A2-4CA9-9498-8941935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879-09D9-4F91-848B-D0B998AC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4C7D-AD10-4794-94AE-584711CE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968-A216-4291-AC24-5540AE6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9866-2EC2-4ABE-A747-AA0C536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7A06-DFFD-4CCF-818C-814306955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3080" y="0"/>
          <a:ext cx="825624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25624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802.20 Channel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25905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.20 WG Session #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7-20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iang G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or, Channel Modeling Correspondence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0280" y="2286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5/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Status of 802.20 Channel Mod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or Phase I simulation, there is only one open item, “SCM Model Assumption for Correlation to ITU Models”, which is addressed by Contribution C802.20-05/02 &amp; 05/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hannel models for Phase I simulation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Channel Environment: Suburban Macro-cel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Pedestrian-B PDP w/ Mobile speed = 3 km/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굴림"/>
              </a:rPr>
              <a:t>Vehicular-B PDP w/ Mobile speed = 120 km/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Version 08 of channel model document will be posted in Document Drop Bo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For Phase II simulation, we are open for sugg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21:41:33Z</dcterms:created>
  <dc:creator>Qiang Guo, Editor, Channel Modeling CG</dc:creator>
  <dc:description/>
  <dc:language>en-US</dc:language>
  <cp:lastModifiedBy>Motorola PC</cp:lastModifiedBy>
  <dcterms:modified xsi:type="dcterms:W3CDTF">2005-01-18T14:21:14Z</dcterms:modified>
  <cp:revision>270</cp:revision>
  <dc:subject/>
  <dc:title>802.20 MBWA Channel Mode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1530845</vt:r8>
  </property>
  <property fmtid="{D5CDD505-2E9C-101B-9397-08002B2CF9AE}" pid="3" name="_AuthorEmail">
    <vt:lpwstr>raoy@qualcomm.com</vt:lpwstr>
  </property>
  <property fmtid="{D5CDD505-2E9C-101B-9397-08002B2CF9AE}" pid="4" name="_AuthorEmailDisplayName">
    <vt:lpwstr>Yallapragada, Rao</vt:lpwstr>
  </property>
  <property fmtid="{D5CDD505-2E9C-101B-9397-08002B2CF9AE}" pid="5" name="_EmailSubject">
    <vt:lpwstr>Updates for January '05 session</vt:lpwstr>
  </property>
  <property fmtid="{D5CDD505-2E9C-101B-9397-08002B2CF9AE}" pid="6" name="_NewReviewCycle">
    <vt:lpwstr/>
  </property>
  <property fmtid="{D5CDD505-2E9C-101B-9397-08002B2CF9AE}" pid="7" name="_PreviousAdHocReviewCycleID">
    <vt:r8>-1894117051</vt:r8>
  </property>
</Properties>
</file>