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9C5-F3DC-48C9-B600-D30DD14D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0AC-ED5B-4FF6-A23E-09E43836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770C-6A19-4710-A85F-A07701DC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0E1-B3B6-4AA6-80F1-9F93CB62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49D-54C5-46E1-BF8A-0C1F2756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26B-2AD7-46C3-914F-8F486991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512-DE25-49DD-96EB-2BD4199E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2BE-121B-4E61-A85A-B3DFAB51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8C27-8579-439B-BB0A-2F3146ED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5A1-858C-45C4-A736-F139D713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E9FD-A78A-4278-BD3F-7248BD3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E3A-BE38-4960-86E7-1B2FA899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88B0-D9A5-4E98-8BC0-F33F49888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 Black"/>
              </a:rPr>
              <a:t>Mapping SISO and MIMO Channel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aring Different Channe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7712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ategories of channel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 A: SISO channel models based on ITU channe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 B: MIMO channel models based on the ITU channel models with fixed spatial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 C: MIMO Channel models based on the SCM channel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use the fixed spatial parameters in category B with the ITU models to generate the MIMO Link? (each individual SISO link should still exhibit the same power delay profile specified by the ITU model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compare a link level sim based on category B  to another link level sim based on category C? In another way,  two MIMO channels, first is generated based on cat. B and the other on cat. C. Do they have the same statistics in time/space? Do they exhibit the same average SNR and/or diversity ga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fective Signal to Noise Ratio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7712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us consider a channel with a complex ga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receiver SN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Capac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now, N links, each with a channel gain hi, the total capacity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700360" y="1676520"/>
          <a:ext cx="335124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676520"/>
                    <a:ext cx="335124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190600" y="2970360"/>
          <a:ext cx="448488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0600" y="2970360"/>
                    <a:ext cx="448488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805040" y="4707000"/>
          <a:ext cx="5468760" cy="10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5040" y="4707000"/>
                    <a:ext cx="54687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076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ffective Signal to Noise Ratio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120"/>
            <a:ext cx="827712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be the corresponding SISO link that will have the same total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62080" y="2154240"/>
          <a:ext cx="6977160" cy="215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2154240"/>
                    <a:ext cx="6977160" cy="21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20:36:41Z</dcterms:created>
  <dc:creator>anaguib</dc:creator>
  <dc:description/>
  <dc:language>en-US</dc:language>
  <cp:lastModifiedBy>anaguib</cp:lastModifiedBy>
  <dcterms:modified xsi:type="dcterms:W3CDTF">2005-01-18T16:05:49Z</dcterms:modified>
  <cp:revision>47</cp:revision>
  <dc:subject/>
  <dc:title>QOFDMA Throuput Resul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32504023</vt:r8>
  </property>
  <property fmtid="{D5CDD505-2E9C-101B-9397-08002B2CF9AE}" pid="3" name="_AuthorEmail">
    <vt:lpwstr>raoy@qualcomm.com</vt:lpwstr>
  </property>
  <property fmtid="{D5CDD505-2E9C-101B-9397-08002B2CF9AE}" pid="4" name="_AuthorEmailDisplayName">
    <vt:lpwstr>Yallapragada, Rao</vt:lpwstr>
  </property>
  <property fmtid="{D5CDD505-2E9C-101B-9397-08002B2CF9AE}" pid="5" name="_EmailSubject">
    <vt:lpwstr>Updates for January '05 session</vt:lpwstr>
  </property>
  <property fmtid="{D5CDD505-2E9C-101B-9397-08002B2CF9AE}" pid="6" name="_NewReviewCycle">
    <vt:lpwstr/>
  </property>
  <property fmtid="{D5CDD505-2E9C-101B-9397-08002B2CF9AE}" pid="7" name="_PreviousAdHocReviewCycleID">
    <vt:r8>40065718</vt:r8>
  </property>
</Properties>
</file>