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801CA8-F774-40E2-8534-2C58DAC540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EF9030-196A-4FB5-B5C1-8BF189A245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CB3012-7CD1-46C7-9A9F-1CEC7597EB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F90773-EB8A-4C5C-9A14-6A0D30BC69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24398D-1ED3-4C94-9439-A508F230E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CF440-CD22-4F3E-BA8E-19936BE5D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5293D-511A-41D0-ABC9-57D049CDD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20E1D-3A92-4293-B31C-B3EB8857D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CD333-639E-44AD-AB68-D9A2900A4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65AF2-E067-4E48-AAE2-5DBA0794A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6018F-CDF7-4427-A305-290B1BA36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298611-370F-4190-B8E9-D20361F8F2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4403A-4AAA-4B44-8A6F-9CF2500F5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D9AFA8-3A44-4C73-8EE7-28A43A39D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C8586-979A-40F1-87B5-E58939C72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DF27F-1E39-4F1D-B9C3-3740AD5523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C6967C-1677-48C6-9C50-462CB7F0D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5E5C24-0309-45A3-B7CF-E571E4B327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837179-26D5-49FF-B428-A8840931E1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CE4012-EF9C-4643-A707-649BAEB7E3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D4C679-2360-4E89-9702-7F79FD7998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36CB76-F8CD-494C-9A27-DFD6DA639B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1775B0-DE35-497F-9A38-D600A8F453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F9B550-3972-4D61-9C92-79ADCB256D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8960BF-3D1F-494E-9856-4EE36DB641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ABD7EC-6245-416E-8943-73C42073C5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D0E3C9-414A-4B48-879F-6B3A3EC2FE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248883-20F7-4D88-86C4-DD60BCA864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3E0883-65C0-47D1-812F-B99C8EDA4B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5338FB-6D06-4E04-A400-80BEE32BDA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E9BA4F-862D-4BDC-BDC6-EAB0BD84E2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5BB43F-7EC3-4C19-BCE2-3466B49D19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F18587-297D-4480-99ED-1512D57DA1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FC047E-6E7F-4E53-8AA2-43FBE55C2C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D28096-7E44-4FE7-8356-3DB7EABC4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53B4DA-F773-4004-A8FB-4034DE31291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C9153-4001-4718-A43D-0228E18B15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D20D-3559-4A76-AA91-814ACFD015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AF2FA-B2E4-4F0F-89A7-0AAB81E87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380880" y="0"/>
          <a:ext cx="8242560" cy="6832440"/>
        </p:xfrm>
        <a:graphic>
          <a:graphicData uri="http://schemas.openxmlformats.org/presentationml/2006/ole">
            <p:oleObj progId="Word.Document.12" r:id="rId1" spid="">
              <p:embed/>
              <p:pic>
                <p:nvPicPr>
                  <p:cNvPr id="147" name="" descr=""/>
                  <p:cNvPicPr/>
                  <p:nvPr/>
                </p:nvPicPr>
                <p:blipFill>
                  <a:blip r:embed="rId2"/>
                  <a:stretch/>
                </p:blipFill>
                <p:spPr>
                  <a:xfrm>
                    <a:off x="380880" y="0"/>
                    <a:ext cx="8242560" cy="683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ase 2 Simulation Methodology</a:t>
            </a:r>
            <a:endParaRPr b="0" lang="en-US" sz="2600" spc="-1" strike="noStrike">
              <a:solidFill>
                <a:srgbClr val="000000"/>
              </a:solidFill>
              <a:latin typeface="Arial"/>
            </a:endParaRPr>
          </a:p>
        </p:txBody>
      </p:sp>
      <p:sp>
        <p:nvSpPr>
          <p:cNvPr id="165"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issues addressed by Contribution 04/85r1:</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flow</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mix</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e link simulation model </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errors</a:t>
            </a:r>
            <a:endParaRPr b="0" lang="en-US" sz="16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ff modeling </a:t>
            </a:r>
            <a:r>
              <a:rPr b="0" lang="en-US" sz="1800" spc="-1" strike="noStrike">
                <a:solidFill>
                  <a:srgbClr val="006600"/>
                </a:solidFill>
                <a:latin typeface="Arial"/>
              </a:rPr>
              <a:t>[05/08, 05/10r1]</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ff performance metrics </a:t>
            </a:r>
            <a:r>
              <a:rPr b="0" lang="en-US" sz="1800" spc="-1" strike="noStrike">
                <a:solidFill>
                  <a:srgbClr val="006600"/>
                </a:solidFill>
                <a:latin typeface="Arial"/>
              </a:rPr>
              <a:t>[05/10r1]</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signaling model </a:t>
            </a:r>
            <a:r>
              <a:rPr b="0" lang="en-US" sz="1800" spc="-1" strike="noStrike">
                <a:solidFill>
                  <a:srgbClr val="006600"/>
                </a:solidFill>
                <a:latin typeface="Arial"/>
              </a:rPr>
              <a:t>[05/10r1]</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open issues as discussed previously:</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affic models</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oIP </a:t>
            </a:r>
            <a:r>
              <a:rPr b="0" lang="en-US" sz="1600" spc="-1" strike="noStrike">
                <a:solidFill>
                  <a:srgbClr val="006600"/>
                </a:solidFill>
                <a:latin typeface="Arial"/>
                <a:ea typeface="Times New Roman"/>
              </a:rPr>
              <a:t>[04/12, 04/37, 05/05]</a:t>
            </a:r>
            <a:endParaRPr b="0" lang="en-US" sz="16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ternet Gaming </a:t>
            </a:r>
            <a:r>
              <a:rPr b="0" lang="en-US" sz="1600" spc="-1" strike="noStrike">
                <a:solidFill>
                  <a:srgbClr val="006600"/>
                </a:solidFill>
                <a:latin typeface="Arial"/>
                <a:ea typeface="Times New Roman"/>
              </a:rPr>
              <a:t>[04/86, 05/06]</a:t>
            </a:r>
            <a:endParaRPr b="0" lang="en-US" sz="16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ideo Streaming data rate </a:t>
            </a:r>
            <a:r>
              <a:rPr b="0" lang="en-US" sz="1600" spc="-1" strike="noStrike">
                <a:solidFill>
                  <a:srgbClr val="006600"/>
                </a:solidFill>
                <a:latin typeface="Arial"/>
                <a:ea typeface="Times New Roman"/>
              </a:rPr>
              <a:t>[04/88, 05/11]</a:t>
            </a:r>
            <a:endParaRPr b="0" lang="en-US" sz="16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annel model mix</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nk Budget</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irness/QoS criteria for various applications </a:t>
            </a:r>
            <a:r>
              <a:rPr b="0" lang="en-US" sz="1800" spc="-1" strike="noStrike">
                <a:solidFill>
                  <a:srgbClr val="006600"/>
                </a:solidFill>
                <a:latin typeface="Arial"/>
                <a:ea typeface="Times New Roman"/>
              </a:rPr>
              <a:t>[VoIP: 05/05]</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802.20-05-04r3a</a:t>
            </a:r>
          </a:p>
        </p:txBody>
      </p:sp>
      <p:sp>
        <p:nvSpPr>
          <p:cNvPr id="5" name="PlaceHolder 4"/>
          <p:cNvSpPr>
            <a:spLocks noGrp="1"/>
          </p:cNvSpPr>
          <p:nvPr>
            <p:ph type="sldNum" idx="2"/>
          </p:nvPr>
        </p:nvSpPr>
        <p:spPr/>
        <p:txBody>
          <a:bodyPr/>
          <a:p>
            <a:fld id="{E24AC95A-B39E-43C3-9D6D-1449203D10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posed Future Conference Call Schedule</a:t>
            </a:r>
            <a:endParaRPr b="0" lang="en-US" sz="2600" spc="-1" strike="noStrike">
              <a:solidFill>
                <a:srgbClr val="000000"/>
              </a:solidFill>
              <a:latin typeface="Arial"/>
            </a:endParaRPr>
          </a:p>
        </p:txBody>
      </p:sp>
      <p:sp>
        <p:nvSpPr>
          <p:cNvPr id="167" name="PlaceHolder 2"/>
          <p:cNvSpPr>
            <a:spLocks noGrp="1"/>
          </p:cNvSpPr>
          <p:nvPr>
            <p:ph/>
          </p:nvPr>
        </p:nvSpPr>
        <p:spPr>
          <a:xfrm>
            <a:off x="457200" y="1371240"/>
            <a:ext cx="8229600" cy="4876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ea typeface="Times New Roman"/>
              </a:rPr>
              <a:t>Tuesday, February 8, 2005, 4-6 pm E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ea typeface="Times New Roman"/>
              </a:rPr>
              <a:t>Tuesday, February 22, 2005, 4-6 pm E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ea typeface="Times New Roman"/>
              </a:rPr>
              <a:t>Tuesday, March 8, 2005, 4-6 pm E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802.20-05-04r3a</a:t>
            </a:r>
          </a:p>
        </p:txBody>
      </p:sp>
      <p:sp>
        <p:nvSpPr>
          <p:cNvPr id="5" name="PlaceHolder 4"/>
          <p:cNvSpPr>
            <a:spLocks noGrp="1"/>
          </p:cNvSpPr>
          <p:nvPr>
            <p:ph type="sldNum" idx="2"/>
          </p:nvPr>
        </p:nvSpPr>
        <p:spPr/>
        <p:txBody>
          <a:bodyPr/>
          <a:p>
            <a:fld id="{92B13B7A-7B8E-428B-A6F2-91D8F6479E99}"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sues Discussed in Conference Call - Dec 7</a:t>
            </a:r>
            <a:endParaRPr b="0" lang="en-US" sz="2600" spc="-1" strike="noStrike">
              <a:solidFill>
                <a:srgbClr val="000000"/>
              </a:solidFill>
              <a:latin typeface="Arial"/>
            </a:endParaRPr>
          </a:p>
        </p:txBody>
      </p:sp>
      <p:sp>
        <p:nvSpPr>
          <p:cNvPr id="149" name="PlaceHolder 2"/>
          <p:cNvSpPr>
            <a:spLocks noGrp="1"/>
          </p:cNvSpPr>
          <p:nvPr>
            <p:ph/>
          </p:nvPr>
        </p:nvSpPr>
        <p:spPr>
          <a:xfrm>
            <a:off x="304560" y="1219320"/>
            <a:ext cx="8458200" cy="54100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list of open issue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Criteria Status Report from the Plenary updated </a:t>
            </a:r>
            <a:endParaRPr b="0" lang="en-US" sz="18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include comments discussed in the conference call (CC)</a:t>
            </a:r>
            <a:endParaRPr b="0" lang="en-US" sz="16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ssociate contributions discussed in the Plenary with the corresponding open issues</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d status report posted in the </a:t>
            </a:r>
            <a:r>
              <a:rPr b="0" lang="en-US" sz="1800" spc="-1" strike="noStrike" u="sng">
                <a:solidFill>
                  <a:srgbClr val="000000"/>
                </a:solidFill>
                <a:uFillTx/>
                <a:latin typeface="Arial"/>
              </a:rPr>
              <a:t>Document Drop Box as (04/80r1)</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Contribution 04/88 that addressed:</a:t>
            </a:r>
            <a:endParaRPr b="0" lang="en-US" sz="18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tion 3.2: Performance metrics </a:t>
            </a:r>
            <a:endParaRPr b="0" lang="en-US" sz="16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tion 4.3.8: Video source coding rate – Dan Gal volunteered to further research on the issue </a:t>
            </a:r>
            <a:endParaRPr b="0" lang="en-US" sz="16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d plans for resolving the open issues before January's Interim meeting</a:t>
            </a:r>
            <a:endParaRPr b="0" lang="en-US" sz="18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 21 CC: Discuss contribution 04/89 and resolve open issues as listed in 04/80r1 </a:t>
            </a:r>
            <a:endParaRPr b="0" lang="en-US" sz="16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11 CC: Discuss gaming model contribution (04/86) and any other traffic models as available</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C802.20-05-04r3a</a:t>
            </a:r>
          </a:p>
        </p:txBody>
      </p:sp>
      <p:sp>
        <p:nvSpPr>
          <p:cNvPr id="5" name="PlaceHolder 4"/>
          <p:cNvSpPr>
            <a:spLocks noGrp="1"/>
          </p:cNvSpPr>
          <p:nvPr>
            <p:ph type="sldNum" idx="2"/>
          </p:nvPr>
        </p:nvSpPr>
        <p:spPr/>
        <p:txBody>
          <a:bodyPr/>
          <a:p>
            <a:fld id="{009ABF4C-6186-4237-8ADA-E7FFDE05A5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sues Discussed in Conference Call - Dec 21</a:t>
            </a:r>
            <a:endParaRPr b="0" lang="en-US" sz="2600" spc="-1" strike="noStrike">
              <a:solidFill>
                <a:srgbClr val="000000"/>
              </a:solidFill>
              <a:latin typeface="Arial"/>
            </a:endParaRPr>
          </a:p>
        </p:txBody>
      </p:sp>
      <p:sp>
        <p:nvSpPr>
          <p:cNvPr id="151"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d contribution 04/89 on noise model text</a:t>
            </a: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ed by David Huo </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objective and how the model affect the current evaluation methodology </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 updated (04/89r1) to clarify the effects on maximum achievable system C/I</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contribution 04/83r1 on system calibration</a:t>
            </a: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ption on shadow fading standard deviation clarified </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xed user locations suggested for calibration – contribution invited for further details</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 updated (04/83r2) to clarify and correct typos on the assumptions</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802.20-05-04r3a</a:t>
            </a:r>
          </a:p>
        </p:txBody>
      </p:sp>
      <p:sp>
        <p:nvSpPr>
          <p:cNvPr id="5" name="PlaceHolder 4"/>
          <p:cNvSpPr>
            <a:spLocks noGrp="1"/>
          </p:cNvSpPr>
          <p:nvPr>
            <p:ph type="sldNum" idx="2"/>
          </p:nvPr>
        </p:nvSpPr>
        <p:spPr/>
        <p:txBody>
          <a:bodyPr/>
          <a:p>
            <a:fld id="{3B288067-7C11-4040-A613-38A696C67A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sues Discussed in Conference Call – Jan 11, 05</a:t>
            </a:r>
            <a:endParaRPr b="0" lang="en-US" sz="2600" spc="-1" strike="noStrike">
              <a:solidFill>
                <a:srgbClr val="000000"/>
              </a:solidFill>
              <a:latin typeface="Arial"/>
            </a:endParaRPr>
          </a:p>
        </p:txBody>
      </p:sp>
      <p:sp>
        <p:nvSpPr>
          <p:cNvPr id="15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gaming traffic model contribution (04/86)</a:t>
            </a: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ed  by Jim Tomcik</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s between 3GPP/3GPP2 Internet gaming models discussed</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GPP2 model based on Farber’s models for First Person Shooting game type</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is of 3GPP model, and differences between forward and reverse links to be further verified</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updates on gaming model to be discussed in Interim meeting</a:t>
            </a:r>
            <a:endParaRPr b="0" lang="en-US" sz="16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d video source coding rate – email message on the reflector </a:t>
            </a: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ed by Dan Gal</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vey of ITU audio/video source coding rate standards</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on the multimedia source coding requirements in 2G/3G standards</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details to be discussed in Interim meeting (05/11)</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C802.20-05-04r3a</a:t>
            </a:r>
          </a:p>
        </p:txBody>
      </p:sp>
      <p:sp>
        <p:nvSpPr>
          <p:cNvPr id="5" name="PlaceHolder 4"/>
          <p:cNvSpPr>
            <a:spLocks noGrp="1"/>
          </p:cNvSpPr>
          <p:nvPr>
            <p:ph type="sldNum" idx="2"/>
          </p:nvPr>
        </p:nvSpPr>
        <p:spPr/>
        <p:txBody>
          <a:bodyPr/>
          <a:p>
            <a:fld id="{8E1120D2-8179-4F62-90B4-2829840B6F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pen Issues in Traffic Models</a:t>
            </a:r>
            <a:endParaRPr b="0" lang="en-US" sz="2600" spc="-1" strike="noStrike">
              <a:solidFill>
                <a:srgbClr val="000000"/>
              </a:solidFill>
              <a:latin typeface="Arial"/>
            </a:endParaRPr>
          </a:p>
        </p:txBody>
      </p:sp>
      <p:sp>
        <p:nvSpPr>
          <p:cNvPr id="155" name="PlaceHolder 2"/>
          <p:cNvSpPr>
            <a:spLocks noGrp="1"/>
          </p:cNvSpPr>
          <p:nvPr>
            <p:ph/>
          </p:nvPr>
        </p:nvSpPr>
        <p:spPr>
          <a:xfrm>
            <a:off x="457200" y="1066320"/>
            <a:ext cx="8229600" cy="541044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models</a:t>
            </a: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P model </a:t>
            </a:r>
            <a:endParaRPr b="0" lang="en-US" sz="16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ed contributions: 04/12, 04/37, </a:t>
            </a:r>
            <a:r>
              <a:rPr b="0" lang="en-US" sz="1400" spc="-1" strike="noStrike">
                <a:solidFill>
                  <a:srgbClr val="006600"/>
                </a:solidFill>
                <a:latin typeface="Arial"/>
              </a:rPr>
              <a:t>05/05</a:t>
            </a:r>
            <a:endParaRPr b="0" lang="en-US" sz="14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specific model not available</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gaming model </a:t>
            </a:r>
            <a:endParaRPr b="0" lang="en-US" sz="16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ibution 04/86, </a:t>
            </a:r>
            <a:r>
              <a:rPr b="0" lang="en-US" sz="1400" spc="-1" strike="noStrike">
                <a:solidFill>
                  <a:srgbClr val="006600"/>
                </a:solidFill>
                <a:latin typeface="Arial"/>
              </a:rPr>
              <a:t>05/06</a:t>
            </a:r>
            <a:endParaRPr b="0" lang="en-US" sz="14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contributions expected in January Interim meeting</a:t>
            </a:r>
            <a:endParaRPr b="0" lang="en-US" sz="14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 to determine the best option </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 streaming model </a:t>
            </a:r>
            <a:endParaRPr b="0" lang="en-US" sz="16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ibution 04/88, </a:t>
            </a:r>
            <a:r>
              <a:rPr b="0" lang="en-US" sz="1400" spc="-1" strike="noStrike">
                <a:solidFill>
                  <a:srgbClr val="006600"/>
                </a:solidFill>
                <a:latin typeface="Arial"/>
              </a:rPr>
              <a:t>05/11</a:t>
            </a:r>
            <a:endParaRPr b="0" lang="en-US" sz="14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new contributions expected in January Interim meeting</a:t>
            </a:r>
            <a:endParaRPr b="0" lang="en-US" sz="14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 to select an appropriate source data rate for evaluation</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ffic model mix</a:t>
            </a:r>
            <a:endParaRPr b="0" lang="en-US" sz="16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ibution 04/85r1</a:t>
            </a:r>
            <a:endParaRPr b="0" lang="en-US" sz="14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 to determine the percentage mix for simulating the desired traffic models as listed in the phase approach table </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C802.20-05-04r3a</a:t>
            </a:r>
          </a:p>
        </p:txBody>
      </p:sp>
      <p:sp>
        <p:nvSpPr>
          <p:cNvPr id="5" name="PlaceHolder 4"/>
          <p:cNvSpPr>
            <a:spLocks noGrp="1"/>
          </p:cNvSpPr>
          <p:nvPr>
            <p:ph type="sldNum" idx="2"/>
          </p:nvPr>
        </p:nvSpPr>
        <p:spPr/>
        <p:txBody>
          <a:bodyPr/>
          <a:p>
            <a:fld id="{A9562DAA-7F66-4BB5-A23A-1E3308BF3E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457200"/>
            <a:ext cx="87631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pen Issues in Evaluation Criteria Document V.12</a:t>
            </a:r>
            <a:endParaRPr b="0" lang="en-US" sz="2600" spc="-1" strike="noStrike">
              <a:solidFill>
                <a:srgbClr val="000000"/>
              </a:solidFill>
              <a:latin typeface="Arial"/>
            </a:endParaRPr>
          </a:p>
        </p:txBody>
      </p:sp>
      <p:sp>
        <p:nvSpPr>
          <p:cNvPr id="157" name="PlaceHolder 2"/>
          <p:cNvSpPr>
            <a:spLocks noGrp="1"/>
          </p:cNvSpPr>
          <p:nvPr>
            <p:ph/>
          </p:nvPr>
        </p:nvSpPr>
        <p:spPr>
          <a:xfrm>
            <a:off x="457200" y="1219320"/>
            <a:ext cx="8229600" cy="541008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alibr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 of Phase 1 evaluation</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 04/83r2, </a:t>
            </a:r>
            <a:r>
              <a:rPr b="0" lang="en-US" sz="1600" spc="-1" strike="noStrike">
                <a:solidFill>
                  <a:srgbClr val="006600"/>
                </a:solidFill>
                <a:latin typeface="Arial"/>
              </a:rPr>
              <a:t>[05/07r1]</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suggestion on calibration based on fixed user locations</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contributions expected in January Interim meeting</a:t>
            </a:r>
            <a:endParaRPr b="0" lang="en-US" sz="16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 model mix</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 04/82r1</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questioned the need on the use of channel model mix</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consistent with channel models document</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open issues to follow …</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802.20-05-04r3a</a:t>
            </a:r>
          </a:p>
        </p:txBody>
      </p:sp>
      <p:sp>
        <p:nvSpPr>
          <p:cNvPr id="5" name="PlaceHolder 4"/>
          <p:cNvSpPr>
            <a:spLocks noGrp="1"/>
          </p:cNvSpPr>
          <p:nvPr>
            <p:ph type="sldNum" idx="2"/>
          </p:nvPr>
        </p:nvSpPr>
        <p:spPr/>
        <p:txBody>
          <a:bodyPr/>
          <a:p>
            <a:fld id="{86E30861-7974-449A-8E72-6BDB1F06AF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nk Budget Criteria</a:t>
            </a:r>
            <a:endParaRPr b="0" lang="en-US" sz="2600" spc="-1" strike="noStrike">
              <a:solidFill>
                <a:srgbClr val="000000"/>
              </a:solidFill>
              <a:latin typeface="Arial"/>
            </a:endParaRPr>
          </a:p>
        </p:txBody>
      </p:sp>
      <p:sp>
        <p:nvSpPr>
          <p:cNvPr id="159"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budge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ification text required to specify type of data requested, e.g.,</a:t>
            </a:r>
            <a:endParaRPr b="0" lang="en-US" sz="18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nel environment </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Data Rate at the cell edge</a:t>
            </a:r>
            <a:endParaRPr b="0" lang="en-US" sz="1600" spc="-1" strike="noStrike">
              <a:solidFill>
                <a:srgbClr val="000000"/>
              </a:solidFill>
              <a:latin typeface="Arial"/>
            </a:endParaRPr>
          </a:p>
          <a:p>
            <a:pPr lvl="2" marL="1143000" indent="-228600">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ly, maximum cell size for the required minimum data rat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ology Selection Process document will specify use of data</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provide a linkage between required performance metrics as specified in section 13 and the link budget template</a:t>
            </a:r>
            <a:r>
              <a:rPr b="0" lang="en-US" sz="2800" spc="-1" strike="noStrike">
                <a:solidFill>
                  <a:srgbClr val="339966"/>
                </a:solidFill>
                <a:latin typeface="Arial"/>
              </a:rPr>
              <a:t> </a:t>
            </a:r>
            <a:endParaRPr b="0" lang="en-US" sz="28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C802.20-05-04r3a</a:t>
            </a:r>
          </a:p>
        </p:txBody>
      </p:sp>
      <p:sp>
        <p:nvSpPr>
          <p:cNvPr id="5" name="PlaceHolder 4"/>
          <p:cNvSpPr>
            <a:spLocks noGrp="1"/>
          </p:cNvSpPr>
          <p:nvPr>
            <p:ph type="sldNum" idx="2"/>
          </p:nvPr>
        </p:nvSpPr>
        <p:spPr/>
        <p:txBody>
          <a:bodyPr/>
          <a:p>
            <a:fld id="{CE24FE4A-A848-4108-8D0A-B255C8A352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airness Criteria</a:t>
            </a:r>
            <a:endParaRPr b="0" lang="en-US" sz="2600" spc="-1" strike="noStrike">
              <a:solidFill>
                <a:srgbClr val="000000"/>
              </a:solidFill>
              <a:latin typeface="Arial"/>
            </a:endParaRPr>
          </a:p>
        </p:txBody>
      </p:sp>
      <p:sp>
        <p:nvSpPr>
          <p:cNvPr id="161"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ness criteria for applications other than the best effort traffic</a:t>
            </a:r>
            <a:r>
              <a:rPr b="0" lang="en-US" sz="1800" spc="-1" strike="noStrike">
                <a:solidFill>
                  <a:srgbClr val="000000"/>
                </a:solidFill>
                <a:latin typeface="Arial"/>
              </a:rPr>
              <a:t> need to be specified</a:t>
            </a:r>
            <a:endParaRPr b="0" lang="en-US" sz="18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pproach table listed various applications to be evaluated:</a:t>
            </a:r>
            <a:endParaRPr b="0" lang="en-US" sz="16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time Interactive traffic (VoIP, gaming)</a:t>
            </a:r>
            <a:endParaRPr b="0" lang="en-US" sz="14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aming traffic (Video streaming)</a:t>
            </a:r>
            <a:endParaRPr b="0" lang="en-US" sz="14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al-time data traffic (HTTP)</a:t>
            </a:r>
            <a:endParaRPr b="0" lang="en-US" sz="1400" spc="-1" strike="noStrike">
              <a:solidFill>
                <a:srgbClr val="000000"/>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criteria not yet specified </a:t>
            </a:r>
            <a:endParaRPr b="0" lang="en-US" sz="16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oS performance – Delay, Error Rate </a:t>
            </a:r>
            <a:r>
              <a:rPr b="0" lang="en-US" sz="1400" spc="-1" strike="noStrike">
                <a:solidFill>
                  <a:srgbClr val="006600"/>
                </a:solidFill>
                <a:latin typeface="Arial"/>
              </a:rPr>
              <a:t>[VoIP: 05/05]</a:t>
            </a:r>
            <a:endParaRPr b="0" lang="en-US" sz="14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age criteria</a:t>
            </a:r>
            <a:endParaRPr b="0" lang="en-US" sz="14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at would be the performance criteria for each traffic type to ensure that the spectral efficiency is computed based on system resources being shared fairly amongst the simulated users in the same secto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ributions are required if additional metrics are to be adopted</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802.20-05-04r3a</a:t>
            </a:r>
          </a:p>
        </p:txBody>
      </p:sp>
      <p:sp>
        <p:nvSpPr>
          <p:cNvPr id="5" name="PlaceHolder 4"/>
          <p:cNvSpPr>
            <a:spLocks noGrp="1"/>
          </p:cNvSpPr>
          <p:nvPr>
            <p:ph type="sldNum" idx="2"/>
          </p:nvPr>
        </p:nvSpPr>
        <p:spPr/>
        <p:txBody>
          <a:bodyPr/>
          <a:p>
            <a:fld id="{EB56F626-0B22-4428-B981-8870ECFEA1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ase 1 Simulation Methodology</a:t>
            </a:r>
            <a:endParaRPr b="0" lang="en-US" sz="2600" spc="-1" strike="noStrike">
              <a:solidFill>
                <a:srgbClr val="000000"/>
              </a:solidFill>
              <a:latin typeface="Arial"/>
            </a:endParaRPr>
          </a:p>
        </p:txBody>
      </p:sp>
      <p:sp>
        <p:nvSpPr>
          <p:cNvPr id="163"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cells, 3 sectors wrap around configur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model</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buffer (Hungry user) model</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 model</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urban Macro</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destrian B, 3 km/h</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hicular B, 120 km/h</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issues:</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alibration </a:t>
            </a:r>
            <a:r>
              <a:rPr b="0" lang="en-US" sz="1800" spc="-1" strike="noStrike">
                <a:solidFill>
                  <a:srgbClr val="006600"/>
                </a:solidFill>
                <a:latin typeface="Arial"/>
              </a:rPr>
              <a:t>[04/83r2,</a:t>
            </a:r>
            <a:r>
              <a:rPr b="0" lang="en-US" sz="1800" spc="-1" strike="noStrike">
                <a:solidFill>
                  <a:srgbClr val="000000"/>
                </a:solidFill>
                <a:latin typeface="Arial"/>
              </a:rPr>
              <a:t> </a:t>
            </a:r>
            <a:r>
              <a:rPr b="0" lang="en-US" sz="1800" spc="-1" strike="noStrike">
                <a:solidFill>
                  <a:srgbClr val="006600"/>
                </a:solidFill>
                <a:latin typeface="Arial"/>
              </a:rPr>
              <a:t>05/07r1]</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Budget </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metrics</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nsus required for Section 3.2 </a:t>
            </a:r>
            <a:r>
              <a:rPr b="0" lang="en-US" sz="1600" spc="-1" strike="noStrike">
                <a:solidFill>
                  <a:srgbClr val="006600"/>
                </a:solidFill>
                <a:latin typeface="Arial"/>
              </a:rPr>
              <a:t>[04/88]</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C802.20-05-04r3a</a:t>
            </a:r>
          </a:p>
        </p:txBody>
      </p:sp>
      <p:sp>
        <p:nvSpPr>
          <p:cNvPr id="5" name="PlaceHolder 4"/>
          <p:cNvSpPr>
            <a:spLocks noGrp="1"/>
          </p:cNvSpPr>
          <p:nvPr>
            <p:ph type="sldNum" idx="2"/>
          </p:nvPr>
        </p:nvSpPr>
        <p:spPr/>
        <p:txBody>
          <a:bodyPr/>
          <a:p>
            <a:fld id="{8DE0CBCC-6AC9-4E03-87D0-13D408320C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1T21:50:04Z</dcterms:created>
  <dc:creator>atee</dc:creator>
  <dc:description/>
  <dc:language>en-US</dc:language>
  <cp:lastModifiedBy>atee</cp:lastModifiedBy>
  <dcterms:modified xsi:type="dcterms:W3CDTF">2005-02-11T17:53:14Z</dcterms:modified>
  <cp:revision>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18508566</vt:r8>
  </property>
  <property fmtid="{D5CDD505-2E9C-101B-9397-08002B2CF9AE}" pid="3" name="_AuthorEmail">
    <vt:lpwstr>raoy@qualcomm.com</vt:lpwstr>
  </property>
  <property fmtid="{D5CDD505-2E9C-101B-9397-08002B2CF9AE}" pid="4" name="_AuthorEmailDisplayName">
    <vt:lpwstr>Yallapragada, Rao</vt:lpwstr>
  </property>
  <property fmtid="{D5CDD505-2E9C-101B-9397-08002B2CF9AE}" pid="5" name="_EmailSubject">
    <vt:lpwstr>Updates for January '05 session</vt:lpwstr>
  </property>
  <property fmtid="{D5CDD505-2E9C-101B-9397-08002B2CF9AE}" pid="6" name="_NewReviewCycle">
    <vt:lpwstr/>
  </property>
  <property fmtid="{D5CDD505-2E9C-101B-9397-08002B2CF9AE}" pid="7" name="_PreviousAdHocReviewCycleID">
    <vt:r8>-258880076</vt:r8>
  </property>
</Properties>
</file>