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11D2-CF93-4809-BBD1-87F4C6C1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2B05-F71F-489F-B100-2B60742A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9BA-866D-4A24-98C7-7DC2BA8E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AA0-DA78-46F4-B860-1D2E9183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6BD0-D134-49A6-9F68-E5B87E87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7845-A244-483D-A6EB-A00A1CD5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9782-254D-4E34-84DD-6C352E39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564E-655D-4610-8943-5E413496F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32AF-F063-45D5-93C0-88FC7D0A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2636-04C0-4671-8386-E51BF3CD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AA31-B0F0-4477-BACC-A6933057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8A4-D68A-4A4A-8BE7-D920F447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88D7-2093-4DE4-98CF-297EA2EF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1F69-2E9B-4C65-95C5-01EECEF2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26DF-06CE-493E-AC69-64056C62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07DD-772F-4163-92B0-7A139A87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F58D-3008-4355-BA29-05F8CBE5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F4CB0-BD57-465D-B4D4-43BB3397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8991A-178F-4024-BCB6-32F711FB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15549-A150-4225-A300-1857A745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CD5E2-F2F7-4A62-8513-7898897B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C1C1F-D19D-45FF-A138-BAF0DB5A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B87E-53D2-484B-AADB-57DE3362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454BD-E75D-43E7-8C87-8D0760F4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0C72E-4826-4328-809A-6376FF83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F138F-E4EB-442B-9D0C-CCC4B0C6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C705E-CD79-4AF8-96FD-B4B8BB88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B02F7-23C8-4F26-BFE4-8206C4F5F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A5C59-E53D-4098-A68C-2EB127666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6ACD-4DC4-4DD4-A8B1-F2D124EE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EA8-A7FE-4CFA-9E59-EBDDC74C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E38F-6CA7-4961-A994-C979A114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A2A-DB58-47E7-8201-EB0C553C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72FD-098C-4976-AF80-D490A5B7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BEE-1F1F-49FD-A550-9B59E382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589-09DF-4217-87D3-A766CA83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F0E1-73DF-4292-AEEA-FE14EC6556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7647-0243-4D25-ACA0-CEE927F9DD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CB40-1AC9-45EC-8092-142C8B16E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066680" y="0"/>
          <a:ext cx="6856560" cy="678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0"/>
                    <a:ext cx="6856560" cy="678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117C3-E75B-4170-9E21-AC780447E0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Network Effects model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delay model defined in 802.20 evaluation criteria document V.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delay distribu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ifted Gamma distribu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ters specified in Table 8 of Section 5.3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packet lo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fied in Section 5.3.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umption: 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cus of evaluation is on the PHY and MAC layer techn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 comparison, the network packet loss rate is negligible assuming no conges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C9FF-47CC-4951-90D9-16C37EF821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QoS metrics for Telephony Applications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mission rating factor R-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bed in ITU-T G.17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culated using the E-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Relative measurem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with respect to a reference conditio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end in transmission plan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lue range from 0 – 100 (Very high qualit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819520" y="2971800"/>
            <a:ext cx="2778120" cy="401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3733920"/>
            <a:ext cx="8458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~ Basic signal-to-noise rat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combination of all impairments ~ simultaneous with vo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impairment caused by de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Equipment impairment factor ~ caused by low bit rate code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: advantage factor ~ compensation of impairments in the presence of advant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 quality measurement metrics can be computed from the R-val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Mean Opinion Score (MOS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rcentage of Good or Bad (GoB%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rcentage of Poor or Worst (PoW%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66CB-07FA-4893-AD31-7AC1C0F800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QoS performance measurement </a:t>
            </a:r>
            <a:br>
              <a:rPr sz="2600"/>
            </a:b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– Subjective vs Objective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2743200"/>
          <a:ext cx="7467840" cy="3103560"/>
        </p:xfrm>
        <a:graphic>
          <a:graphicData uri="http://schemas.openxmlformats.org/drawingml/2006/table">
            <a:tbl>
              <a:tblPr/>
              <a:tblGrid>
                <a:gridCol w="1981440"/>
                <a:gridCol w="838080"/>
                <a:gridCol w="2514600"/>
                <a:gridCol w="21337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-valu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er lim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ech Transmission Quality Catego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r Satisfa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s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satisfi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tisfi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diu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 users dissatisfi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users dissatisfi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arly all users dissatisfi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762120" y="1219320"/>
            <a:ext cx="754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A / EIA / IS-810-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U-T G.17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D162-5FE2-4E48-AA21-3517A4AF31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QoS Performance: R-value vs One-way Network Delay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377120" cy="42894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2120" y="762120"/>
            <a:ext cx="754380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.729A: 8 kbps, 10ms frame, Voice Activity Detection (VA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ny Users dissatisfied” whe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acket loss &gt; ~ 2%  (2 speech frames/packe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One-way Network Delay &gt; ~180 ms (when packet loss = 0%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7360" y="6400800"/>
            <a:ext cx="219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: TIA / EIA / IS-810-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323-E1D2-4233-85E8-4ACCA66AEC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How about G.723.1 A ?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7358040" cy="427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62120" y="685800"/>
            <a:ext cx="754380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.723.1 A: 6.3 kbps, 30 ms frame, Voice activity detection (VAD)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ny Users dissatisfied” whe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acket loss &gt; ~ 1% (1 speech frame/packe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One-way Network Delay &gt; 110 ms (when packet loss = 0%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64008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urce: TIA / EIA / IS-810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4D5-30BD-451F-9AB9-85E1EA5A89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Conclusion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1532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U-T G.729 A,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lerates relatively higher packet loss and longer network delay than G.723.1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666699"/>
              </a:buClr>
              <a:buSzPct val="75000"/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G.729 A,B can be chosen over G.723.1 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ed to decide on the state transition probabil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R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s variable rate including voice activity det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rger number of Markov states as a result of multiple source data r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el for state transit described in detail in IS-87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d in current CDMA 2000 standa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is the R-value performance characteristics, as compared to G.729 A,B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to choose a vocoder for technology evalu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.729 A, B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RC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other vocoder standard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to determine performance metrics for eval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what dependen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n the choic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f vocoder standard for evalu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cket loss rat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tenc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lay Jit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86BE-A959-4633-8DA4-633DF91A3A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List of References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. Tomcik, “VoIP Models-Update”, IEEE C802.20-04/37, May 200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. Khan, “VoIP Models for 802.20 System Performance Evaluation”, IEEE 802.20-04/12, Jan 200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A/EIA, “Transmission requirements for Narrowband Voice over IP and Voice over PCM Digital Wireline Telephones”, TIA/EIA-810-A, Dec 10, 2000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A/3GPP2, “Enhanced Variable Rate Codec, Speech Service Option 3 for Wideband Spread Spectrum Digital Systems”, TIA-127A, May 200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GPP2, “Markov Service Option (MSO) for cdma2000 Spread Spectrum Systems”, IS-871, April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U-T, “Coding of speech at 8 kb/s using Conjugate-Structure Algebraic-code-Excited Linear-Prediction (CS-ACELP)”, G.729, March 199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nex A: Reduced complexity 8 kb/s CS-ACELP speech codec, Nov, 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nex B: A Silence compression scheme for G.729 optimized for terminals conforming to Recommendation V.70, Nov 199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U-T, “Transmission planning for private/public network interconnection of voice traffic”, G. 175, March 1997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EEE 802.20 Evaluation criteria document Ver. 12”, November 2004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716-2F8A-46A5-AA52-6749DE62A6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Evaluation of VoIP application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3352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previous 802.20 contributions on VoIP mod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 candidate vocoder characteris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riable rate: EVR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 rate: ITU-T G.729 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ov model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stack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effects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oS metrics and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st of Refere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50E0-DFA8-40D3-B0AE-6385E732BF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Summary of Earlier Discussions on VoIP Traffic Model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recent contribution: 04/3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cribed Framework of VoIP 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oice source mo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P stack mo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twork effects mo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nd-to-end control mod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ewed Vocoder standa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VRC (TIA / EIA / IS-12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U G.729/A (DTX - Voice Activity Detec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lier contribution: 04/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cussed protocol overhead – TCP, UDP, RTP, PHY and MAC hea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cussed voice activity det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chniques for improving capacit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der compres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me aggreg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ormance metrics and requir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cket lost rati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atenc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lay jit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822-6E63-4327-A052-9C8AAAE71B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Voice Source Model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oose Vocoder standard used in current and foreseeable fu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didate vocoder standar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R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U-T G.729 A, 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U-T G.723.1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th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RC Vocoder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A / EIA / IS-1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d in 3G technology (CDMA 200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riable data r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ull Rate:  8.6 kb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lf Rate: 4.3 kb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/8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Rate: 1.0 kbps (Background nois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end on average Vocoder input signal energy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ple thresholds used to determine data rate based on detected energy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545B-7FAD-4F06-A27A-ACAFDC7674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Markov Model for Variable Rate Source Coder [IS-871]</a:t>
            </a: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838160" y="1066680"/>
          <a:ext cx="5292720" cy="48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8160" y="1066680"/>
                    <a:ext cx="5292720" cy="48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27F-899E-4BF3-A890-D9BE2775DE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Markov Model for Variable Rate Source Coder [IS-871]</a:t>
            </a: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371600"/>
            <a:ext cx="769644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ies defined in IS-871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ov Service Options for CDMA 2000 spread spectrum system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has been used by 1xEV-DV evaluation methodolog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ice activity factor: 0.4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 rate (R-1): 2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lf rate (R-1/2): 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rter rate (R-1/4): 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-eighth rate (R-1/8): 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5106-7562-457B-B6E1-DBF6242AC6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Fixed Rate Speech Coding Standard ITU-T G.729</a:t>
            </a:r>
            <a:br>
              <a:rPr sz="2600"/>
            </a:b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- Silence Compression Scheme [Annex B]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066680"/>
            <a:ext cx="868680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U-T G.729  (CS-ACEL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 kb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ms fr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U-T G.729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duced complexity 8 kbps CS-ACELP speech code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U-T G.729 Annex B (Silence compression scheme for G.72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ice Activity Detec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continuous Transmission feature (DT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e a threshold to determine voice activity based on detected average energy leve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wo states: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 kbps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0 kbps (no transmission when inactiv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eiver detects DTX state to determine if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ctive: Decode speech da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938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Inactive: Generate comfort noise locally based on information on background noise level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Markov Model for Fixed Rate Source Coder with Voice Activity Detection (DTX) [ITU-T G.729B]</a:t>
            </a:r>
            <a:r>
              <a:rPr b="0" lang="en-US" sz="26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95280" y="1676520"/>
          <a:ext cx="6586560" cy="209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586560" cy="20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295280" y="4114800"/>
            <a:ext cx="5867640" cy="22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fy values for transition probabiliti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(A|I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(I|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ume similar Voice activity factor of 0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(A|I) ~ 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(I|A) ~ 0.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43AD-94BA-4BCE-B753-6B6BE965EC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b2b2"/>
                </a:solidFill>
                <a:latin typeface="Arial"/>
              </a:rPr>
              <a:t>IP Stack model</a:t>
            </a:r>
            <a:endParaRPr b="0" lang="en-US" sz="2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 used for Vo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D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T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aluation criteria document does not have UDP, RTP 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 really necessary except to account for the overhe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ify Header size [2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TP ~ 12 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DP ~ 8 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P     ~ 20 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b2b2b2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TP + UDP + IP ~ 40 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 header compress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ould working group decide if header compression needs to be used in the evaluation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f used, what should be the compression rati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:1 bytes ? [2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/MAC headers are proposal depend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ponents to specify the required header 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CA0-5525-4F5C-8D30-A110E07BAB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21:50:04Z</dcterms:created>
  <dc:creator>atee</dc:creator>
  <dc:description/>
  <dc:language>en-US</dc:language>
  <cp:lastModifiedBy>atee</cp:lastModifiedBy>
  <dcterms:modified xsi:type="dcterms:W3CDTF">2005-01-18T16:43:46Z</dcterms:modified>
  <cp:revision>6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12487848</vt:r8>
  </property>
  <property fmtid="{D5CDD505-2E9C-101B-9397-08002B2CF9AE}" pid="3" name="_AuthorEmail">
    <vt:lpwstr>raoy@qualcomm.com</vt:lpwstr>
  </property>
  <property fmtid="{D5CDD505-2E9C-101B-9397-08002B2CF9AE}" pid="4" name="_AuthorEmailDisplayName">
    <vt:lpwstr>Yallapragada, Rao</vt:lpwstr>
  </property>
  <property fmtid="{D5CDD505-2E9C-101B-9397-08002B2CF9AE}" pid="5" name="_EmailSubject">
    <vt:lpwstr>Updates for January '05 session</vt:lpwstr>
  </property>
  <property fmtid="{D5CDD505-2E9C-101B-9397-08002B2CF9AE}" pid="6" name="_NewReviewCycle">
    <vt:lpwstr/>
  </property>
  <property fmtid="{D5CDD505-2E9C-101B-9397-08002B2CF9AE}" pid="7" name="_PreviousAdHocReviewCycleID">
    <vt:r8>716422972</vt:r8>
  </property>
</Properties>
</file>