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2B0-10F8-46DB-A24B-38D89630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0FE-A9DA-4CEB-A48E-5F69190A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75B-CBDD-45C8-B819-628AADB1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0A23-973F-4369-8320-F69840D7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1AA7-DD26-4191-BD38-39598315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226C-B1F0-4D0D-9A4B-709321AE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3131-4E6C-4FA5-A352-645C06D3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220B3-D728-4CC7-8F5F-F1E08126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FDD8-515A-4B02-B04C-B51482F5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DF02-2AE8-4C90-9B93-E709CB57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DEA62-4BA1-4311-A9D2-479849EA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806C-8667-4110-957F-A604E091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E290-E0B6-4F08-8C13-9CE5E6CA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F5EE-A72E-481F-BAB3-CA216C07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FE01-039A-4A09-AD4B-D2086A8A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E2E0-D095-4346-8249-CD18DF83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CC96-562E-49AE-A8E9-1B0CE066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4C8-4409-45E8-8EF7-57206638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7CA-1BEB-4B51-9025-46B171FD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449-9DE6-45FE-B6E0-1BFCF2A7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6023-E8F8-4286-9496-A18918D4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45DF-22F8-49C4-9028-92B97AFD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3B6A-1616-47B4-8728-4B66335D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CD0-F719-4954-8A05-D7F2A5C0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1274-713D-4547-9DC8-A3EFB98DDE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3DB9-7385-48AE-BB0C-7EC45916B3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219320" y="609480"/>
          <a:ext cx="7543800" cy="6248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609480"/>
                    <a:ext cx="75438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Elements of 802.11n TS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merger, resubmission and re-presentation of proposals prior to each down-selection r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rgers may not occur among eliminated proposals sol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rmation roll call vote occurs when one proposal remains.  75% approval required for confi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rmed proposal adopted as basis for initial specification of draft standard without further vot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mments on Current TSP Propos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(as of the current version) include all components of a complete procedure.”  (C802.20-04-72r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revision and consolidation to occur prior to down-se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oses to rank proposals, without a relationship between the “ranking” and “selection” proce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s that one proposal can achieve a 75% threshold in a single round of voting among N propos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20 needs a TSP that is good enough for our purpo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802 Working Groups have developed, executed and further refined technology selection proces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20 should leverage the experience of other 802 working grou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20 WG should consider adopting adaptation of 802.11n process presented in C802.20-05/12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mments on the Technology Selection Procedures for 802.20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oanne C. Wils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ayComm, In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ob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does 802.20 ne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s of a good T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ew more observation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lements of 802.11n T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on current TSP propo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eneral Observ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spend many months defining and debating on the attributes a Technology Selection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no single, perfect process for selecting among technology propos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rocess we adopt is likely to need refinement during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.20 must adopt an executable TSP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for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chnology proposals can be accepted and conside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ame time, we need to adopt a TSP that will work effectively and facilitate future progre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does 802.20 ne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SP that is good enough for the job at ha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everage the experience of other 802 working group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avoid reinventing the whe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get on with i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ttributes of a good TSP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and unambiguous set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motes compliance to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es uniformity in technical level and content of propos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motes discussion and disclosure of necessary and sufficient technical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ats all proposals fairly and consist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nels down to ultimate selection between the two best alterna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few more observation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802 working groups have developed and executed TSP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at TSP is adopted, 802 P&amp;P mandates a 75% threshold for success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therefore, a deadlock will always be possi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fore, the TSP must promote consensus and co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os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2.20 WG should consider adopting adaptation of 802.11n process presented in C802.20-05/1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Elements of 802.11n TS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opts requirements, evaluation criteria, channel and usage models prior to call for propos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either complete or partial proposals and specifies handling of e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in detail the process steps and requirements on proposal submit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ucts down-selection in rounds, each of which eliminates the proposal with the least amount of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11:22:08Z</dcterms:created>
  <dc:creator>Joanne Wilson</dc:creator>
  <dc:description/>
  <dc:language>en-US</dc:language>
  <cp:lastModifiedBy>Joanne Wilson</cp:lastModifiedBy>
  <dcterms:modified xsi:type="dcterms:W3CDTF">2005-03-14T14:32:41Z</dcterms:modified>
  <cp:revision>9</cp:revision>
  <dc:subject/>
  <dc:title>Comments on the Technology Selection Procedures for 802.20</dc:title>
</cp:coreProperties>
</file>