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47C6-51F4-42B3-B337-FC05BD70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84B-6B5B-4E2A-8F81-10EA6E46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0E77-7757-49D4-80DF-4F0B2F64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FD5-AB21-41CE-A0EE-138CEE13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D9E-579D-422F-A831-D7715B3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19D-463B-4EBE-AE37-BD101D26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C3A-8913-4138-AC38-9DEDDA32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7BB-14E9-4322-BCB4-5BA89319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4A3-1431-4299-B37F-DE873097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E59-5904-4A75-BF1D-AE040966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FFB-2749-4F2B-9DA5-65DD1A7F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C8F2-C670-4C2A-8513-C8194CBF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EC3F-0B6A-4401-A59E-A4F198277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4520" y="3240"/>
          <a:ext cx="823752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3240"/>
                    <a:ext cx="823752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of 802.20 Channel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.20 WG Session #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 14-18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iang G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, Channel Modeling Correspondenc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228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802.20-05/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20 Channel Mode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Resolution from January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O systems shall use the ITU model in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ISO systems will use a correlation matrix approach in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relation matrices will be only antenna system depend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relation matrices [shall][may] be generated by using the SCM to generate th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ert name 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orrelation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trices used shall be submitted as part of the simulation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to be address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the correlation matric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generate the correlation matr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s need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41:33Z</dcterms:created>
  <dc:creator>Qiang Guo, Editor, Channel Modeling CG</dc:creator>
  <dc:description/>
  <dc:language>en-US</dc:language>
  <cp:lastModifiedBy>Rao Yallapragada</cp:lastModifiedBy>
  <dcterms:modified xsi:type="dcterms:W3CDTF">2005-03-11T06:34:37Z</dcterms:modified>
  <cp:revision>279</cp:revision>
  <dc:subject/>
  <dc:title>802.20 MBWA Channel Mode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45255608</vt:r8>
  </property>
  <property fmtid="{D5CDD505-2E9C-101B-9397-08002B2CF9AE}" pid="3" name="_AuthorEmail">
    <vt:lpwstr>raoy@qualcomm.com</vt:lpwstr>
  </property>
  <property fmtid="{D5CDD505-2E9C-101B-9397-08002B2CF9AE}" pid="4" name="_AuthorEmailDisplayName">
    <vt:lpwstr>Yallapragada, Rao</vt:lpwstr>
  </property>
  <property fmtid="{D5CDD505-2E9C-101B-9397-08002B2CF9AE}" pid="5" name="_EmailSubject">
    <vt:lpwstr>802.20 March '05 Session 13 Contributions Part I</vt:lpwstr>
  </property>
  <property fmtid="{D5CDD505-2E9C-101B-9397-08002B2CF9AE}" pid="6" name="_NewReviewCycle">
    <vt:lpwstr/>
  </property>
</Properties>
</file>