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6BF2-AFB2-4771-BCAF-579A5094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C75-C1C5-454C-B829-499A192E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2CC0-BE05-426D-B0BA-60C011BF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7FF9-B37B-4460-83FC-04CEAF0C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911-EB84-4069-832F-63C464E2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D937-BD47-4811-B978-E8B50F49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FFE4-DC40-431D-BD4C-7A72318E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BB2B-5170-40BE-A883-EDCBC893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3B8C-99C8-43C6-BDE9-6A8D35D2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75F7-0BB2-4509-BF72-3666B8D3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8046-68A6-401C-AAAA-B59B65D7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DA05-9FEE-41E3-9309-7CACEFA9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1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ir, IEEE 802.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D599-4CD0-4BEB-B3A5-A3306C3E7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4960" y="233280"/>
          <a:ext cx="8116920" cy="616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233280"/>
                    <a:ext cx="8116920" cy="616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802.20-05-14r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hase 2 Simulation Methodology - Detai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adopted 802.20 Channel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d text in contribution adopted in March meeting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[05/10r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off simulation model [05/08, 05/10r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off performance metrics [05/10r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issues that required further discu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se link / Control signaling model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[04/85r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issues that require further work on new contribution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05/22r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airness / QoS criteria for various applications for phase 2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pen Issues on Channel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Review of Version 8r1 for remaining proposed changes and corr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restructured in March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ions at Session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3.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relation matrices [shall/may] be generated…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02.20 Next Steps &amp; Action Item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om March 2005 Plenary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Review - - May 2005 Interi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55623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erry Upton- Ch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rry.upton@ieee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2286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20-05/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47520" y="152280"/>
            <a:ext cx="41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valuation Criteria from March Plen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9120" y="5181480"/>
            <a:ext cx="38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hannel Models from March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6440" y="5486400"/>
            <a:ext cx="749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Version 8 for “Correct” restructuring and editin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[Complet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Contributions for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f Open Issues will be created by Editor, send to the ref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533520"/>
            <a:ext cx="8686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Version 15 based upon agreements reach in sessi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[Version 15r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the Open Issues list and set conference call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[Conference calls hel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putting work on the email lis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Contributions to close open items (example Link Budget section data rates and associated 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Open/Suggested work items – need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Section of QoS by Traffic type (see 05/20 &amp; 05/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IP altern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Model – Technology proponent needs to show support for SRD Req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neric Model independent of vo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Proponent supplies simulation based upon on their own vocoder specific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 Calibration Resolution of a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ibration benchmark done by volunteer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 0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choic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14640" y="228600"/>
            <a:ext cx="649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chnology Selection Next Steps from March Plen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066680"/>
            <a:ext cx="8305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1.0 draft th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ges the Two Contributions and create options in sections where there is a difference- - Mark Klerer volunteers to try  a merger and send out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[This is complete see C802.20-05/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oint an Editor of the document - - Mark agrees to serve as a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[Below Not Complete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dditional Drop Box area for T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Second Table regarding Evaluation Criteria from C802.20-05/19 to the Evaluation Criteria doc as an Append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- Review for final approval the first table from C802.20-05/19 regarding Compliance to S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ant and Non-Compliant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DD and TDD Propo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s of EV and how it works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nsus and adoption of an Agreed T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r will obtain additional inputs on questions from .11n Chair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 members to 802.21 TSP Do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valuation Criteria - - Version 15r3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jor Open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ous Sections with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models (section 4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ff simulation model (section 5.4/5.5)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– option 2 in 05/10r2 adopted in March meeting, need to modify as per members’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II of Evaluation (section 6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Mix (section 9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Calibration needs review of specifics (section 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Budget (section 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rness criteria/QoS criteria for various applications to be evaluated as in Table 11 for phase 2 evaluation (section 1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pen Issues on Traffic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P mode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, specific model TB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gaming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model 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ribution C802.20-05/2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/Broad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del has been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open issues addressed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y previous contrib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Noise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C802.20-04/89r1 discussed in Janu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agreement to include or refine proposed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flow 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C802.20-04/85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C802.20-04/85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link overhead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C802.20-04/85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erse link model / signaling 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ibution C802.20-04/85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off sim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contribution C802.20-04/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contribution C802.20-05/10r1, 10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8080"/>
                </a:solidFill>
                <a:latin typeface="Arial"/>
              </a:rPr>
              <a:t>=&gt;</a:t>
            </a:r>
            <a:r>
              <a:rPr b="1" lang="en-US" sz="21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Need Check agreements in Docu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hase 1 Simulation Methodology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eds review of last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-Duplex, 19-cells, 3-sectors/cell wrap around 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ffic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-buffer (Hungry user; infinite backlog)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ne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urban Mac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destrian B, 3 km/h, all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ular B, 120 km/h, all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ess on open iss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Calibration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– further re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sed contribution adopted into EC V.14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Budget </a:t>
            </a:r>
            <a:r>
              <a:rPr b="0" lang="en-US" sz="1400" spc="-1" strike="noStrike">
                <a:solidFill>
                  <a:srgbClr val="006600"/>
                </a:solidFill>
                <a:latin typeface="Arial"/>
              </a:rPr>
              <a:t>– WG accepted modified text, with data rates for each test environment T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vised contribution with 3 options included into EC V.14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 metrics / output metric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nsus on Section 3.2 achieved during Interim meeting in 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system-level performance metrics (C802.20-04/85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r noise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achieve consensus on the proposed or refine text in Contribution 04/89r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ion 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text in Contribution 04/85r1 need to be reviewed for adoption into 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erse link simulation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of feedback / reverse link signaling errors discussed in Contribution 04/85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urther discussion or appropriate text for 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hase 2 Simulation Methodology – Configur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ill O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Duplex, 19-cells, 3-sectors/cell wrap around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Types - as listed in Table 11 in the evaluation criteria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P (RTP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del to be specified </a:t>
            </a:r>
            <a:r>
              <a:rPr b="0" lang="en-US" sz="1500" spc="-1" strike="noStrike">
                <a:solidFill>
                  <a:srgbClr val="006600"/>
                </a:solidFill>
                <a:latin typeface="Arial"/>
              </a:rPr>
              <a:t>(proposed options for model: 05/2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Browsing (T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Transfer (F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Gaming (TC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 options, but only one with detail tex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 Streaming (R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uffer size to be determin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/Multicast (RTP/UD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del not specifi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traffic types in the Table are “TB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mix not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22:44:38Z</dcterms:created>
  <dc:creator>    </dc:creator>
  <dc:description/>
  <dc:language>en-US</dc:language>
  <cp:lastModifiedBy>J Upton</cp:lastModifiedBy>
  <dcterms:modified xsi:type="dcterms:W3CDTF">2005-05-11T21:46:17Z</dcterms:modified>
  <cp:revision>182</cp:revision>
  <dc:subject/>
  <dc:title>802.20 Draft Agenda</dc:title>
</cp:coreProperties>
</file>