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90E-AC7F-459F-A2B6-E1495D049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F01-073E-48C4-8572-357B9F43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5954-4086-458E-9E80-A829A194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5586-4C72-412C-8D0E-B5BBC777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92A-70CE-4EB3-A85D-CC6E5F3D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BA27-6289-4E24-A4A7-9E8CF7D0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8E2-E9A5-4706-8F6C-12038903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4C8-1188-4DA3-856C-5484AC54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9D4-801B-47CB-BB8D-D21E7FAF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417B-6E5B-41A6-AA76-A65207BC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B3D1-0390-406B-A7D7-35EC6BAF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455-48CF-4A03-B8DC-6B016C0E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uly 18,20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EEE802.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A320-D615-4A18-9982-E2E72C512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eee802.org/secmail/msg06702.html" TargetMode="External"/><Relationship Id="rId2" Type="http://schemas.openxmlformats.org/officeDocument/2006/relationships/hyperlink" Target="http://ieee802.org/secmail/msg06702.html" TargetMode="External"/><Relationship Id="rId3" Type="http://schemas.openxmlformats.org/officeDocument/2006/relationships/hyperlink" Target="http://ieee802.org/secmail/msg06802.html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2286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 Working Group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4160" y="762120"/>
            <a:ext cx="717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reless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AM 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1 and .15 plus other Wireless WGs proposed Stud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295280" y="1676520"/>
          <a:ext cx="6324840" cy="4952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32484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22860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 Working Group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4440" y="3429000"/>
            <a:ext cx="861696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02 Policies and Procedures proposed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changes in Working Group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Changes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cellaneous Editorial/Obsolete/Document Organization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Chang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MSC Organization – Hibernation and Ballot P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2720" y="990720"/>
            <a:ext cx="85122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 Working Group P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802.1AL: Secure Device Ident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802.1AM: Media Independent RF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802.1ao: Shortest Path Brid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02.1ap: VLAN MI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02.1AC: MAC Service Definition {modification: date change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02.3at: DTE Power via MDI Enhancements ("Power over Ethernet Plu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802.11y: 3650-3700 MHz Operation in USA (Mostly likely will be withdrawn and study group continued given FCC del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1522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ther Working Group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533520"/>
            <a:ext cx="503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02 Policies and Procedures proposed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changes in Working Group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1371600"/>
          <a:ext cx="548640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54864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6T15:34:03Z</dcterms:created>
  <dc:creator>J Upton</dc:creator>
  <dc:description/>
  <dc:language>en-US</dc:language>
  <cp:lastModifiedBy>J Upton</cp:lastModifiedBy>
  <dcterms:modified xsi:type="dcterms:W3CDTF">2005-07-16T16:20:53Z</dcterms:modified>
  <cp:revision>6</cp:revision>
  <dc:subject/>
  <dc:title>Slide 1</dc:title>
</cp:coreProperties>
</file>