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wmf" ContentType="image/x-wmf"/>
  <Override PartName="/ppt/media/image19.png" ContentType="image/png"/>
  <Override PartName="/ppt/media/image20.wmf" ContentType="image/x-wmf"/>
  <Override PartName="/ppt/media/image21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32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28.png" ContentType="image/png"/>
  <Override PartName="/ppt/media/image31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30.png" ContentType="image/png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9.png" ContentType="image/png"/>
  <Override PartName="/ppt/media/image42.wmf" ContentType="image/x-wmf"/>
  <Override PartName="/ppt/media/image54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17DA-562B-475D-A478-BF4BCFEE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76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55880"/>
            <a:ext cx="777240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5C4-BA43-4035-8DB4-B7ED3A5F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76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19700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5588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5588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5C5-571C-48FF-BF9D-FB95B630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76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25023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197000"/>
            <a:ext cx="25023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197000"/>
            <a:ext cx="25023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55880"/>
            <a:ext cx="25023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55880"/>
            <a:ext cx="25023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55880"/>
            <a:ext cx="250236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31C2-6B16-4433-898B-51F80EC1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76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283-21F1-4343-A928-0BB3CFCC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76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0DCE-D629-46E8-8444-EA311ABD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76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3792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197000"/>
            <a:ext cx="3792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852-FC60-44C0-A0EE-18CA9273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76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3034-F3D7-4AF7-B3C8-B2F350F0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2400" cy="27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764-6343-417A-A446-260E1810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76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97000"/>
            <a:ext cx="3792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5588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1B5-E724-4E3D-AF42-614339BB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76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3792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19700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5588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5302-853F-4427-92EB-7F8DD30F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76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197000"/>
            <a:ext cx="379260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55880"/>
            <a:ext cx="7772400" cy="23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98F9-3057-49ED-B75A-E5A2922A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6CE5-326C-412C-8F8B-47D7C9E89089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78040" y="3863520"/>
            <a:ext cx="7277040" cy="19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Heesoo L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Gothic"/>
              </a:rPr>
              <a:t>heelee@etri.re.k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7440" y="1425240"/>
            <a:ext cx="862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HY헤드라인M"/>
                <a:ea typeface="HY헤드라인M"/>
              </a:rPr>
              <a:t>ETRI Propos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Physical Chann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DP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ownlink pilot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CCFP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ontrol Channel Format Physical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CCP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ommon Control Physical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CP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hared Control Physical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DSDP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ownlink Shared Data Physical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DPI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45417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upport four transmit anten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PI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Channel estimation for antenna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Resource space R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, R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, R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, and R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, are used for DPI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, DPI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, DPI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, and DPI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respective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ilot symbol 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Orthogonal sequences among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seudo Random M-PSK sequences among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Joint channel estimation for multiple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886360" y="1238400"/>
          <a:ext cx="2863800" cy="51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6360" y="1238400"/>
                    <a:ext cx="2863800" cy="51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Control Physical Chann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CCFP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CPCH format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CCP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Broadcasting common contro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CP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ARQ information, scheduling information for up/down physical data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is basic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is additionally used if necess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DSDP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ransmit use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 maximum of 40 DSDPCHs in a subframe (DTP) for 10MHz channel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QPSK, 16QAM, 64Q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hannel 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DPC, Convolutional turb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Code rate : ¼ ~ 4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ach DSDPCH consists of a number of DSDSCHs (Downlink Shared Data Sub-Chann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Four types of DSD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S-DSDSCH (Distributed &amp; Spreading type DSDS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N-DSDSCH (Distributed &amp; Nonspreading type DSDS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N-DSDSCH (Localized &amp; Nonspreading type DSDS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S-DSDSCH (Localized &amp; Spreading type DSDS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DS-DSDS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DS-DSD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here are 3*D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(Dimension of 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) DS-DSDSC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Each DS-DSDSCH consists of a RSS of 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istributed channe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pread each symbol over a DSB (Distributed spreading bl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A DSB consists of 3 distributed frequency-time b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preading factor is 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preading and scrambling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Orthogonal spreading sequences among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seudo random scrambling sequence among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Apply interference cancellation with Virtual M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Assigned to high speed users suffering from large intercell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DN-DSDS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DN-DSDS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There are 3*DR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(Dimension of R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) DN-DSDSCH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Each DN-DSDSCH consists of a RSS of R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Distributed channe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Assigned to high speed users relatively free from intercell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LN-DSDS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LN-DSDS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There are 3*DR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(Dimension of R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) LN-DSDSCH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Each DS-DSDSCH consists of a RSS of R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A RSS of 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consists of a chunk (15 consecutive subcarri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Localized channe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Not spread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Assigned to low speed users relatively free from intercell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LS-DSDS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LS-DSD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here are 3*DR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(Dimension of R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) LS-DSDSCH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ach LS-DSDSCH consists of a RSS of R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A RSS of R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consists of a chunk (15 consecutive subcarri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calized channel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pread each symbol over a LSB (Localized spreading bl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 LSB consists of 3 consecutive frequency-time b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preading factor is 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preading and scrambling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Orthogonal spreading sequences among s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Pseudo random scrambling sequence among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pply interference cancellation with Virtual M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ssigned to low speed users suffering from large intercell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Resource Space Par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7530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Example : 10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Y그래픽M"/>
              </a:rPr>
              <a:t>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HY그래픽M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Y그래픽M"/>
              </a:rPr>
              <a:t>~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HY그래픽M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HY그래픽M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HY그래픽M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HY그래픽M"/>
              </a:rPr>
              <a:t> OFDM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HY그래픽M"/>
              </a:rPr>
              <a:t>Distrib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Y그래픽M"/>
              </a:rPr>
              <a:t>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HY그래픽M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Y그래픽M"/>
              </a:rPr>
              <a:t>~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HY그래픽M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HY그래픽M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HY그래픽M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HY그래픽M"/>
              </a:rPr>
              <a:t> OFDM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Y그래픽M"/>
              </a:rPr>
              <a:t>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HY그래픽M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Y그래픽M"/>
              </a:rPr>
              <a:t>~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HY그래픽M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HY그래픽M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HY그래픽M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HY그래픽M"/>
              </a:rPr>
              <a:t> ~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HY그래픽M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HY그래픽M"/>
              </a:rPr>
              <a:t> OFDM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HY그래픽M"/>
              </a:rPr>
              <a:t>Unit of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HY그래픽M"/>
              </a:rPr>
              <a:t>BCS : Bundle of ch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HY그래픽M"/>
              </a:rPr>
              <a:t>Variabl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HY그래픽M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HY그래픽M"/>
              </a:rPr>
              <a:t>DR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HY그래픽M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HY그래픽M"/>
              </a:rPr>
              <a:t> ~ DR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  <a:ea typeface="HY그래픽M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-6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495680" y="1100160"/>
          <a:ext cx="4094280" cy="53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100160"/>
                    <a:ext cx="409428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Resource Subspace part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-19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-3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Basic asp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Down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Up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alient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user precoding M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Intercell interference management for downlink (Virtual MIM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Intercell interference management for uplink (Whispering resour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acro diversity in multicast/broad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Resource Subspace for RS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HY헤드라인M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Resource Subspace for RS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HY헤드라인M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Upl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Uplink Transm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38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ingle carrier FDMA bas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Orthogonal transmission within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odul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QPSK, 16Q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Optional: 8PSK, 64Q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hannel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DPC and convolutional Turbo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de rate: 4/15~4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p to 2 transmit anten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p to 4 receive anten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Inter-cell  interference avoidance/concentration with resource co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SC-FDMA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705040"/>
            <a:ext cx="38098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ow PAP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Cyclic prefix guard interval: enable cost-effective frequency domain block processing at receiver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wo types of SC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Localized transmission: multi-user scheduling gain in frequency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Distributed transmission: robust transmission for control channels and high mobility 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16000" y="1341360"/>
          <a:ext cx="7056360" cy="139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341360"/>
                    <a:ext cx="705636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219640" y="2925720"/>
          <a:ext cx="3381480" cy="352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2925720"/>
                    <a:ext cx="3381480" cy="35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SC-FDMA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38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Localize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Need to feedback channel stat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Mainly for low-to-medium mobility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istribute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Mainly for high mobility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Orthogonal resource subspace di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Transmission bandwidth is divided into localized band and distributed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Each band is further divided into several subbands for inter-cell interference avoidance/concen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A subband out of each band in a cell is operat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whisper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mode; UEs using a channel belonging to the same subband in neighboring cells can be operat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speak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mod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9640" y="4724280"/>
          <a:ext cx="8064720" cy="19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24280"/>
                    <a:ext cx="8064720" cy="19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SC-FDMA Para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55640" y="1341360"/>
          <a:ext cx="7629480" cy="4392720"/>
        </p:xfrm>
        <a:graphic>
          <a:graphicData uri="http://schemas.openxmlformats.org/drawingml/2006/table">
            <a:tbl>
              <a:tblPr/>
              <a:tblGrid>
                <a:gridCol w="1927080"/>
                <a:gridCol w="1425600"/>
                <a:gridCol w="1425600"/>
                <a:gridCol w="1425600"/>
                <a:gridCol w="1425600"/>
              </a:tblGrid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Transmission B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5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0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5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0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ubframe du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0.5 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ubcarrier spac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5 k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Sampling frequ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7.68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5.36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3.04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30.72 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FFT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5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20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Number of occupied subcarri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3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6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9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1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Number of blocks of symbols per sub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6 Long blocks + 2 Short bloc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굴림"/>
                        </a:rPr>
                        <a:t>CP length (us/sampl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4.04/31)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7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5.08/39)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4.1/63)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7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4.62/71)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4.12/95)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7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4.47/103)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4.13/127)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 7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(4.39/135)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Frame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Frame duration: 10 m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One frame consists of 20 UTPs (Uplink Traffic Packet, UTP and sub-frame are the same in this contex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UTP: 0.5 m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UTP: 6 regular symbol blocks + 2 half-length symbol bl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619280" y="3141720"/>
          <a:ext cx="548640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141720"/>
                    <a:ext cx="548640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Pilot Chann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098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i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For uplink channel quality measurement (channel sound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For channel estimation and coherent detection at receiver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DM pilot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Easy to keep low PAPR character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Pilot symbols are carried on two short 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upport both localized and distributed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lternating transmission for fitting into short block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48320" y="1728720"/>
          <a:ext cx="3809880" cy="383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28720"/>
                    <a:ext cx="380988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Physical Chann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PDCH (Shared Physical Data Channel): transmit data traffic and some data-dependent control sign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CPCH (State Control Physical Channel): transmit control signal for state management of user equip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ACH (Uplink ACK Channel):  transmit ACK/NACK information responding to downlink data chann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FCH (Uplink Feedback Channel): transmit feedback information for downlink transmis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FCH (Path-loss Feedback Channel): transmit long-term channel quality of serving and neighboring cells for uplink interference c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dditional physical channels for link set-up, synchronization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Basic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Channel Multiplex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plexing of Shared Channel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DM pilot structure is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Data-independent control channels are multiplexed in frequency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UE data and data-dependent control are multiplexed in time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908000" y="2997360"/>
          <a:ext cx="5486400" cy="29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997360"/>
                    <a:ext cx="5486400" cy="29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user Precoding MI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S-PUSR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user multistream precoding MIM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-PU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Transmitter and receiver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Feedback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cheduling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Capacity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stream precoding MI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640" y="1125000"/>
            <a:ext cx="77724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Transmission of multiple parallel strea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Independent coding for each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er stream rat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Known to achieve open-loop MIMO capacity when combined with stream-by-stream SIC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r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recoding vector for each stream (phase and amplitude variation across transmit antenn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hoice of precoding matrices (or vectors) depending on cell environment and UE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user MI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44640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ingle-user MIMO sc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ARC, S-PARC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ll streams to one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ream-by-stream S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patial domain multiuser diversity is NOT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-user MIMO sc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streams to multipl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patial domain multiuser d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arger diversity gain than single-user M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ream-by-stream SIC is NOT avail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219640" y="1197000"/>
          <a:ext cx="342108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197000"/>
                    <a:ext cx="342108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219640" y="3789360"/>
          <a:ext cx="3421080" cy="23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3789360"/>
                    <a:ext cx="342108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5008680" y="3068640"/>
            <a:ext cx="187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Single-user MIM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82480" y="5661000"/>
            <a:ext cx="182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-user MIM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S-PUSR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IC based Per User and Stream Rate Control (S-PUSR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user precoding MIMO (multiple precoded streams to multiple us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patial domain multiuser diversity g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Ordered stream-by-stream S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Feedback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ream order for SIC, SINRs for multiple str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979640" y="3645000"/>
          <a:ext cx="4068720" cy="28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3645000"/>
                    <a:ext cx="4068720" cy="28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S-PUSR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Transmitter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6408720" cy="27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S-PUSR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Receiver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511164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S-PUSR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81342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Feedback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굴림"/>
              </a:rPr>
              <a:t>SIC order inform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: the stream with the largest post-detection SINR is first decoded and cancelled at each step of S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굴림"/>
              </a:rPr>
              <a:t>Post-detection SIN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for each stream under the assumption of perfect cancellation of the stream with preceding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user scheduling with the following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One data stream cannot be allocated to more than one us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Whe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streams are to be allocated to a user, these should be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굴림"/>
              </a:rPr>
              <a:t>the first </a:t>
            </a:r>
            <a:r>
              <a:rPr b="0" i="1" lang="en-GB" sz="2000" spc="-1" strike="noStrike">
                <a:solidFill>
                  <a:srgbClr val="ff0000"/>
                </a:solidFill>
                <a:latin typeface="Times New Roman"/>
                <a:ea typeface="굴림"/>
              </a:rPr>
              <a:t>n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  <a:ea typeface="굴림"/>
              </a:rPr>
              <a:t> consecutive streams in the decoding order lis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of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Note that the scheduling constraints enable stream-by-stream SIC at the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S-PUS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Scheduling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f streams 2 and 3 have been allocated to UE2 and stream 4  to UE3, the remaining stream 1 cannot be allocated to UE1 or UE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f streams 3 and 1 have been allocated to UE1, streams 2 and 4 can be allocated to UE2 and UE3, respective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87280" y="1989000"/>
          <a:ext cx="6191280" cy="2003400"/>
        </p:xfrm>
        <a:graphic>
          <a:graphicData uri="http://schemas.openxmlformats.org/drawingml/2006/table">
            <a:tbl>
              <a:tblPr/>
              <a:tblGrid>
                <a:gridCol w="1822680"/>
                <a:gridCol w="4368600"/>
              </a:tblGrid>
              <a:tr h="49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oding order of data strea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 1   4  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  3   1  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  2   1  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Basic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upl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F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User Multiplexing/Multiple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ownlink : OF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plink : SC-FD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QPSK, 16QAM, 64QAM (Optional in Upli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Channel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DPC : Mandat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nvolutional turbo code : Op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de rate : 1/4 ~ 4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H-AR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hase combining and Type-II &amp; Type-III H-AR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Capacity compar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apacity of multi-stream MIMO in multi-user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ARC: all streams to the UE with the largest capac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C: each stream to the UE with the largest SINR for the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-PUSRC: multiuser stream allocation for a maximum capacity under the scheduling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195640" y="1989000"/>
          <a:ext cx="403200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89000"/>
                    <a:ext cx="403200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Capacity compar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633744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Capacity compar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806292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-PUSRC gives the largest capacity regardless of the number of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mall number of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IC gain, similar to PA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Large number of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patial-domain multiuser diversity gain, similar to P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-PUSRC achieves both SIC and spatial-domain multiuser diversity 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Intercell interference management for downlink (Virtual MIMO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Virtual MI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Downlink inter-cell interference mit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Coordinated symbol repeti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Transmission and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Resource partitioning and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imulation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Coordinated symbol re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Inter-cell interference mitigation based on coordinated symbol repetition for cell-edge UEs and control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he resources for symbol repetition of one cell/sector are set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exactl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ollide with those of other cell/s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Identical repetition-resource allocation among different cell/s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482920" y="4292640"/>
          <a:ext cx="410508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2920" y="4292640"/>
                    <a:ext cx="410508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332280" y="4595760"/>
            <a:ext cx="2166480" cy="993960"/>
            <a:chOff x="332280" y="4595760"/>
            <a:chExt cx="2166480" cy="993960"/>
          </a:xfrm>
        </p:grpSpPr>
        <p:grpSp>
          <p:nvGrpSpPr>
            <p:cNvPr id="173" name=""/>
            <p:cNvGrpSpPr/>
            <p:nvPr/>
          </p:nvGrpSpPr>
          <p:grpSpPr>
            <a:xfrm>
              <a:off x="1476360" y="4595760"/>
              <a:ext cx="1022400" cy="993960"/>
              <a:chOff x="1476360" y="4595760"/>
              <a:chExt cx="1022400" cy="993960"/>
            </a:xfrm>
          </p:grpSpPr>
          <p:sp>
            <p:nvSpPr>
              <p:cNvPr id="174" name=""/>
              <p:cNvSpPr/>
              <p:nvPr/>
            </p:nvSpPr>
            <p:spPr>
              <a:xfrm>
                <a:off x="1476360" y="4595760"/>
                <a:ext cx="1008360" cy="4320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R(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굴림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,t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굴림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490760" y="5157720"/>
                <a:ext cx="1008000" cy="4320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R(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굴림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,t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굴림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332280" y="488304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971640" y="4883040"/>
              <a:ext cx="4316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71640" y="5243400"/>
              <a:ext cx="4316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443640" y="4595760"/>
            <a:ext cx="1863000" cy="993240"/>
            <a:chOff x="6443640" y="4595760"/>
            <a:chExt cx="1863000" cy="993240"/>
          </a:xfrm>
        </p:grpSpPr>
        <p:grpSp>
          <p:nvGrpSpPr>
            <p:cNvPr id="180" name=""/>
            <p:cNvGrpSpPr/>
            <p:nvPr/>
          </p:nvGrpSpPr>
          <p:grpSpPr>
            <a:xfrm>
              <a:off x="6443640" y="4595760"/>
              <a:ext cx="1022400" cy="993240"/>
              <a:chOff x="6443640" y="4595760"/>
              <a:chExt cx="1022400" cy="993240"/>
            </a:xfrm>
          </p:grpSpPr>
          <p:sp>
            <p:nvSpPr>
              <p:cNvPr id="181" name=""/>
              <p:cNvSpPr/>
              <p:nvPr/>
            </p:nvSpPr>
            <p:spPr>
              <a:xfrm>
                <a:off x="6443640" y="4595760"/>
                <a:ext cx="100836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R(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굴림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,t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굴림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458040" y="5157360"/>
                <a:ext cx="1008000" cy="431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R(f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굴림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,t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굴림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굴림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7868160" y="481140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 flipV="1">
              <a:off x="7523280" y="4811040"/>
              <a:ext cx="2887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523280" y="5099040"/>
              <a:ext cx="28872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Coordinated symbol re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772400" cy="489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he transmission and reception is equivalent to a MIMO system (thus, called virtual M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ymbol detection using ZF, MMSE, IC et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547640" y="2781000"/>
            <a:ext cx="6193080" cy="3484080"/>
            <a:chOff x="1547640" y="2781000"/>
            <a:chExt cx="6193080" cy="3484080"/>
          </a:xfrm>
        </p:grpSpPr>
        <p:grpSp>
          <p:nvGrpSpPr>
            <p:cNvPr id="189" name=""/>
            <p:cNvGrpSpPr/>
            <p:nvPr/>
          </p:nvGrpSpPr>
          <p:grpSpPr>
            <a:xfrm>
              <a:off x="2484360" y="3975120"/>
              <a:ext cx="4319280" cy="649440"/>
              <a:chOff x="2484360" y="3975120"/>
              <a:chExt cx="4319280" cy="649440"/>
            </a:xfrm>
          </p:grpSpPr>
          <p:sp>
            <p:nvSpPr>
              <p:cNvPr id="190" name=""/>
              <p:cNvSpPr/>
              <p:nvPr/>
            </p:nvSpPr>
            <p:spPr>
              <a:xfrm flipH="1" flipV="1">
                <a:off x="5060520" y="3975120"/>
                <a:ext cx="1743120" cy="64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3897720" y="3975120"/>
                <a:ext cx="2656800" cy="64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2735280" y="3975120"/>
                <a:ext cx="2158920" cy="64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2484360" y="3975120"/>
                <a:ext cx="1247040" cy="64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1547640" y="5127480"/>
              <a:ext cx="2089080" cy="462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erving C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80000" y="5056200"/>
              <a:ext cx="2160720" cy="460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Interfering C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2410920" y="4766760"/>
              <a:ext cx="360360" cy="360720"/>
              <a:chOff x="2410920" y="4766760"/>
              <a:chExt cx="360360" cy="360720"/>
            </a:xfrm>
          </p:grpSpPr>
          <p:sp>
            <p:nvSpPr>
              <p:cNvPr id="197" name=""/>
              <p:cNvSpPr/>
              <p:nvPr/>
            </p:nvSpPr>
            <p:spPr>
              <a:xfrm rot="10800000">
                <a:off x="2410920" y="4766760"/>
                <a:ext cx="360360" cy="1443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84080" y="4767120"/>
                <a:ext cx="0" cy="36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6514560" y="4695480"/>
              <a:ext cx="360360" cy="360720"/>
              <a:chOff x="6514560" y="4695480"/>
              <a:chExt cx="360360" cy="360720"/>
            </a:xfrm>
          </p:grpSpPr>
          <p:sp>
            <p:nvSpPr>
              <p:cNvPr id="200" name=""/>
              <p:cNvSpPr/>
              <p:nvPr/>
            </p:nvSpPr>
            <p:spPr>
              <a:xfrm rot="10800000">
                <a:off x="6514560" y="4695480"/>
                <a:ext cx="360360" cy="1443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687720" y="4695840"/>
                <a:ext cx="0" cy="36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3635280" y="3573360"/>
              <a:ext cx="50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굴림"/>
                </a:rPr>
                <a:t>1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87640" y="3548160"/>
              <a:ext cx="72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4095360" y="2781000"/>
              <a:ext cx="404280" cy="360720"/>
              <a:chOff x="4095360" y="2781000"/>
              <a:chExt cx="404280" cy="360720"/>
            </a:xfrm>
          </p:grpSpPr>
          <p:sp>
            <p:nvSpPr>
              <p:cNvPr id="205" name=""/>
              <p:cNvSpPr/>
              <p:nvPr/>
            </p:nvSpPr>
            <p:spPr>
              <a:xfrm rot="10800000">
                <a:off x="4095360" y="2781000"/>
                <a:ext cx="404280" cy="1443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9400" y="2781360"/>
                <a:ext cx="0" cy="360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3421080" y="3068640"/>
              <a:ext cx="1800000" cy="6033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Cell-edge 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53240" y="390852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굴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25000" y="398160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굴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88000" y="5805360"/>
              <a:ext cx="319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굴림"/>
                </a:rPr>
                <a:t>“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굴림"/>
                </a:rPr>
                <a:t>2 X 2 Virtual MIMO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Repetition-resource allocation patte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502080" cy="4248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896040" y="1916280"/>
            <a:ext cx="37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luster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- Localized data sub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68040" y="3213000"/>
            <a:ext cx="388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omb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- Control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- Distributed data sub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41840" y="4869000"/>
            <a:ext cx="25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Block-random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25480" y="1413000"/>
            <a:ext cx="25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epetition factor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Joint detection on repeated symb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Received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epetition factor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Number of cell/sectors J  (G ≥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8560" y="2997360"/>
            <a:ext cx="8070480" cy="3575880"/>
            <a:chOff x="538560" y="2997360"/>
            <a:chExt cx="8070480" cy="3575880"/>
          </a:xfrm>
        </p:grpSpPr>
        <p:sp>
          <p:nvSpPr>
            <p:cNvPr id="220" name=""/>
            <p:cNvSpPr/>
            <p:nvPr/>
          </p:nvSpPr>
          <p:spPr>
            <a:xfrm>
              <a:off x="3059280" y="3718080"/>
              <a:ext cx="360360" cy="1800000"/>
            </a:xfrm>
            <a:prstGeom prst="rect">
              <a:avLst/>
            </a:prstGeom>
            <a:solidFill>
              <a:srgbClr val="ffff99">
                <a:alpha val="42000"/>
              </a:srgbClr>
            </a:solidFill>
            <a:ln w="936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22560" y="3718080"/>
              <a:ext cx="360360" cy="1800000"/>
            </a:xfrm>
            <a:prstGeom prst="rect">
              <a:avLst/>
            </a:prstGeom>
            <a:solidFill>
              <a:srgbClr val="ffff99">
                <a:alpha val="42000"/>
              </a:srgbClr>
            </a:solidFill>
            <a:ln w="936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91280" y="3718080"/>
              <a:ext cx="360360" cy="1800000"/>
            </a:xfrm>
            <a:prstGeom prst="rect">
              <a:avLst/>
            </a:prstGeom>
            <a:solidFill>
              <a:srgbClr val="ffff99">
                <a:alpha val="42000"/>
              </a:srgbClr>
            </a:solidFill>
            <a:ln w="936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67280" y="3645000"/>
              <a:ext cx="360360" cy="1800000"/>
            </a:xfrm>
            <a:prstGeom prst="rect">
              <a:avLst/>
            </a:prstGeom>
            <a:solidFill>
              <a:srgbClr val="ccffff">
                <a:alpha val="42000"/>
              </a:srgbClr>
            </a:solidFill>
            <a:ln w="9360">
              <a:solidFill>
                <a:srgbClr val="cc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08000" y="3716280"/>
              <a:ext cx="360360" cy="1800360"/>
            </a:xfrm>
            <a:prstGeom prst="rect">
              <a:avLst/>
            </a:prstGeom>
            <a:solidFill>
              <a:srgbClr val="ff0000">
                <a:alpha val="12000"/>
              </a:srgbClr>
            </a:solidFill>
            <a:ln w="9360">
              <a:solidFill>
                <a:srgbClr val="ffcc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"/>
            <p:cNvGraphicFramePr/>
            <p:nvPr/>
          </p:nvGraphicFramePr>
          <p:xfrm>
            <a:off x="1763640" y="2997360"/>
            <a:ext cx="5327640" cy="2741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63640" y="2997360"/>
                      <a:ext cx="5327640" cy="2741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7" name=""/>
            <p:cNvSpPr/>
            <p:nvPr/>
          </p:nvSpPr>
          <p:spPr>
            <a:xfrm>
              <a:off x="3973680" y="6113520"/>
              <a:ext cx="383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  <a:ea typeface="굴림"/>
                </a:rPr>
                <a:t>scrambling/orthogonal co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3348000" y="5660640"/>
              <a:ext cx="5032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140360" y="5660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500720" y="5661000"/>
              <a:ext cx="79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23320" y="2997360"/>
              <a:ext cx="418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  <a:ea typeface="굴림"/>
                </a:rPr>
                <a:t>data symbols from J cell/sect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156000" y="3429000"/>
              <a:ext cx="36036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1619280" y="5589720"/>
              <a:ext cx="36036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8560" y="5877000"/>
              <a:ext cx="217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cc"/>
                  </a:solidFill>
                  <a:latin typeface="Times New Roman"/>
                  <a:ea typeface="굴림"/>
                </a:rPr>
                <a:t>received signa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Joint detection on repeated symb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Combining we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25760" y="2852640"/>
          <a:ext cx="513540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5760" y="2852640"/>
                    <a:ext cx="513540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1692360" y="4092480"/>
          <a:ext cx="3232080" cy="63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4092480"/>
                    <a:ext cx="3232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2195640" y="1989000"/>
          <a:ext cx="151272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1989000"/>
                    <a:ext cx="15127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Basic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ple antenna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edium to high speed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patial multiplex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Low speed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 code words (MCW)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 user precoding M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-PUSRC (SIC-based Per User &amp; Stream Rate Contr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Adaptive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Frequency domain adaptation : chunk based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ime domain adaptation : short TTI (0.5 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pace domain adaptation : SDMA (Multi-user precoding MI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1345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Code sequences for detection performance impro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To enhance symbol detection, double-layered sequences are multiplied to repetition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ell-specific scrambling sequences as signature randomizers e.g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-ary random phas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asy cell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mprove diversity among repetition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ector-specific orthogonal co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inimize correlation between  the desired  symbol and interfering symbols from neighboring sectors within the same c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Resource partitioning and all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Logical resour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wo large resource 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ype-A resources for traffic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ype-B resources for control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ype-A resource blo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ubblock A1 for interference-free 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ubblock A2 for interference-susceptible 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34290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Every cell adopts the same resource allocation sche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The sizes of subblocks A1 and A2 can be adjusted dynamically by taking into account the interference-susceptible traff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26920" y="404640"/>
            <a:ext cx="7772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Resource partitioning and all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Resource allocation (geographic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657600" cy="30686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525320" y="546588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raffic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3709800" cy="29448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794920" y="544500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ontrol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4360" y="1484280"/>
            <a:ext cx="77040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imulation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umber of cell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: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odul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: QP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epet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fac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: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crambling sequ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: Random 8PSK pha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hanne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: Pedestrian A (3 km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Joint symbol det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: Z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ubcarrier alloc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: Comb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deal channel est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3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Intercell interference management for uplink (Whispering resourc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Directivity of Interference (U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For a UE in UL, there exists a neighboring BS (or BSs) suffering from severe inter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809520" y="3633480"/>
            <a:ext cx="265680" cy="797400"/>
            <a:chOff x="3809520" y="3633480"/>
            <a:chExt cx="265680" cy="797400"/>
          </a:xfrm>
        </p:grpSpPr>
        <p:sp>
          <p:nvSpPr>
            <p:cNvPr id="265" name=""/>
            <p:cNvSpPr/>
            <p:nvPr/>
          </p:nvSpPr>
          <p:spPr>
            <a:xfrm>
              <a:off x="3809880" y="3814920"/>
              <a:ext cx="265320" cy="181080"/>
            </a:xfrm>
            <a:prstGeom prst="triangle">
              <a:avLst>
                <a:gd name="adj" fmla="val 2937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809880" y="381456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889440" y="363348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075200" y="381456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809520" y="3923640"/>
              <a:ext cx="10620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16080" y="3923640"/>
              <a:ext cx="10584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89440" y="4104720"/>
              <a:ext cx="5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62800" y="42494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36160" y="4394520"/>
              <a:ext cx="15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3862440" y="4104720"/>
              <a:ext cx="7956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3836160" y="424944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89440" y="4104720"/>
              <a:ext cx="7956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62800" y="4249440"/>
              <a:ext cx="13284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683320" y="3596760"/>
            <a:ext cx="264960" cy="797400"/>
            <a:chOff x="5683320" y="3596760"/>
            <a:chExt cx="264960" cy="797400"/>
          </a:xfrm>
        </p:grpSpPr>
        <p:sp>
          <p:nvSpPr>
            <p:cNvPr id="279" name=""/>
            <p:cNvSpPr/>
            <p:nvPr/>
          </p:nvSpPr>
          <p:spPr>
            <a:xfrm>
              <a:off x="5683320" y="3778200"/>
              <a:ext cx="264960" cy="181080"/>
            </a:xfrm>
            <a:prstGeom prst="triangle">
              <a:avLst>
                <a:gd name="adj" fmla="val 2937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5683320" y="377784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5762520" y="359676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948280" y="377784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683320" y="3886920"/>
              <a:ext cx="10584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789160" y="3886920"/>
              <a:ext cx="10584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62520" y="4068000"/>
              <a:ext cx="5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36240" y="4212720"/>
              <a:ext cx="10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09600" y="4357800"/>
              <a:ext cx="15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736240" y="4068000"/>
              <a:ext cx="792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5709600" y="421272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62520" y="4068000"/>
              <a:ext cx="792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36240" y="421272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4795920" y="1943280"/>
            <a:ext cx="264960" cy="796320"/>
            <a:chOff x="4795920" y="1943280"/>
            <a:chExt cx="264960" cy="796320"/>
          </a:xfrm>
        </p:grpSpPr>
        <p:sp>
          <p:nvSpPr>
            <p:cNvPr id="293" name=""/>
            <p:cNvSpPr/>
            <p:nvPr/>
          </p:nvSpPr>
          <p:spPr>
            <a:xfrm>
              <a:off x="4795920" y="2124000"/>
              <a:ext cx="264960" cy="181080"/>
            </a:xfrm>
            <a:prstGeom prst="triangle">
              <a:avLst>
                <a:gd name="adj" fmla="val 2937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4795920" y="212364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4875120" y="1943280"/>
              <a:ext cx="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5060880" y="212364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4795920" y="2232720"/>
              <a:ext cx="105840" cy="50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01760" y="2232720"/>
              <a:ext cx="105840" cy="50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75120" y="2414160"/>
              <a:ext cx="5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48840" y="2558880"/>
              <a:ext cx="10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22200" y="2703600"/>
              <a:ext cx="15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848840" y="2414160"/>
              <a:ext cx="792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4822200" y="255888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75120" y="2414160"/>
              <a:ext cx="792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48840" y="255888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662000" y="5584320"/>
            <a:ext cx="265680" cy="797400"/>
            <a:chOff x="4662000" y="5584320"/>
            <a:chExt cx="265680" cy="797400"/>
          </a:xfrm>
        </p:grpSpPr>
        <p:sp>
          <p:nvSpPr>
            <p:cNvPr id="307" name=""/>
            <p:cNvSpPr/>
            <p:nvPr/>
          </p:nvSpPr>
          <p:spPr>
            <a:xfrm>
              <a:off x="4662360" y="5765760"/>
              <a:ext cx="265320" cy="181080"/>
            </a:xfrm>
            <a:prstGeom prst="triangle">
              <a:avLst>
                <a:gd name="adj" fmla="val 2937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4662360" y="576540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741920" y="558432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927680" y="576540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4662000" y="5874480"/>
              <a:ext cx="10620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68560" y="5874480"/>
              <a:ext cx="10584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41920" y="6055560"/>
              <a:ext cx="5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15280" y="620028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88640" y="6345360"/>
              <a:ext cx="15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714920" y="6055560"/>
              <a:ext cx="7956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688640" y="620028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41920" y="6055560"/>
              <a:ext cx="7956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15280" y="6200280"/>
              <a:ext cx="13284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2373480" y="2666520"/>
            <a:ext cx="264960" cy="797400"/>
            <a:chOff x="2373480" y="2666520"/>
            <a:chExt cx="264960" cy="797400"/>
          </a:xfrm>
        </p:grpSpPr>
        <p:sp>
          <p:nvSpPr>
            <p:cNvPr id="321" name=""/>
            <p:cNvSpPr/>
            <p:nvPr/>
          </p:nvSpPr>
          <p:spPr>
            <a:xfrm>
              <a:off x="2373480" y="2847960"/>
              <a:ext cx="264960" cy="181080"/>
            </a:xfrm>
            <a:prstGeom prst="triangle">
              <a:avLst>
                <a:gd name="adj" fmla="val 2937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373480" y="284760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452680" y="266652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2638440" y="284760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373480" y="2956680"/>
              <a:ext cx="10584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479320" y="2956680"/>
              <a:ext cx="10584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52680" y="3137760"/>
              <a:ext cx="5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26400" y="3282480"/>
              <a:ext cx="10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99760" y="3427560"/>
              <a:ext cx="15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426400" y="3137760"/>
              <a:ext cx="792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399760" y="328248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52680" y="3137760"/>
              <a:ext cx="792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26400" y="328248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479680" y="4716000"/>
            <a:ext cx="264960" cy="797400"/>
            <a:chOff x="2479680" y="4716000"/>
            <a:chExt cx="264960" cy="797400"/>
          </a:xfrm>
        </p:grpSpPr>
        <p:sp>
          <p:nvSpPr>
            <p:cNvPr id="335" name=""/>
            <p:cNvSpPr/>
            <p:nvPr/>
          </p:nvSpPr>
          <p:spPr>
            <a:xfrm>
              <a:off x="2479680" y="4897440"/>
              <a:ext cx="264960" cy="181080"/>
            </a:xfrm>
            <a:prstGeom prst="triangle">
              <a:avLst>
                <a:gd name="adj" fmla="val 2937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479680" y="489708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558880" y="471600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744640" y="489708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2479680" y="5006160"/>
              <a:ext cx="10584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85520" y="5006160"/>
              <a:ext cx="10584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58880" y="5187240"/>
              <a:ext cx="5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32600" y="5331960"/>
              <a:ext cx="10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05960" y="5477040"/>
              <a:ext cx="15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532600" y="5187240"/>
              <a:ext cx="792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2505960" y="533196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58880" y="5187240"/>
              <a:ext cx="792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32600" y="533196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4646520" y="3995640"/>
            <a:ext cx="139680" cy="346320"/>
            <a:chOff x="4646520" y="3995640"/>
            <a:chExt cx="139680" cy="346320"/>
          </a:xfrm>
        </p:grpSpPr>
        <p:sp>
          <p:nvSpPr>
            <p:cNvPr id="349" name=""/>
            <p:cNvSpPr/>
            <p:nvPr/>
          </p:nvSpPr>
          <p:spPr>
            <a:xfrm>
              <a:off x="4646520" y="4053240"/>
              <a:ext cx="139680" cy="2887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76040" y="4086360"/>
              <a:ext cx="80280" cy="90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676040" y="422640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06640" y="422640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36520" y="422640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76040" y="425124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06640" y="425124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736520" y="425124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76040" y="427608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706640" y="427608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36520" y="427608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76040" y="430056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06640" y="430056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36520" y="430056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76040" y="4193640"/>
              <a:ext cx="302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26080" y="4193640"/>
              <a:ext cx="302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66040" y="3995640"/>
              <a:ext cx="19800" cy="57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 flipV="1">
            <a:off x="4075200" y="4176360"/>
            <a:ext cx="51264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4786200" y="2739960"/>
            <a:ext cx="115920" cy="11476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53080" y="4430880"/>
            <a:ext cx="42840" cy="1153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744280" y="3138120"/>
            <a:ext cx="1806840" cy="857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781360" y="4387680"/>
            <a:ext cx="1806480" cy="690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43440" y="3735360"/>
            <a:ext cx="817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굴림"/>
              </a:rPr>
              <a:t>B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굴림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82400" y="3191040"/>
            <a:ext cx="12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굴림"/>
              </a:rPr>
              <a:t>Small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02480" y="3121200"/>
            <a:ext cx="140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굴림"/>
              </a:rPr>
              <a:t>Medium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897440" y="4164120"/>
            <a:ext cx="711360" cy="1728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27960" y="4991040"/>
            <a:ext cx="140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굴림"/>
              </a:rPr>
              <a:t>Medium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74400" y="4954680"/>
            <a:ext cx="124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굴림"/>
              </a:rPr>
              <a:t>Small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Concentration of Interference (U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By concentrating big interferers, it becomes usual that big interference doesn’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95280" y="3606480"/>
            <a:ext cx="264960" cy="797400"/>
            <a:chOff x="395280" y="3606480"/>
            <a:chExt cx="264960" cy="797400"/>
          </a:xfrm>
        </p:grpSpPr>
        <p:sp>
          <p:nvSpPr>
            <p:cNvPr id="380" name=""/>
            <p:cNvSpPr/>
            <p:nvPr/>
          </p:nvSpPr>
          <p:spPr>
            <a:xfrm>
              <a:off x="395280" y="3787920"/>
              <a:ext cx="264960" cy="181080"/>
            </a:xfrm>
            <a:prstGeom prst="triangle">
              <a:avLst>
                <a:gd name="adj" fmla="val 2937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395280" y="378756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474480" y="360648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60240" y="378756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395280" y="3896640"/>
              <a:ext cx="10584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1120" y="3896640"/>
              <a:ext cx="10584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4480" y="4077720"/>
              <a:ext cx="5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48200" y="4222440"/>
              <a:ext cx="10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21560" y="4367520"/>
              <a:ext cx="15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448200" y="4077720"/>
              <a:ext cx="792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421560" y="422244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80" y="4077720"/>
              <a:ext cx="792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8200" y="422244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2268000" y="3569760"/>
            <a:ext cx="265680" cy="797400"/>
            <a:chOff x="2268000" y="3569760"/>
            <a:chExt cx="265680" cy="797400"/>
          </a:xfrm>
        </p:grpSpPr>
        <p:sp>
          <p:nvSpPr>
            <p:cNvPr id="394" name=""/>
            <p:cNvSpPr/>
            <p:nvPr/>
          </p:nvSpPr>
          <p:spPr>
            <a:xfrm>
              <a:off x="2268360" y="3751200"/>
              <a:ext cx="265320" cy="181080"/>
            </a:xfrm>
            <a:prstGeom prst="triangle">
              <a:avLst>
                <a:gd name="adj" fmla="val 2937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2268360" y="375084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2347920" y="356976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2533680" y="375084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268000" y="3859920"/>
              <a:ext cx="10620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74560" y="3859920"/>
              <a:ext cx="10584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47920" y="4041000"/>
              <a:ext cx="5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21280" y="418572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94640" y="4330800"/>
              <a:ext cx="15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2320920" y="4041000"/>
              <a:ext cx="7956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294640" y="418572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347920" y="4041000"/>
              <a:ext cx="7956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21280" y="4185720"/>
              <a:ext cx="13284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380600" y="1916280"/>
            <a:ext cx="265680" cy="796320"/>
            <a:chOff x="1380600" y="1916280"/>
            <a:chExt cx="265680" cy="796320"/>
          </a:xfrm>
        </p:grpSpPr>
        <p:sp>
          <p:nvSpPr>
            <p:cNvPr id="408" name=""/>
            <p:cNvSpPr/>
            <p:nvPr/>
          </p:nvSpPr>
          <p:spPr>
            <a:xfrm>
              <a:off x="1380960" y="2097000"/>
              <a:ext cx="265320" cy="181080"/>
            </a:xfrm>
            <a:prstGeom prst="triangle">
              <a:avLst>
                <a:gd name="adj" fmla="val 2937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1380960" y="209664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1460520" y="1916280"/>
              <a:ext cx="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1646280" y="209664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1380600" y="2205720"/>
              <a:ext cx="106200" cy="50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487160" y="2205720"/>
              <a:ext cx="105840" cy="50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60520" y="2387160"/>
              <a:ext cx="5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33880" y="253188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407240" y="2676600"/>
              <a:ext cx="15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1433520" y="2387160"/>
              <a:ext cx="7956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1407240" y="253188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60520" y="2387160"/>
              <a:ext cx="7956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33880" y="2531880"/>
              <a:ext cx="13284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1247760" y="5557320"/>
            <a:ext cx="264960" cy="797400"/>
            <a:chOff x="1247760" y="5557320"/>
            <a:chExt cx="264960" cy="797400"/>
          </a:xfrm>
        </p:grpSpPr>
        <p:sp>
          <p:nvSpPr>
            <p:cNvPr id="422" name=""/>
            <p:cNvSpPr/>
            <p:nvPr/>
          </p:nvSpPr>
          <p:spPr>
            <a:xfrm>
              <a:off x="1247760" y="5738760"/>
              <a:ext cx="264960" cy="181080"/>
            </a:xfrm>
            <a:prstGeom prst="triangle">
              <a:avLst>
                <a:gd name="adj" fmla="val 2937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1247760" y="573840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326960" y="555732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512720" y="573840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1247760" y="5847480"/>
              <a:ext cx="10584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353600" y="5847480"/>
              <a:ext cx="10584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26960" y="6028560"/>
              <a:ext cx="5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00680" y="6173280"/>
              <a:ext cx="10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74040" y="6318360"/>
              <a:ext cx="15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300680" y="6028560"/>
              <a:ext cx="792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1274040" y="617328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26960" y="6028560"/>
              <a:ext cx="792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00680" y="617328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100040" y="2314080"/>
            <a:ext cx="265680" cy="797400"/>
            <a:chOff x="4100040" y="2314080"/>
            <a:chExt cx="265680" cy="797400"/>
          </a:xfrm>
        </p:grpSpPr>
        <p:sp>
          <p:nvSpPr>
            <p:cNvPr id="436" name=""/>
            <p:cNvSpPr/>
            <p:nvPr/>
          </p:nvSpPr>
          <p:spPr>
            <a:xfrm>
              <a:off x="4100400" y="2495520"/>
              <a:ext cx="265320" cy="181080"/>
            </a:xfrm>
            <a:prstGeom prst="triangle">
              <a:avLst>
                <a:gd name="adj" fmla="val 2937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100400" y="249516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179960" y="231408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4365720" y="249516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4100040" y="2604240"/>
              <a:ext cx="10620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06600" y="2604240"/>
              <a:ext cx="10584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79960" y="2785320"/>
              <a:ext cx="5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53320" y="293004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26680" y="3075120"/>
              <a:ext cx="15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4152960" y="2785320"/>
              <a:ext cx="7956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126680" y="293004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179960" y="2785320"/>
              <a:ext cx="7956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53320" y="2930040"/>
              <a:ext cx="13284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3968280" y="4689000"/>
            <a:ext cx="265680" cy="797400"/>
            <a:chOff x="3968280" y="4689000"/>
            <a:chExt cx="265680" cy="797400"/>
          </a:xfrm>
        </p:grpSpPr>
        <p:sp>
          <p:nvSpPr>
            <p:cNvPr id="450" name=""/>
            <p:cNvSpPr/>
            <p:nvPr/>
          </p:nvSpPr>
          <p:spPr>
            <a:xfrm>
              <a:off x="3968640" y="4870440"/>
              <a:ext cx="265320" cy="181080"/>
            </a:xfrm>
            <a:prstGeom prst="triangle">
              <a:avLst>
                <a:gd name="adj" fmla="val 2937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3968640" y="487008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048200" y="468900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233960" y="487008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3968280" y="4979160"/>
              <a:ext cx="10620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74840" y="4979160"/>
              <a:ext cx="10584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200" y="5160240"/>
              <a:ext cx="5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21560" y="530496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94920" y="5450040"/>
              <a:ext cx="15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4021200" y="5160240"/>
              <a:ext cx="7956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3994920" y="530496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200" y="5160240"/>
              <a:ext cx="7956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21560" y="5304960"/>
              <a:ext cx="13284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1231920" y="3968640"/>
            <a:ext cx="139680" cy="346320"/>
            <a:chOff x="1231920" y="3968640"/>
            <a:chExt cx="139680" cy="346320"/>
          </a:xfrm>
        </p:grpSpPr>
        <p:sp>
          <p:nvSpPr>
            <p:cNvPr id="464" name=""/>
            <p:cNvSpPr/>
            <p:nvPr/>
          </p:nvSpPr>
          <p:spPr>
            <a:xfrm>
              <a:off x="1231920" y="4026240"/>
              <a:ext cx="139680" cy="2887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261440" y="4059360"/>
              <a:ext cx="80280" cy="90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261440" y="419940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292040" y="419940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321920" y="419940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61440" y="422424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292040" y="422424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21920" y="422424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261440" y="424908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292040" y="424908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21920" y="424908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261440" y="427356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92040" y="427356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321920" y="427356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61440" y="4166640"/>
              <a:ext cx="302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11480" y="4166640"/>
              <a:ext cx="302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51440" y="3968640"/>
              <a:ext cx="19800" cy="57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 flipH="1" flipV="1">
            <a:off x="659880" y="4149360"/>
            <a:ext cx="51300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482840" y="4137120"/>
            <a:ext cx="711000" cy="1728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593720" y="2967120"/>
            <a:ext cx="139680" cy="345960"/>
            <a:chOff x="1593720" y="2967120"/>
            <a:chExt cx="139680" cy="345960"/>
          </a:xfrm>
        </p:grpSpPr>
        <p:sp>
          <p:nvSpPr>
            <p:cNvPr id="484" name=""/>
            <p:cNvSpPr/>
            <p:nvPr/>
          </p:nvSpPr>
          <p:spPr>
            <a:xfrm>
              <a:off x="1593720" y="3024720"/>
              <a:ext cx="139680" cy="2883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623240" y="3057480"/>
              <a:ext cx="80280" cy="90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23240" y="319788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53840" y="319788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83720" y="319788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23240" y="322236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53840" y="322236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83720" y="322236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23240" y="324720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53840" y="324720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83720" y="324720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23240" y="327204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53840" y="327204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83720" y="327204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23240" y="3164760"/>
              <a:ext cx="302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73280" y="3164760"/>
              <a:ext cx="302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13240" y="2967120"/>
              <a:ext cx="19800" cy="57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 flipH="1" flipV="1">
            <a:off x="1512360" y="2786040"/>
            <a:ext cx="96840" cy="185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22320" y="3305160"/>
            <a:ext cx="371520" cy="30168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3368520" y="2992320"/>
            <a:ext cx="139680" cy="346320"/>
            <a:chOff x="3368520" y="2992320"/>
            <a:chExt cx="139680" cy="346320"/>
          </a:xfrm>
        </p:grpSpPr>
        <p:sp>
          <p:nvSpPr>
            <p:cNvPr id="504" name=""/>
            <p:cNvSpPr/>
            <p:nvPr/>
          </p:nvSpPr>
          <p:spPr>
            <a:xfrm>
              <a:off x="3368520" y="3049920"/>
              <a:ext cx="139680" cy="2887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98040" y="3083040"/>
              <a:ext cx="80280" cy="90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398040" y="322308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428640" y="322308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58520" y="322308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98040" y="324792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28640" y="324792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58520" y="324792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98040" y="327276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28640" y="327276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458520" y="327276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398040" y="329724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428640" y="329724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458520" y="329724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398040" y="3190320"/>
              <a:ext cx="302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48080" y="3190320"/>
              <a:ext cx="302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88040" y="2992320"/>
              <a:ext cx="19800" cy="57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 flipV="1">
            <a:off x="3597120" y="2992320"/>
            <a:ext cx="371520" cy="123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2700360" y="3338640"/>
            <a:ext cx="573120" cy="44928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075120" y="4943520"/>
            <a:ext cx="139680" cy="345960"/>
            <a:chOff x="3075120" y="4943520"/>
            <a:chExt cx="139680" cy="345960"/>
          </a:xfrm>
        </p:grpSpPr>
        <p:sp>
          <p:nvSpPr>
            <p:cNvPr id="524" name=""/>
            <p:cNvSpPr/>
            <p:nvPr/>
          </p:nvSpPr>
          <p:spPr>
            <a:xfrm>
              <a:off x="3075120" y="5001120"/>
              <a:ext cx="139680" cy="2883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04640" y="5033880"/>
              <a:ext cx="80280" cy="90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104640" y="517428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135240" y="517428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65120" y="517428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04640" y="519876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135240" y="519876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5120" y="519876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04640" y="522360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35240" y="522360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165120" y="522360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04640" y="524844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135240" y="524844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165120" y="524844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104640" y="5141160"/>
              <a:ext cx="302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154680" y="5141160"/>
              <a:ext cx="302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94640" y="4943520"/>
              <a:ext cx="19800" cy="57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 flipV="1">
            <a:off x="3303720" y="5051520"/>
            <a:ext cx="37152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 flipV="1">
            <a:off x="2480760" y="4403880"/>
            <a:ext cx="546120" cy="51264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801800" y="4979880"/>
            <a:ext cx="139680" cy="346320"/>
            <a:chOff x="1801800" y="4979880"/>
            <a:chExt cx="139680" cy="346320"/>
          </a:xfrm>
        </p:grpSpPr>
        <p:sp>
          <p:nvSpPr>
            <p:cNvPr id="544" name=""/>
            <p:cNvSpPr/>
            <p:nvPr/>
          </p:nvSpPr>
          <p:spPr>
            <a:xfrm>
              <a:off x="1801800" y="5037480"/>
              <a:ext cx="139680" cy="2887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31320" y="5070600"/>
              <a:ext cx="80280" cy="90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31320" y="521064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61920" y="521064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91800" y="521064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831320" y="523548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861920" y="523548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891800" y="523548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31320" y="526032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61920" y="526032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891800" y="526032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831320" y="528480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861920" y="528480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891800" y="528480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831320" y="5177880"/>
              <a:ext cx="302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881360" y="5177880"/>
              <a:ext cx="302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921320" y="4979880"/>
              <a:ext cx="19800" cy="57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 flipH="1">
            <a:off x="1593720" y="5342040"/>
            <a:ext cx="162000" cy="39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2006640" y="4403880"/>
            <a:ext cx="187200" cy="512640"/>
          </a:xfrm>
          <a:prstGeom prst="line">
            <a:avLst/>
          </a:prstGeom>
          <a:ln w="63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0" y="1916280"/>
            <a:ext cx="0" cy="44686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777920" y="3607920"/>
            <a:ext cx="265680" cy="797400"/>
            <a:chOff x="4777920" y="3607920"/>
            <a:chExt cx="265680" cy="797400"/>
          </a:xfrm>
        </p:grpSpPr>
        <p:sp>
          <p:nvSpPr>
            <p:cNvPr id="565" name=""/>
            <p:cNvSpPr/>
            <p:nvPr/>
          </p:nvSpPr>
          <p:spPr>
            <a:xfrm>
              <a:off x="4778280" y="3789360"/>
              <a:ext cx="265320" cy="181080"/>
            </a:xfrm>
            <a:prstGeom prst="triangle">
              <a:avLst>
                <a:gd name="adj" fmla="val 2937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4778280" y="378900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4857840" y="360792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5043600" y="378900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4777920" y="3898080"/>
              <a:ext cx="10620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884480" y="3898080"/>
              <a:ext cx="10584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57840" y="4079160"/>
              <a:ext cx="5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831200" y="422388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04560" y="4368960"/>
              <a:ext cx="15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830840" y="4079160"/>
              <a:ext cx="7956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4804560" y="422388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857840" y="4079160"/>
              <a:ext cx="7956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31200" y="4223880"/>
              <a:ext cx="13284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651720" y="3571560"/>
            <a:ext cx="264960" cy="797400"/>
            <a:chOff x="6651720" y="3571560"/>
            <a:chExt cx="264960" cy="797400"/>
          </a:xfrm>
        </p:grpSpPr>
        <p:sp>
          <p:nvSpPr>
            <p:cNvPr id="579" name=""/>
            <p:cNvSpPr/>
            <p:nvPr/>
          </p:nvSpPr>
          <p:spPr>
            <a:xfrm>
              <a:off x="6651720" y="3753000"/>
              <a:ext cx="264960" cy="181080"/>
            </a:xfrm>
            <a:prstGeom prst="triangle">
              <a:avLst>
                <a:gd name="adj" fmla="val 2937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6651720" y="375264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6730920" y="357156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6916680" y="375264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6651720" y="3861720"/>
              <a:ext cx="10584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757560" y="3861720"/>
              <a:ext cx="10584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730920" y="4042800"/>
              <a:ext cx="5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704640" y="4187520"/>
              <a:ext cx="10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678000" y="4332600"/>
              <a:ext cx="15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6704640" y="4042800"/>
              <a:ext cx="792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6678000" y="418752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730920" y="4042800"/>
              <a:ext cx="792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704640" y="418752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5764320" y="1917360"/>
            <a:ext cx="264960" cy="797400"/>
            <a:chOff x="5764320" y="1917360"/>
            <a:chExt cx="264960" cy="797400"/>
          </a:xfrm>
        </p:grpSpPr>
        <p:sp>
          <p:nvSpPr>
            <p:cNvPr id="593" name=""/>
            <p:cNvSpPr/>
            <p:nvPr/>
          </p:nvSpPr>
          <p:spPr>
            <a:xfrm>
              <a:off x="5764320" y="2098800"/>
              <a:ext cx="264960" cy="181080"/>
            </a:xfrm>
            <a:prstGeom prst="triangle">
              <a:avLst>
                <a:gd name="adj" fmla="val 2937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64320" y="209844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5843520" y="191736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6029280" y="209844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5764320" y="2207520"/>
              <a:ext cx="10584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870160" y="2207520"/>
              <a:ext cx="10584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843520" y="2388600"/>
              <a:ext cx="5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7240" y="2533320"/>
              <a:ext cx="10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90600" y="2678400"/>
              <a:ext cx="15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5817240" y="2388600"/>
              <a:ext cx="792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5790600" y="253332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843520" y="2388600"/>
              <a:ext cx="792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817240" y="253332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5630400" y="5559120"/>
            <a:ext cx="265680" cy="797400"/>
            <a:chOff x="5630400" y="5559120"/>
            <a:chExt cx="265680" cy="797400"/>
          </a:xfrm>
        </p:grpSpPr>
        <p:sp>
          <p:nvSpPr>
            <p:cNvPr id="607" name=""/>
            <p:cNvSpPr/>
            <p:nvPr/>
          </p:nvSpPr>
          <p:spPr>
            <a:xfrm>
              <a:off x="5630760" y="5740560"/>
              <a:ext cx="265320" cy="181080"/>
            </a:xfrm>
            <a:prstGeom prst="triangle">
              <a:avLst>
                <a:gd name="adj" fmla="val 2937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630760" y="574020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710320" y="555912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5896080" y="574020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630400" y="5849280"/>
              <a:ext cx="10620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36960" y="5849280"/>
              <a:ext cx="105840" cy="50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710320" y="6030360"/>
              <a:ext cx="5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683680" y="6175080"/>
              <a:ext cx="10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57040" y="6320160"/>
              <a:ext cx="15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5683320" y="6030360"/>
              <a:ext cx="7956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5657040" y="617508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710320" y="6030360"/>
              <a:ext cx="7956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683680" y="6175080"/>
              <a:ext cx="13284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8483760" y="2316240"/>
            <a:ext cx="264960" cy="796320"/>
            <a:chOff x="8483760" y="2316240"/>
            <a:chExt cx="264960" cy="796320"/>
          </a:xfrm>
        </p:grpSpPr>
        <p:sp>
          <p:nvSpPr>
            <p:cNvPr id="621" name=""/>
            <p:cNvSpPr/>
            <p:nvPr/>
          </p:nvSpPr>
          <p:spPr>
            <a:xfrm>
              <a:off x="8483760" y="2496960"/>
              <a:ext cx="264960" cy="181080"/>
            </a:xfrm>
            <a:prstGeom prst="triangle">
              <a:avLst>
                <a:gd name="adj" fmla="val 2937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8483760" y="249660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8562960" y="2316240"/>
              <a:ext cx="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8748720" y="249660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8483760" y="2605680"/>
              <a:ext cx="105840" cy="50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589600" y="2605680"/>
              <a:ext cx="105840" cy="50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562960" y="2787120"/>
              <a:ext cx="5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536680" y="2931840"/>
              <a:ext cx="10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510040" y="3076560"/>
              <a:ext cx="15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8536680" y="2787120"/>
              <a:ext cx="792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8510040" y="293184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562960" y="2787120"/>
              <a:ext cx="792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536680" y="293184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8352000" y="4691160"/>
            <a:ext cx="264960" cy="796320"/>
            <a:chOff x="8352000" y="4691160"/>
            <a:chExt cx="264960" cy="796320"/>
          </a:xfrm>
        </p:grpSpPr>
        <p:sp>
          <p:nvSpPr>
            <p:cNvPr id="635" name=""/>
            <p:cNvSpPr/>
            <p:nvPr/>
          </p:nvSpPr>
          <p:spPr>
            <a:xfrm>
              <a:off x="8352000" y="4871880"/>
              <a:ext cx="264960" cy="181080"/>
            </a:xfrm>
            <a:prstGeom prst="triangle">
              <a:avLst>
                <a:gd name="adj" fmla="val 2937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8352000" y="487152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8431200" y="4691160"/>
              <a:ext cx="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8616960" y="4871520"/>
              <a:ext cx="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8352000" y="4980600"/>
              <a:ext cx="105840" cy="50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457840" y="4980600"/>
              <a:ext cx="105840" cy="50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431200" y="5162040"/>
              <a:ext cx="5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404920" y="5306760"/>
              <a:ext cx="10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78280" y="5451480"/>
              <a:ext cx="15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8404920" y="5162040"/>
              <a:ext cx="792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8378280" y="530676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431200" y="5162040"/>
              <a:ext cx="7920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404920" y="5306760"/>
              <a:ext cx="13248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4911840" y="3076560"/>
            <a:ext cx="139680" cy="345960"/>
            <a:chOff x="4911840" y="3076560"/>
            <a:chExt cx="139680" cy="345960"/>
          </a:xfrm>
        </p:grpSpPr>
        <p:sp>
          <p:nvSpPr>
            <p:cNvPr id="649" name=""/>
            <p:cNvSpPr/>
            <p:nvPr/>
          </p:nvSpPr>
          <p:spPr>
            <a:xfrm>
              <a:off x="4911840" y="3134160"/>
              <a:ext cx="139680" cy="2883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941360" y="3166920"/>
              <a:ext cx="80280" cy="90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941360" y="330732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71960" y="330732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01840" y="330732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941360" y="333180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971960" y="333180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001840" y="333180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941360" y="335664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71960" y="335664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01840" y="335664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941360" y="338148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971960" y="338148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01840" y="338148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41360" y="3274200"/>
              <a:ext cx="302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991400" y="3274200"/>
              <a:ext cx="302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31360" y="3076560"/>
              <a:ext cx="19800" cy="57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 flipH="1">
            <a:off x="4937040" y="3465360"/>
            <a:ext cx="23760" cy="3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5330880" y="2087640"/>
            <a:ext cx="139680" cy="345960"/>
            <a:chOff x="5330880" y="2087640"/>
            <a:chExt cx="139680" cy="345960"/>
          </a:xfrm>
        </p:grpSpPr>
        <p:sp>
          <p:nvSpPr>
            <p:cNvPr id="668" name=""/>
            <p:cNvSpPr/>
            <p:nvPr/>
          </p:nvSpPr>
          <p:spPr>
            <a:xfrm>
              <a:off x="5330880" y="2145240"/>
              <a:ext cx="139680" cy="2883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60400" y="2178000"/>
              <a:ext cx="80280" cy="90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60400" y="231840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391000" y="231840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20880" y="231840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360400" y="234288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91000" y="234288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20880" y="234288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360400" y="236772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91000" y="236772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420880" y="236772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360400" y="239256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391000" y="239256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420880" y="239256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60400" y="2285280"/>
              <a:ext cx="302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10440" y="2285280"/>
              <a:ext cx="302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450400" y="2087640"/>
              <a:ext cx="19800" cy="57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5541840" y="2351160"/>
            <a:ext cx="168480" cy="15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7318440" y="2260440"/>
            <a:ext cx="139680" cy="346320"/>
            <a:chOff x="7318440" y="2260440"/>
            <a:chExt cx="139680" cy="346320"/>
          </a:xfrm>
        </p:grpSpPr>
        <p:sp>
          <p:nvSpPr>
            <p:cNvPr id="687" name=""/>
            <p:cNvSpPr/>
            <p:nvPr/>
          </p:nvSpPr>
          <p:spPr>
            <a:xfrm>
              <a:off x="7318440" y="2318040"/>
              <a:ext cx="139680" cy="2887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347960" y="2351160"/>
              <a:ext cx="80280" cy="907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347960" y="249120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78560" y="249120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408440" y="249120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347960" y="251604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378560" y="251604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408440" y="251604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47960" y="254088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78560" y="254088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08440" y="254088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47960" y="256536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378560" y="256536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408440" y="256536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347960" y="2458440"/>
              <a:ext cx="302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398000" y="2458440"/>
              <a:ext cx="302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437960" y="2260440"/>
              <a:ext cx="19800" cy="57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7518240" y="2490840"/>
            <a:ext cx="833760" cy="223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8520120" y="5857920"/>
            <a:ext cx="139680" cy="345960"/>
            <a:chOff x="8520120" y="5857920"/>
            <a:chExt cx="139680" cy="345960"/>
          </a:xfrm>
        </p:grpSpPr>
        <p:sp>
          <p:nvSpPr>
            <p:cNvPr id="706" name=""/>
            <p:cNvSpPr/>
            <p:nvPr/>
          </p:nvSpPr>
          <p:spPr>
            <a:xfrm>
              <a:off x="8520120" y="5915520"/>
              <a:ext cx="139680" cy="2883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549640" y="5948280"/>
              <a:ext cx="80280" cy="90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549640" y="608868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580240" y="608868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610120" y="608868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549640" y="611316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8580240" y="611316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8610120" y="611316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549640" y="613800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8580240" y="613800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8610120" y="613800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8549640" y="616284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580240" y="616284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8610120" y="616284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549640" y="6055560"/>
              <a:ext cx="302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599680" y="6055560"/>
              <a:ext cx="302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639640" y="5857920"/>
              <a:ext cx="19800" cy="57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 flipH="1" flipV="1">
            <a:off x="8519760" y="5522760"/>
            <a:ext cx="27000" cy="26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5543640" y="5105520"/>
            <a:ext cx="139680" cy="345960"/>
            <a:chOff x="5543640" y="5105520"/>
            <a:chExt cx="139680" cy="345960"/>
          </a:xfrm>
        </p:grpSpPr>
        <p:sp>
          <p:nvSpPr>
            <p:cNvPr id="725" name=""/>
            <p:cNvSpPr/>
            <p:nvPr/>
          </p:nvSpPr>
          <p:spPr>
            <a:xfrm>
              <a:off x="5543640" y="5163120"/>
              <a:ext cx="139680" cy="2883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573160" y="5195880"/>
              <a:ext cx="80280" cy="90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573160" y="533628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603760" y="533628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633640" y="533628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573160" y="536076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603760" y="536076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633640" y="536076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573160" y="538560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603760" y="538560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633640" y="538560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573160" y="541044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603760" y="5410440"/>
              <a:ext cx="194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33640" y="5410440"/>
              <a:ext cx="1980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73160" y="5303160"/>
              <a:ext cx="302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623200" y="5303160"/>
              <a:ext cx="30240" cy="1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663160" y="5105520"/>
              <a:ext cx="19800" cy="57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"/>
          <p:cNvSpPr/>
          <p:nvPr/>
        </p:nvSpPr>
        <p:spPr>
          <a:xfrm>
            <a:off x="5589720" y="5522760"/>
            <a:ext cx="4428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 flipV="1">
            <a:off x="6864480" y="4405320"/>
            <a:ext cx="1566720" cy="1582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50040" y="2508120"/>
            <a:ext cx="1066680" cy="1425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30720" y="3297240"/>
            <a:ext cx="1338480" cy="728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764320" y="4273200"/>
            <a:ext cx="739800" cy="888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6916320" y="2712960"/>
            <a:ext cx="392040" cy="8953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242040" y="6014880"/>
            <a:ext cx="1093320" cy="2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Usual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774800" y="5994360"/>
            <a:ext cx="1252080" cy="2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Special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417680" y="3700440"/>
            <a:ext cx="817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굴림"/>
              </a:rPr>
              <a:t>B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굴림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132680" y="2992320"/>
            <a:ext cx="817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굴림"/>
              </a:rPr>
              <a:t>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굴림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975280" y="4757760"/>
            <a:ext cx="817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굴림"/>
              </a:rPr>
              <a:t>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굴림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145120" y="3630600"/>
            <a:ext cx="817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굴림"/>
              </a:rPr>
              <a:t>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굴림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932440" y="2782800"/>
            <a:ext cx="817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굴림"/>
              </a:rPr>
              <a:t>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굴림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462800" y="4660920"/>
            <a:ext cx="817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굴림"/>
              </a:rPr>
              <a:t>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굴림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New ICI Management (U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ICI Management Based on Avoidance/Concentration of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Concentrating big interfer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using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directivity of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arge increase of SIR for most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erving users only with very good channels in special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Predictable IC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with bound: even the denominator of S/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Large Increase of SIR for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Cell Boundary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arge increase of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fairn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among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ncrease even in total system through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Basic Asp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Intercell Interference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own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Virtual MIMO based on coordinated symbol repe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ntercell interference cance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Full frequency 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Cell planning not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Up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nter-cell  interference avoidance/concentration with resource coord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Full frequency 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Cell planning required to optimize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cast/Broadcast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pace-time (or frequency) diversity among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otation of STBC (or SFBC) antenna combining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ICI Management Procedure (U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ICI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굴림"/>
              </a:rPr>
              <a:t>Interference relation between a UE and each neighboring B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measured by pi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Resource Region Allo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by B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굴림"/>
              </a:rPr>
              <a:t> Based on ICI Relations of Each 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Orthogonal resources such as frequency and time are divided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pecial case: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굴림"/>
              </a:rPr>
              <a:t>whisper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resource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Big ICI from adjacent ce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Usual case: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굴림"/>
              </a:rPr>
              <a:t>speak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resoure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Small ICI from adjacent ce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Permitted generation of big ICI toward a specific direction (or B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Isolated case possibly by irregular cellular deployment: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  <a:ea typeface="굴림"/>
              </a:rPr>
              <a:t>priv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 resource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Small ICI from adjacent cel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No generation of big I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Geographical Resource All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W: whisp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: spe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imultaneous activation of the same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3951360" y="1150200"/>
            <a:ext cx="4586040" cy="4799880"/>
            <a:chOff x="3951360" y="1150200"/>
            <a:chExt cx="4586040" cy="4799880"/>
          </a:xfrm>
        </p:grpSpPr>
        <p:grpSp>
          <p:nvGrpSpPr>
            <p:cNvPr id="763" name=""/>
            <p:cNvGrpSpPr/>
            <p:nvPr/>
          </p:nvGrpSpPr>
          <p:grpSpPr>
            <a:xfrm>
              <a:off x="5324400" y="2748960"/>
              <a:ext cx="1833480" cy="1604160"/>
              <a:chOff x="5324400" y="2748960"/>
              <a:chExt cx="1833480" cy="160416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5337360" y="2748960"/>
                <a:ext cx="1820520" cy="1590120"/>
                <a:chOff x="5337360" y="2748960"/>
                <a:chExt cx="1820520" cy="1590120"/>
              </a:xfrm>
            </p:grpSpPr>
            <p:sp>
              <p:nvSpPr>
                <p:cNvPr id="765" name=""/>
                <p:cNvSpPr/>
                <p:nvPr/>
              </p:nvSpPr>
              <p:spPr>
                <a:xfrm rot="7200000">
                  <a:off x="6306840" y="3646440"/>
                  <a:ext cx="914400" cy="380880"/>
                </a:xfrm>
                <a:custGeom>
                  <a:avLst/>
                  <a:gdLst>
                    <a:gd name="textAreaLeft" fmla="*/ 200880 w 914400"/>
                    <a:gd name="textAreaRight" fmla="*/ 713520 w 91440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rot="10800000">
                  <a:off x="5797440" y="3956040"/>
                  <a:ext cx="914400" cy="380880"/>
                </a:xfrm>
                <a:custGeom>
                  <a:avLst/>
                  <a:gdLst>
                    <a:gd name="textAreaLeft" fmla="*/ 200880 w 914400"/>
                    <a:gd name="textAreaRight" fmla="*/ 713520 w 91440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rot="14400000">
                  <a:off x="5273640" y="3657240"/>
                  <a:ext cx="914400" cy="380880"/>
                </a:xfrm>
                <a:custGeom>
                  <a:avLst/>
                  <a:gdLst>
                    <a:gd name="textAreaLeft" fmla="*/ 200880 w 914400"/>
                    <a:gd name="textAreaRight" fmla="*/ 713520 w 91440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8" name=""/>
                <p:cNvGrpSpPr/>
                <p:nvPr/>
              </p:nvGrpSpPr>
              <p:grpSpPr>
                <a:xfrm>
                  <a:off x="5337360" y="2748960"/>
                  <a:ext cx="1820520" cy="991800"/>
                  <a:chOff x="5337360" y="2748960"/>
                  <a:chExt cx="1820520" cy="991800"/>
                </a:xfrm>
              </p:grpSpPr>
              <p:sp>
                <p:nvSpPr>
                  <p:cNvPr id="769" name=""/>
                  <p:cNvSpPr/>
                  <p:nvPr/>
                </p:nvSpPr>
                <p:spPr>
                  <a:xfrm>
                    <a:off x="5789520" y="2749680"/>
                    <a:ext cx="914400" cy="380880"/>
                  </a:xfrm>
                  <a:custGeom>
                    <a:avLst/>
                    <a:gdLst>
                      <a:gd name="textAreaLeft" fmla="*/ 200880 w 914400"/>
                      <a:gd name="textAreaRight" fmla="*/ 713520 w 914400"/>
                      <a:gd name="textAreaTop" fmla="*/ 83520 h 380880"/>
                      <a:gd name="textAreaBottom" fmla="*/ 29736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rot="3600000">
                    <a:off x="6306840" y="3049560"/>
                    <a:ext cx="914400" cy="380880"/>
                  </a:xfrm>
                  <a:custGeom>
                    <a:avLst/>
                    <a:gdLst>
                      <a:gd name="textAreaLeft" fmla="*/ 200880 w 914400"/>
                      <a:gd name="textAreaRight" fmla="*/ 713520 w 914400"/>
                      <a:gd name="textAreaTop" fmla="*/ 83520 h 380880"/>
                      <a:gd name="textAreaBottom" fmla="*/ 29736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rot="18000000">
                    <a:off x="5273640" y="3058920"/>
                    <a:ext cx="914400" cy="380880"/>
                  </a:xfrm>
                  <a:custGeom>
                    <a:avLst/>
                    <a:gdLst>
                      <a:gd name="textAreaLeft" fmla="*/ 200880 w 914400"/>
                      <a:gd name="textAreaRight" fmla="*/ 713520 w 914400"/>
                      <a:gd name="textAreaTop" fmla="*/ 83520 h 380880"/>
                      <a:gd name="textAreaBottom" fmla="*/ 29736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72" name=""/>
              <p:cNvSpPr/>
              <p:nvPr/>
            </p:nvSpPr>
            <p:spPr>
              <a:xfrm>
                <a:off x="5324400" y="2752920"/>
                <a:ext cx="1828800" cy="1600200"/>
              </a:xfrm>
              <a:prstGeom prst="hexagon">
                <a:avLst>
                  <a:gd name="adj" fmla="val 28571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5322960" y="1150200"/>
              <a:ext cx="1833480" cy="1604160"/>
              <a:chOff x="5322960" y="1150200"/>
              <a:chExt cx="1833480" cy="1604160"/>
            </a:xfrm>
          </p:grpSpPr>
          <p:grpSp>
            <p:nvGrpSpPr>
              <p:cNvPr id="774" name=""/>
              <p:cNvGrpSpPr/>
              <p:nvPr/>
            </p:nvGrpSpPr>
            <p:grpSpPr>
              <a:xfrm>
                <a:off x="5335920" y="1150200"/>
                <a:ext cx="1820520" cy="1590120"/>
                <a:chOff x="5335920" y="1150200"/>
                <a:chExt cx="1820520" cy="1590120"/>
              </a:xfrm>
            </p:grpSpPr>
            <p:sp>
              <p:nvSpPr>
                <p:cNvPr id="775" name=""/>
                <p:cNvSpPr/>
                <p:nvPr/>
              </p:nvSpPr>
              <p:spPr>
                <a:xfrm rot="7200000">
                  <a:off x="6305400" y="2047680"/>
                  <a:ext cx="914400" cy="380880"/>
                </a:xfrm>
                <a:custGeom>
                  <a:avLst/>
                  <a:gdLst>
                    <a:gd name="textAreaLeft" fmla="*/ 200880 w 914400"/>
                    <a:gd name="textAreaRight" fmla="*/ 713520 w 91440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rot="10800000">
                  <a:off x="5796000" y="2357280"/>
                  <a:ext cx="914400" cy="380880"/>
                </a:xfrm>
                <a:custGeom>
                  <a:avLst/>
                  <a:gdLst>
                    <a:gd name="textAreaLeft" fmla="*/ 200880 w 914400"/>
                    <a:gd name="textAreaRight" fmla="*/ 713520 w 91440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rot="14400000">
                  <a:off x="5272200" y="2058480"/>
                  <a:ext cx="914400" cy="380880"/>
                </a:xfrm>
                <a:custGeom>
                  <a:avLst/>
                  <a:gdLst>
                    <a:gd name="textAreaLeft" fmla="*/ 200880 w 914400"/>
                    <a:gd name="textAreaRight" fmla="*/ 713520 w 91440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8" name=""/>
                <p:cNvGrpSpPr/>
                <p:nvPr/>
              </p:nvGrpSpPr>
              <p:grpSpPr>
                <a:xfrm>
                  <a:off x="5335920" y="1150200"/>
                  <a:ext cx="1820520" cy="991800"/>
                  <a:chOff x="5335920" y="1150200"/>
                  <a:chExt cx="1820520" cy="991800"/>
                </a:xfrm>
              </p:grpSpPr>
              <p:sp>
                <p:nvSpPr>
                  <p:cNvPr id="779" name=""/>
                  <p:cNvSpPr/>
                  <p:nvPr/>
                </p:nvSpPr>
                <p:spPr>
                  <a:xfrm>
                    <a:off x="5788080" y="1150920"/>
                    <a:ext cx="914400" cy="380880"/>
                  </a:xfrm>
                  <a:custGeom>
                    <a:avLst/>
                    <a:gdLst>
                      <a:gd name="textAreaLeft" fmla="*/ 200880 w 914400"/>
                      <a:gd name="textAreaRight" fmla="*/ 713520 w 914400"/>
                      <a:gd name="textAreaTop" fmla="*/ 83520 h 380880"/>
                      <a:gd name="textAreaBottom" fmla="*/ 29736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rot="3600000">
                    <a:off x="6305400" y="1450800"/>
                    <a:ext cx="914400" cy="380880"/>
                  </a:xfrm>
                  <a:custGeom>
                    <a:avLst/>
                    <a:gdLst>
                      <a:gd name="textAreaLeft" fmla="*/ 200880 w 914400"/>
                      <a:gd name="textAreaRight" fmla="*/ 713520 w 914400"/>
                      <a:gd name="textAreaTop" fmla="*/ 83520 h 380880"/>
                      <a:gd name="textAreaBottom" fmla="*/ 29736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rot="18000000">
                    <a:off x="5272200" y="1460160"/>
                    <a:ext cx="914400" cy="380880"/>
                  </a:xfrm>
                  <a:custGeom>
                    <a:avLst/>
                    <a:gdLst>
                      <a:gd name="textAreaLeft" fmla="*/ 200880 w 914400"/>
                      <a:gd name="textAreaRight" fmla="*/ 713520 w 914400"/>
                      <a:gd name="textAreaTop" fmla="*/ 83520 h 380880"/>
                      <a:gd name="textAreaBottom" fmla="*/ 29736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82" name=""/>
              <p:cNvSpPr/>
              <p:nvPr/>
            </p:nvSpPr>
            <p:spPr>
              <a:xfrm>
                <a:off x="5322960" y="1154160"/>
                <a:ext cx="1828800" cy="1600200"/>
              </a:xfrm>
              <a:prstGeom prst="hexagon">
                <a:avLst>
                  <a:gd name="adj" fmla="val 28571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3952800" y="3550680"/>
              <a:ext cx="1833480" cy="1604160"/>
              <a:chOff x="3952800" y="3550680"/>
              <a:chExt cx="1833480" cy="1604160"/>
            </a:xfrm>
          </p:grpSpPr>
          <p:grpSp>
            <p:nvGrpSpPr>
              <p:cNvPr id="784" name=""/>
              <p:cNvGrpSpPr/>
              <p:nvPr/>
            </p:nvGrpSpPr>
            <p:grpSpPr>
              <a:xfrm>
                <a:off x="3965760" y="3550680"/>
                <a:ext cx="1820520" cy="1590120"/>
                <a:chOff x="3965760" y="3550680"/>
                <a:chExt cx="1820520" cy="1590120"/>
              </a:xfrm>
            </p:grpSpPr>
            <p:sp>
              <p:nvSpPr>
                <p:cNvPr id="785" name=""/>
                <p:cNvSpPr/>
                <p:nvPr/>
              </p:nvSpPr>
              <p:spPr>
                <a:xfrm rot="7200000">
                  <a:off x="4935240" y="4448160"/>
                  <a:ext cx="914400" cy="380880"/>
                </a:xfrm>
                <a:custGeom>
                  <a:avLst/>
                  <a:gdLst>
                    <a:gd name="textAreaLeft" fmla="*/ 200880 w 914400"/>
                    <a:gd name="textAreaRight" fmla="*/ 713520 w 91440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rot="10800000">
                  <a:off x="4425840" y="4757760"/>
                  <a:ext cx="914400" cy="380880"/>
                </a:xfrm>
                <a:custGeom>
                  <a:avLst/>
                  <a:gdLst>
                    <a:gd name="textAreaLeft" fmla="*/ 200880 w 914400"/>
                    <a:gd name="textAreaRight" fmla="*/ 713520 w 91440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rot="14400000">
                  <a:off x="3902040" y="4458960"/>
                  <a:ext cx="914400" cy="380880"/>
                </a:xfrm>
                <a:custGeom>
                  <a:avLst/>
                  <a:gdLst>
                    <a:gd name="textAreaLeft" fmla="*/ 200880 w 914400"/>
                    <a:gd name="textAreaRight" fmla="*/ 713520 w 91440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8" name=""/>
                <p:cNvGrpSpPr/>
                <p:nvPr/>
              </p:nvGrpSpPr>
              <p:grpSpPr>
                <a:xfrm>
                  <a:off x="3965760" y="3550680"/>
                  <a:ext cx="1820520" cy="991800"/>
                  <a:chOff x="3965760" y="3550680"/>
                  <a:chExt cx="1820520" cy="99180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>
                    <a:off x="4417920" y="3551400"/>
                    <a:ext cx="914400" cy="380880"/>
                  </a:xfrm>
                  <a:custGeom>
                    <a:avLst/>
                    <a:gdLst>
                      <a:gd name="textAreaLeft" fmla="*/ 200880 w 914400"/>
                      <a:gd name="textAreaRight" fmla="*/ 713520 w 914400"/>
                      <a:gd name="textAreaTop" fmla="*/ 83520 h 380880"/>
                      <a:gd name="textAreaBottom" fmla="*/ 29736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rot="3600000">
                    <a:off x="4935240" y="3851280"/>
                    <a:ext cx="914400" cy="380880"/>
                  </a:xfrm>
                  <a:custGeom>
                    <a:avLst/>
                    <a:gdLst>
                      <a:gd name="textAreaLeft" fmla="*/ 200880 w 914400"/>
                      <a:gd name="textAreaRight" fmla="*/ 713520 w 914400"/>
                      <a:gd name="textAreaTop" fmla="*/ 83520 h 380880"/>
                      <a:gd name="textAreaBottom" fmla="*/ 29736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rot="18000000">
                    <a:off x="3902040" y="3860640"/>
                    <a:ext cx="914400" cy="380880"/>
                  </a:xfrm>
                  <a:custGeom>
                    <a:avLst/>
                    <a:gdLst>
                      <a:gd name="textAreaLeft" fmla="*/ 200880 w 914400"/>
                      <a:gd name="textAreaRight" fmla="*/ 713520 w 914400"/>
                      <a:gd name="textAreaTop" fmla="*/ 83520 h 380880"/>
                      <a:gd name="textAreaBottom" fmla="*/ 29736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92" name=""/>
              <p:cNvSpPr/>
              <p:nvPr/>
            </p:nvSpPr>
            <p:spPr>
              <a:xfrm>
                <a:off x="3952800" y="3554640"/>
                <a:ext cx="1828800" cy="1600200"/>
              </a:xfrm>
              <a:prstGeom prst="hexagon">
                <a:avLst>
                  <a:gd name="adj" fmla="val 28571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3951360" y="1951920"/>
              <a:ext cx="1833480" cy="1604160"/>
              <a:chOff x="3951360" y="1951920"/>
              <a:chExt cx="1833480" cy="1604160"/>
            </a:xfrm>
          </p:grpSpPr>
          <p:grpSp>
            <p:nvGrpSpPr>
              <p:cNvPr id="794" name=""/>
              <p:cNvGrpSpPr/>
              <p:nvPr/>
            </p:nvGrpSpPr>
            <p:grpSpPr>
              <a:xfrm>
                <a:off x="3964320" y="1951920"/>
                <a:ext cx="1820520" cy="1590120"/>
                <a:chOff x="3964320" y="1951920"/>
                <a:chExt cx="1820520" cy="1590120"/>
              </a:xfrm>
            </p:grpSpPr>
            <p:sp>
              <p:nvSpPr>
                <p:cNvPr id="795" name=""/>
                <p:cNvSpPr/>
                <p:nvPr/>
              </p:nvSpPr>
              <p:spPr>
                <a:xfrm rot="7200000">
                  <a:off x="4933800" y="2849400"/>
                  <a:ext cx="914400" cy="380880"/>
                </a:xfrm>
                <a:custGeom>
                  <a:avLst/>
                  <a:gdLst>
                    <a:gd name="textAreaLeft" fmla="*/ 200880 w 914400"/>
                    <a:gd name="textAreaRight" fmla="*/ 713520 w 91440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rot="10800000">
                  <a:off x="4424400" y="3159000"/>
                  <a:ext cx="914400" cy="380880"/>
                </a:xfrm>
                <a:custGeom>
                  <a:avLst/>
                  <a:gdLst>
                    <a:gd name="textAreaLeft" fmla="*/ 200880 w 914400"/>
                    <a:gd name="textAreaRight" fmla="*/ 713520 w 91440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14400000">
                  <a:off x="3900600" y="2860200"/>
                  <a:ext cx="914400" cy="380880"/>
                </a:xfrm>
                <a:custGeom>
                  <a:avLst/>
                  <a:gdLst>
                    <a:gd name="textAreaLeft" fmla="*/ 200880 w 914400"/>
                    <a:gd name="textAreaRight" fmla="*/ 713520 w 91440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8" name=""/>
                <p:cNvGrpSpPr/>
                <p:nvPr/>
              </p:nvGrpSpPr>
              <p:grpSpPr>
                <a:xfrm>
                  <a:off x="3964320" y="1951920"/>
                  <a:ext cx="1820520" cy="991800"/>
                  <a:chOff x="3964320" y="1951920"/>
                  <a:chExt cx="1820520" cy="991800"/>
                </a:xfrm>
              </p:grpSpPr>
              <p:sp>
                <p:nvSpPr>
                  <p:cNvPr id="799" name=""/>
                  <p:cNvSpPr/>
                  <p:nvPr/>
                </p:nvSpPr>
                <p:spPr>
                  <a:xfrm>
                    <a:off x="4416480" y="1952640"/>
                    <a:ext cx="914400" cy="380880"/>
                  </a:xfrm>
                  <a:custGeom>
                    <a:avLst/>
                    <a:gdLst>
                      <a:gd name="textAreaLeft" fmla="*/ 200880 w 914400"/>
                      <a:gd name="textAreaRight" fmla="*/ 713520 w 914400"/>
                      <a:gd name="textAreaTop" fmla="*/ 83520 h 380880"/>
                      <a:gd name="textAreaBottom" fmla="*/ 29736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rot="3600000">
                    <a:off x="4933800" y="2252520"/>
                    <a:ext cx="914400" cy="380880"/>
                  </a:xfrm>
                  <a:custGeom>
                    <a:avLst/>
                    <a:gdLst>
                      <a:gd name="textAreaLeft" fmla="*/ 200880 w 914400"/>
                      <a:gd name="textAreaRight" fmla="*/ 713520 w 914400"/>
                      <a:gd name="textAreaTop" fmla="*/ 83520 h 380880"/>
                      <a:gd name="textAreaBottom" fmla="*/ 29736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 rot="18000000">
                    <a:off x="3900600" y="2261880"/>
                    <a:ext cx="914400" cy="380880"/>
                  </a:xfrm>
                  <a:custGeom>
                    <a:avLst/>
                    <a:gdLst>
                      <a:gd name="textAreaLeft" fmla="*/ 200880 w 914400"/>
                      <a:gd name="textAreaRight" fmla="*/ 713520 w 914400"/>
                      <a:gd name="textAreaTop" fmla="*/ 83520 h 380880"/>
                      <a:gd name="textAreaBottom" fmla="*/ 29736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02" name=""/>
              <p:cNvSpPr/>
              <p:nvPr/>
            </p:nvSpPr>
            <p:spPr>
              <a:xfrm>
                <a:off x="3951360" y="1955880"/>
                <a:ext cx="1828800" cy="1600200"/>
              </a:xfrm>
              <a:prstGeom prst="hexagon">
                <a:avLst>
                  <a:gd name="adj" fmla="val 28571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6703920" y="3531600"/>
              <a:ext cx="1833480" cy="1604160"/>
              <a:chOff x="6703920" y="3531600"/>
              <a:chExt cx="1833480" cy="1604160"/>
            </a:xfrm>
          </p:grpSpPr>
          <p:grpSp>
            <p:nvGrpSpPr>
              <p:cNvPr id="804" name=""/>
              <p:cNvGrpSpPr/>
              <p:nvPr/>
            </p:nvGrpSpPr>
            <p:grpSpPr>
              <a:xfrm>
                <a:off x="6716880" y="3531600"/>
                <a:ext cx="1820520" cy="1590120"/>
                <a:chOff x="6716880" y="3531600"/>
                <a:chExt cx="1820520" cy="1590120"/>
              </a:xfrm>
            </p:grpSpPr>
            <p:sp>
              <p:nvSpPr>
                <p:cNvPr id="805" name=""/>
                <p:cNvSpPr/>
                <p:nvPr/>
              </p:nvSpPr>
              <p:spPr>
                <a:xfrm rot="7200000">
                  <a:off x="7686360" y="4429080"/>
                  <a:ext cx="914400" cy="380880"/>
                </a:xfrm>
                <a:custGeom>
                  <a:avLst/>
                  <a:gdLst>
                    <a:gd name="textAreaLeft" fmla="*/ 200880 w 914400"/>
                    <a:gd name="textAreaRight" fmla="*/ 713520 w 91440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rot="10800000">
                  <a:off x="7176960" y="4738680"/>
                  <a:ext cx="914400" cy="380880"/>
                </a:xfrm>
                <a:custGeom>
                  <a:avLst/>
                  <a:gdLst>
                    <a:gd name="textAreaLeft" fmla="*/ 200880 w 914400"/>
                    <a:gd name="textAreaRight" fmla="*/ 713520 w 91440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rot="14400000">
                  <a:off x="6653160" y="4439880"/>
                  <a:ext cx="914400" cy="380880"/>
                </a:xfrm>
                <a:custGeom>
                  <a:avLst/>
                  <a:gdLst>
                    <a:gd name="textAreaLeft" fmla="*/ 200880 w 914400"/>
                    <a:gd name="textAreaRight" fmla="*/ 713520 w 91440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8" name=""/>
                <p:cNvGrpSpPr/>
                <p:nvPr/>
              </p:nvGrpSpPr>
              <p:grpSpPr>
                <a:xfrm>
                  <a:off x="6716880" y="3531600"/>
                  <a:ext cx="1820520" cy="991800"/>
                  <a:chOff x="6716880" y="3531600"/>
                  <a:chExt cx="1820520" cy="991800"/>
                </a:xfrm>
              </p:grpSpPr>
              <p:sp>
                <p:nvSpPr>
                  <p:cNvPr id="809" name=""/>
                  <p:cNvSpPr/>
                  <p:nvPr/>
                </p:nvSpPr>
                <p:spPr>
                  <a:xfrm>
                    <a:off x="7169040" y="3532320"/>
                    <a:ext cx="914400" cy="380880"/>
                  </a:xfrm>
                  <a:custGeom>
                    <a:avLst/>
                    <a:gdLst>
                      <a:gd name="textAreaLeft" fmla="*/ 200880 w 914400"/>
                      <a:gd name="textAreaRight" fmla="*/ 713520 w 914400"/>
                      <a:gd name="textAreaTop" fmla="*/ 83520 h 380880"/>
                      <a:gd name="textAreaBottom" fmla="*/ 29736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rot="3600000">
                    <a:off x="7686360" y="3832200"/>
                    <a:ext cx="914400" cy="380880"/>
                  </a:xfrm>
                  <a:custGeom>
                    <a:avLst/>
                    <a:gdLst>
                      <a:gd name="textAreaLeft" fmla="*/ 200880 w 914400"/>
                      <a:gd name="textAreaRight" fmla="*/ 713520 w 914400"/>
                      <a:gd name="textAreaTop" fmla="*/ 83520 h 380880"/>
                      <a:gd name="textAreaBottom" fmla="*/ 29736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rot="18000000">
                    <a:off x="6653160" y="3841560"/>
                    <a:ext cx="914400" cy="380880"/>
                  </a:xfrm>
                  <a:custGeom>
                    <a:avLst/>
                    <a:gdLst>
                      <a:gd name="textAreaLeft" fmla="*/ 200880 w 914400"/>
                      <a:gd name="textAreaRight" fmla="*/ 713520 w 914400"/>
                      <a:gd name="textAreaTop" fmla="*/ 83520 h 380880"/>
                      <a:gd name="textAreaBottom" fmla="*/ 29736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12" name=""/>
              <p:cNvSpPr/>
              <p:nvPr/>
            </p:nvSpPr>
            <p:spPr>
              <a:xfrm>
                <a:off x="6703920" y="3535560"/>
                <a:ext cx="1828800" cy="1600200"/>
              </a:xfrm>
              <a:prstGeom prst="hexagon">
                <a:avLst>
                  <a:gd name="adj" fmla="val 28571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6702480" y="1932840"/>
              <a:ext cx="1833480" cy="1604160"/>
              <a:chOff x="6702480" y="1932840"/>
              <a:chExt cx="1833480" cy="1604160"/>
            </a:xfrm>
          </p:grpSpPr>
          <p:grpSp>
            <p:nvGrpSpPr>
              <p:cNvPr id="814" name=""/>
              <p:cNvGrpSpPr/>
              <p:nvPr/>
            </p:nvGrpSpPr>
            <p:grpSpPr>
              <a:xfrm>
                <a:off x="6715440" y="1932840"/>
                <a:ext cx="1820520" cy="1590120"/>
                <a:chOff x="6715440" y="1932840"/>
                <a:chExt cx="1820520" cy="1590120"/>
              </a:xfrm>
            </p:grpSpPr>
            <p:sp>
              <p:nvSpPr>
                <p:cNvPr id="815" name=""/>
                <p:cNvSpPr/>
                <p:nvPr/>
              </p:nvSpPr>
              <p:spPr>
                <a:xfrm rot="7200000">
                  <a:off x="7684920" y="2830320"/>
                  <a:ext cx="914400" cy="380880"/>
                </a:xfrm>
                <a:custGeom>
                  <a:avLst/>
                  <a:gdLst>
                    <a:gd name="textAreaLeft" fmla="*/ 200880 w 914400"/>
                    <a:gd name="textAreaRight" fmla="*/ 713520 w 91440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rot="10800000">
                  <a:off x="7175520" y="3139920"/>
                  <a:ext cx="914400" cy="380880"/>
                </a:xfrm>
                <a:custGeom>
                  <a:avLst/>
                  <a:gdLst>
                    <a:gd name="textAreaLeft" fmla="*/ 200880 w 914400"/>
                    <a:gd name="textAreaRight" fmla="*/ 713520 w 91440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rot="14400000">
                  <a:off x="6651720" y="2841120"/>
                  <a:ext cx="914400" cy="380880"/>
                </a:xfrm>
                <a:custGeom>
                  <a:avLst/>
                  <a:gdLst>
                    <a:gd name="textAreaLeft" fmla="*/ 200880 w 914400"/>
                    <a:gd name="textAreaRight" fmla="*/ 713520 w 91440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8" name=""/>
                <p:cNvGrpSpPr/>
                <p:nvPr/>
              </p:nvGrpSpPr>
              <p:grpSpPr>
                <a:xfrm>
                  <a:off x="6715440" y="1932840"/>
                  <a:ext cx="1820520" cy="991800"/>
                  <a:chOff x="6715440" y="1932840"/>
                  <a:chExt cx="1820520" cy="991800"/>
                </a:xfrm>
              </p:grpSpPr>
              <p:sp>
                <p:nvSpPr>
                  <p:cNvPr id="819" name=""/>
                  <p:cNvSpPr/>
                  <p:nvPr/>
                </p:nvSpPr>
                <p:spPr>
                  <a:xfrm>
                    <a:off x="7167600" y="1933560"/>
                    <a:ext cx="914400" cy="380880"/>
                  </a:xfrm>
                  <a:custGeom>
                    <a:avLst/>
                    <a:gdLst>
                      <a:gd name="textAreaLeft" fmla="*/ 200880 w 914400"/>
                      <a:gd name="textAreaRight" fmla="*/ 713520 w 914400"/>
                      <a:gd name="textAreaTop" fmla="*/ 83520 h 380880"/>
                      <a:gd name="textAreaBottom" fmla="*/ 29736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rot="3600000">
                    <a:off x="7684920" y="2233440"/>
                    <a:ext cx="914400" cy="380880"/>
                  </a:xfrm>
                  <a:custGeom>
                    <a:avLst/>
                    <a:gdLst>
                      <a:gd name="textAreaLeft" fmla="*/ 200880 w 914400"/>
                      <a:gd name="textAreaRight" fmla="*/ 713520 w 914400"/>
                      <a:gd name="textAreaTop" fmla="*/ 83520 h 380880"/>
                      <a:gd name="textAreaBottom" fmla="*/ 29736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rot="18000000">
                    <a:off x="6651720" y="2242800"/>
                    <a:ext cx="914400" cy="380880"/>
                  </a:xfrm>
                  <a:custGeom>
                    <a:avLst/>
                    <a:gdLst>
                      <a:gd name="textAreaLeft" fmla="*/ 200880 w 914400"/>
                      <a:gd name="textAreaRight" fmla="*/ 713520 w 914400"/>
                      <a:gd name="textAreaTop" fmla="*/ 83520 h 380880"/>
                      <a:gd name="textAreaBottom" fmla="*/ 29736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22" name=""/>
              <p:cNvSpPr/>
              <p:nvPr/>
            </p:nvSpPr>
            <p:spPr>
              <a:xfrm>
                <a:off x="6702480" y="1936800"/>
                <a:ext cx="1828800" cy="1600200"/>
              </a:xfrm>
              <a:prstGeom prst="hexagon">
                <a:avLst>
                  <a:gd name="adj" fmla="val 28571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5334120" y="4345920"/>
              <a:ext cx="1833480" cy="1604160"/>
              <a:chOff x="5334120" y="4345920"/>
              <a:chExt cx="1833480" cy="1604160"/>
            </a:xfrm>
          </p:grpSpPr>
          <p:grpSp>
            <p:nvGrpSpPr>
              <p:cNvPr id="824" name=""/>
              <p:cNvGrpSpPr/>
              <p:nvPr/>
            </p:nvGrpSpPr>
            <p:grpSpPr>
              <a:xfrm>
                <a:off x="5347080" y="4345920"/>
                <a:ext cx="1820520" cy="1590120"/>
                <a:chOff x="5347080" y="4345920"/>
                <a:chExt cx="1820520" cy="1590120"/>
              </a:xfrm>
            </p:grpSpPr>
            <p:sp>
              <p:nvSpPr>
                <p:cNvPr id="825" name=""/>
                <p:cNvSpPr/>
                <p:nvPr/>
              </p:nvSpPr>
              <p:spPr>
                <a:xfrm rot="7200000">
                  <a:off x="6316560" y="5243400"/>
                  <a:ext cx="914400" cy="380880"/>
                </a:xfrm>
                <a:custGeom>
                  <a:avLst/>
                  <a:gdLst>
                    <a:gd name="textAreaLeft" fmla="*/ 200880 w 914400"/>
                    <a:gd name="textAreaRight" fmla="*/ 713520 w 91440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rot="10800000">
                  <a:off x="5807160" y="5553000"/>
                  <a:ext cx="914400" cy="380880"/>
                </a:xfrm>
                <a:custGeom>
                  <a:avLst/>
                  <a:gdLst>
                    <a:gd name="textAreaLeft" fmla="*/ 200880 w 914400"/>
                    <a:gd name="textAreaRight" fmla="*/ 713520 w 91440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rot="14400000">
                  <a:off x="5283360" y="5254200"/>
                  <a:ext cx="914400" cy="380880"/>
                </a:xfrm>
                <a:custGeom>
                  <a:avLst/>
                  <a:gdLst>
                    <a:gd name="textAreaLeft" fmla="*/ 200880 w 914400"/>
                    <a:gd name="textAreaRight" fmla="*/ 713520 w 914400"/>
                    <a:gd name="textAreaTop" fmla="*/ 83520 h 380880"/>
                    <a:gd name="textAreaBottom" fmla="*/ 297360 h 3808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8" name=""/>
                <p:cNvGrpSpPr/>
                <p:nvPr/>
              </p:nvGrpSpPr>
              <p:grpSpPr>
                <a:xfrm>
                  <a:off x="5347080" y="4345920"/>
                  <a:ext cx="1820520" cy="991800"/>
                  <a:chOff x="5347080" y="4345920"/>
                  <a:chExt cx="1820520" cy="991800"/>
                </a:xfrm>
              </p:grpSpPr>
              <p:sp>
                <p:nvSpPr>
                  <p:cNvPr id="829" name=""/>
                  <p:cNvSpPr/>
                  <p:nvPr/>
                </p:nvSpPr>
                <p:spPr>
                  <a:xfrm>
                    <a:off x="5799240" y="4346640"/>
                    <a:ext cx="914400" cy="380880"/>
                  </a:xfrm>
                  <a:custGeom>
                    <a:avLst/>
                    <a:gdLst>
                      <a:gd name="textAreaLeft" fmla="*/ 200880 w 914400"/>
                      <a:gd name="textAreaRight" fmla="*/ 713520 w 914400"/>
                      <a:gd name="textAreaTop" fmla="*/ 83520 h 380880"/>
                      <a:gd name="textAreaBottom" fmla="*/ 29736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rot="3600000">
                    <a:off x="6316560" y="4646520"/>
                    <a:ext cx="914400" cy="380880"/>
                  </a:xfrm>
                  <a:custGeom>
                    <a:avLst/>
                    <a:gdLst>
                      <a:gd name="textAreaLeft" fmla="*/ 200880 w 914400"/>
                      <a:gd name="textAreaRight" fmla="*/ 713520 w 914400"/>
                      <a:gd name="textAreaTop" fmla="*/ 83520 h 380880"/>
                      <a:gd name="textAreaBottom" fmla="*/ 29736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rot="18000000">
                    <a:off x="5283360" y="4655880"/>
                    <a:ext cx="914400" cy="380880"/>
                  </a:xfrm>
                  <a:custGeom>
                    <a:avLst/>
                    <a:gdLst>
                      <a:gd name="textAreaLeft" fmla="*/ 200880 w 914400"/>
                      <a:gd name="textAreaRight" fmla="*/ 713520 w 914400"/>
                      <a:gd name="textAreaTop" fmla="*/ 83520 h 380880"/>
                      <a:gd name="textAreaBottom" fmla="*/ 297360 h 38088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32" name=""/>
              <p:cNvSpPr/>
              <p:nvPr/>
            </p:nvSpPr>
            <p:spPr>
              <a:xfrm>
                <a:off x="5334120" y="4349880"/>
                <a:ext cx="1828800" cy="1600200"/>
              </a:xfrm>
              <a:prstGeom prst="hexagon">
                <a:avLst>
                  <a:gd name="adj" fmla="val 28571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>
              <a:off x="5171040" y="28479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017760" y="335916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W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053760" y="23688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995440" y="175896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W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367040" y="413244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W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623840" y="415476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W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986080" y="495936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W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623840" y="256536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W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367040" y="253224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W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847560" y="28260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923880" y="38163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085440" y="434988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193360" y="389268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520600" y="366408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42640" y="366408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031800" y="27291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542640" y="304488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063480" y="39690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518800" y="30657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Distribution of Whispering Resou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Only One Concurrent Whispering Re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7-cel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The cycle of whispering cells: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246560" y="3481560"/>
            <a:ext cx="539640" cy="468000"/>
          </a:xfrm>
          <a:prstGeom prst="hexagon">
            <a:avLst>
              <a:gd name="adj" fmla="val 2882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653000" y="3716280"/>
            <a:ext cx="539640" cy="468360"/>
          </a:xfrm>
          <a:prstGeom prst="hexagon">
            <a:avLst>
              <a:gd name="adj" fmla="val 2880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653000" y="3246480"/>
            <a:ext cx="539640" cy="468360"/>
          </a:xfrm>
          <a:prstGeom prst="hexagon">
            <a:avLst>
              <a:gd name="adj" fmla="val 2880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057640" y="3481560"/>
            <a:ext cx="540000" cy="468000"/>
          </a:xfrm>
          <a:prstGeom prst="hexagon">
            <a:avLst>
              <a:gd name="adj" fmla="val 28846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64080" y="3716280"/>
            <a:ext cx="540000" cy="468360"/>
          </a:xfrm>
          <a:prstGeom prst="hexagon">
            <a:avLst>
              <a:gd name="adj" fmla="val 28824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464080" y="3246480"/>
            <a:ext cx="540000" cy="468360"/>
          </a:xfrm>
          <a:prstGeom prst="hexagon">
            <a:avLst>
              <a:gd name="adj" fmla="val 28824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246560" y="3949560"/>
            <a:ext cx="539640" cy="468360"/>
          </a:xfrm>
          <a:prstGeom prst="hexagon">
            <a:avLst>
              <a:gd name="adj" fmla="val 2880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653000" y="4184640"/>
            <a:ext cx="539640" cy="468360"/>
          </a:xfrm>
          <a:prstGeom prst="hexagon">
            <a:avLst>
              <a:gd name="adj" fmla="val 2880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057640" y="3949560"/>
            <a:ext cx="540000" cy="468360"/>
          </a:xfrm>
          <a:prstGeom prst="hexagon">
            <a:avLst>
              <a:gd name="adj" fmla="val 28824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057640" y="4417920"/>
            <a:ext cx="540000" cy="468360"/>
          </a:xfrm>
          <a:prstGeom prst="hexagon">
            <a:avLst>
              <a:gd name="adj" fmla="val 28824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464080" y="4653000"/>
            <a:ext cx="540000" cy="468360"/>
          </a:xfrm>
          <a:prstGeom prst="hexagon">
            <a:avLst>
              <a:gd name="adj" fmla="val 28824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464080" y="4183200"/>
            <a:ext cx="540000" cy="468000"/>
          </a:xfrm>
          <a:prstGeom prst="hexagon">
            <a:avLst>
              <a:gd name="adj" fmla="val 28846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869080" y="4417920"/>
            <a:ext cx="539640" cy="468360"/>
          </a:xfrm>
          <a:prstGeom prst="hexagon">
            <a:avLst>
              <a:gd name="adj" fmla="val 2880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275520" y="4653000"/>
            <a:ext cx="539640" cy="468360"/>
          </a:xfrm>
          <a:prstGeom prst="hexagon">
            <a:avLst>
              <a:gd name="adj" fmla="val 2880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275520" y="4183200"/>
            <a:ext cx="539640" cy="468000"/>
          </a:xfrm>
          <a:prstGeom prst="hexagon">
            <a:avLst>
              <a:gd name="adj" fmla="val 2882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057640" y="4886280"/>
            <a:ext cx="540000" cy="468360"/>
          </a:xfrm>
          <a:prstGeom prst="hexagon">
            <a:avLst>
              <a:gd name="adj" fmla="val 28824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464080" y="5121360"/>
            <a:ext cx="540000" cy="468360"/>
          </a:xfrm>
          <a:prstGeom prst="hexagon">
            <a:avLst>
              <a:gd name="adj" fmla="val 28824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869080" y="4886280"/>
            <a:ext cx="539640" cy="468360"/>
          </a:xfrm>
          <a:prstGeom prst="hexagon">
            <a:avLst>
              <a:gd name="adj" fmla="val 2880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867280" y="3481560"/>
            <a:ext cx="538200" cy="468000"/>
          </a:xfrm>
          <a:prstGeom prst="hexagon">
            <a:avLst>
              <a:gd name="adj" fmla="val 2875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272280" y="3716280"/>
            <a:ext cx="539640" cy="468360"/>
          </a:xfrm>
          <a:prstGeom prst="hexagon">
            <a:avLst>
              <a:gd name="adj" fmla="val 2880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272280" y="3246480"/>
            <a:ext cx="539640" cy="468360"/>
          </a:xfrm>
          <a:prstGeom prst="hexagon">
            <a:avLst>
              <a:gd name="adj" fmla="val 2880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867280" y="3949560"/>
            <a:ext cx="538200" cy="468360"/>
          </a:xfrm>
          <a:prstGeom prst="hexagon">
            <a:avLst>
              <a:gd name="adj" fmla="val 2872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246560" y="4417920"/>
            <a:ext cx="539640" cy="468360"/>
          </a:xfrm>
          <a:prstGeom prst="hexagon">
            <a:avLst>
              <a:gd name="adj" fmla="val 2880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653000" y="4653000"/>
            <a:ext cx="539640" cy="468360"/>
          </a:xfrm>
          <a:prstGeom prst="hexagon">
            <a:avLst>
              <a:gd name="adj" fmla="val 2880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246560" y="4886280"/>
            <a:ext cx="539640" cy="468360"/>
          </a:xfrm>
          <a:prstGeom prst="hexagon">
            <a:avLst>
              <a:gd name="adj" fmla="val 2880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653000" y="5121360"/>
            <a:ext cx="539640" cy="468360"/>
          </a:xfrm>
          <a:prstGeom prst="hexagon">
            <a:avLst>
              <a:gd name="adj" fmla="val 2880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75520" y="5118120"/>
            <a:ext cx="539640" cy="468360"/>
          </a:xfrm>
          <a:prstGeom prst="hexagon">
            <a:avLst>
              <a:gd name="adj" fmla="val 2880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676920" y="3481560"/>
            <a:ext cx="540000" cy="468000"/>
          </a:xfrm>
          <a:prstGeom prst="hexagon">
            <a:avLst>
              <a:gd name="adj" fmla="val 28846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083360" y="3716280"/>
            <a:ext cx="539640" cy="468360"/>
          </a:xfrm>
          <a:prstGeom prst="hexagon">
            <a:avLst>
              <a:gd name="adj" fmla="val 2880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083360" y="3246480"/>
            <a:ext cx="539640" cy="468360"/>
          </a:xfrm>
          <a:prstGeom prst="hexagon">
            <a:avLst>
              <a:gd name="adj" fmla="val 2880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676920" y="3949560"/>
            <a:ext cx="540000" cy="468360"/>
          </a:xfrm>
          <a:prstGeom prst="hexagon">
            <a:avLst>
              <a:gd name="adj" fmla="val 28824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676920" y="4417920"/>
            <a:ext cx="540000" cy="468360"/>
          </a:xfrm>
          <a:prstGeom prst="hexagon">
            <a:avLst>
              <a:gd name="adj" fmla="val 28824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083360" y="4653000"/>
            <a:ext cx="539640" cy="468360"/>
          </a:xfrm>
          <a:prstGeom prst="hexagon">
            <a:avLst>
              <a:gd name="adj" fmla="val 2880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083360" y="4183200"/>
            <a:ext cx="539640" cy="468000"/>
          </a:xfrm>
          <a:prstGeom prst="hexagon">
            <a:avLst>
              <a:gd name="adj" fmla="val 2882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488360" y="4417920"/>
            <a:ext cx="539640" cy="468360"/>
          </a:xfrm>
          <a:prstGeom prst="hexagon">
            <a:avLst>
              <a:gd name="adj" fmla="val 2880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676920" y="4886280"/>
            <a:ext cx="540000" cy="468360"/>
          </a:xfrm>
          <a:prstGeom prst="hexagon">
            <a:avLst>
              <a:gd name="adj" fmla="val 28824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083360" y="5121360"/>
            <a:ext cx="539640" cy="468360"/>
          </a:xfrm>
          <a:prstGeom prst="hexagon">
            <a:avLst>
              <a:gd name="adj" fmla="val 2880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488360" y="4886280"/>
            <a:ext cx="539640" cy="468360"/>
          </a:xfrm>
          <a:prstGeom prst="hexagon">
            <a:avLst>
              <a:gd name="adj" fmla="val 2880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486560" y="3481560"/>
            <a:ext cx="540000" cy="468000"/>
          </a:xfrm>
          <a:prstGeom prst="hexagon">
            <a:avLst>
              <a:gd name="adj" fmla="val 28846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486560" y="3949560"/>
            <a:ext cx="540000" cy="468360"/>
          </a:xfrm>
          <a:prstGeom prst="hexagon">
            <a:avLst>
              <a:gd name="adj" fmla="val 28824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927680" y="3598920"/>
            <a:ext cx="0" cy="23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4921200" y="4070520"/>
            <a:ext cx="0" cy="23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5035680" y="3764160"/>
            <a:ext cx="203040" cy="11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H="1" flipV="1">
            <a:off x="5036760" y="4008240"/>
            <a:ext cx="203400" cy="11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4610880" y="4019400"/>
            <a:ext cx="203400" cy="11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602960" y="3764160"/>
            <a:ext cx="203400" cy="11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Assumptions for Simu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S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Uniform over cells, random gen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raffic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lways queu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rrelated shadowing without fast fading (no mobi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esource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he same amount of resource (or time) allocation for all MS’s regardless of position or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roportional fair (PF) scheduling without channel vari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similar to round ro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Simulation Mea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784692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IR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No link-level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o SIR-capacity-BLER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95% worst SIR (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굴림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percentile) from SIR distribu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Only in 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hannon capacity in AWG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4" name=""/>
          <p:cNvGraphicFramePr/>
          <p:nvPr/>
        </p:nvGraphicFramePr>
        <p:xfrm>
          <a:off x="5076720" y="3573360"/>
          <a:ext cx="3257640" cy="5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3573360"/>
                    <a:ext cx="325764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6" name=""/>
          <p:cNvSpPr/>
          <p:nvPr/>
        </p:nvSpPr>
        <p:spPr>
          <a:xfrm>
            <a:off x="1379520" y="565308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380960" y="45831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486720" y="4788720"/>
            <a:ext cx="4068000" cy="860040"/>
            <a:chOff x="486720" y="4788720"/>
            <a:chExt cx="4068000" cy="860040"/>
          </a:xfrm>
        </p:grpSpPr>
        <p:sp>
          <p:nvSpPr>
            <p:cNvPr id="909" name=""/>
            <p:cNvSpPr/>
            <p:nvPr/>
          </p:nvSpPr>
          <p:spPr>
            <a:xfrm>
              <a:off x="2235600" y="4789440"/>
              <a:ext cx="575280" cy="85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5"/>
                  </a:moveTo>
                  <a:arcTo wR="10800" hR="10800" stAng="-10785517" swAng="10785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5"/>
                  </a:moveTo>
                  <a:arcTo wR="10800" hR="10800" stAng="-10785517" swAng="10785517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2813400" y="4788360"/>
              <a:ext cx="1741320" cy="86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5"/>
                  </a:moveTo>
                  <a:arcTo wR="10800" hR="10800" stAng="-10785517" swAng="534788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5"/>
                  </a:moveTo>
                  <a:arcTo wR="10800" hR="10800" stAng="-10785517" swAng="534788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486000" y="4788360"/>
              <a:ext cx="1739880" cy="86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5"/>
                  </a:moveTo>
                  <a:arcTo wR="10800" hR="10800" stAng="-10785517" swAng="534788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5"/>
                  </a:moveTo>
                  <a:arcTo wR="10800" hR="10800" stAng="-10785517" swAng="5347884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4511160" y="5581800"/>
            <a:ext cx="25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S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163880" y="435780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016000" y="43578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2015640" y="4348080"/>
            <a:ext cx="358920" cy="11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374920" y="4106880"/>
            <a:ext cx="151452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95% worst S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SIR Distribution in 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Resource region decision thresh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he smallest path loss value from neighboring BSs under a fixed UE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4356000" y="2476440"/>
            <a:ext cx="4789440" cy="354492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2"/>
          <a:stretch/>
        </p:blipFill>
        <p:spPr>
          <a:xfrm>
            <a:off x="-1440" y="2476440"/>
            <a:ext cx="4789440" cy="354492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 flipH="1">
            <a:off x="5003640" y="4664160"/>
            <a:ext cx="6480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217840" y="4470480"/>
            <a:ext cx="2736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굴림"/>
              </a:rPr>
              <a:t>9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5320800" y="3994200"/>
            <a:ext cx="74484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493600" y="3800520"/>
            <a:ext cx="3589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굴림"/>
              </a:rPr>
              <a:t>10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717520" y="4581360"/>
            <a:ext cx="1436400" cy="182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Excluding inferior 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14240" y="3894120"/>
            <a:ext cx="1436400" cy="182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Excluding inferior 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Capacity Distribution in 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  <p:pic>
        <p:nvPicPr>
          <p:cNvPr id="929" name="" descr=""/>
          <p:cNvPicPr/>
          <p:nvPr/>
        </p:nvPicPr>
        <p:blipFill>
          <a:blip r:embed="rId1"/>
          <a:stretch/>
        </p:blipFill>
        <p:spPr>
          <a:xfrm>
            <a:off x="4390920" y="2116080"/>
            <a:ext cx="4789440" cy="354492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2"/>
          <a:stretch/>
        </p:blipFill>
        <p:spPr>
          <a:xfrm>
            <a:off x="-1440" y="2116080"/>
            <a:ext cx="478944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Reduced Number of Resource Reg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Easier radio frame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Less ICI management gain, but more frequency scheduling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1"/>
          <a:stretch/>
        </p:blipFill>
        <p:spPr>
          <a:xfrm>
            <a:off x="1116000" y="1073160"/>
            <a:ext cx="3274920" cy="3394080"/>
          </a:xfrm>
          <a:prstGeom prst="rect">
            <a:avLst/>
          </a:prstGeom>
          <a:ln w="0">
            <a:noFill/>
          </a:ln>
        </p:spPr>
      </p:pic>
      <p:pic>
        <p:nvPicPr>
          <p:cNvPr id="934" name="" descr=""/>
          <p:cNvPicPr/>
          <p:nvPr/>
        </p:nvPicPr>
        <p:blipFill>
          <a:blip r:embed="rId2"/>
          <a:stretch/>
        </p:blipFill>
        <p:spPr>
          <a:xfrm>
            <a:off x="4772160" y="1052640"/>
            <a:ext cx="3274920" cy="339408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2332800" y="4552920"/>
            <a:ext cx="867960" cy="2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attern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8960" y="4551480"/>
            <a:ext cx="867960" cy="2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attern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Rotation of Resource Reg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Frequency scheduling gain for delay insensitive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9" name=""/>
          <p:cNvGrpSpPr/>
          <p:nvPr/>
        </p:nvGrpSpPr>
        <p:grpSpPr>
          <a:xfrm>
            <a:off x="1309320" y="1063800"/>
            <a:ext cx="6681240" cy="4254120"/>
            <a:chOff x="1309320" y="1063800"/>
            <a:chExt cx="6681240" cy="4254120"/>
          </a:xfrm>
        </p:grpSpPr>
        <p:sp>
          <p:nvSpPr>
            <p:cNvPr id="940" name=""/>
            <p:cNvSpPr/>
            <p:nvPr/>
          </p:nvSpPr>
          <p:spPr>
            <a:xfrm flipV="1">
              <a:off x="2538000" y="1139760"/>
              <a:ext cx="0" cy="37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38000" y="4873320"/>
              <a:ext cx="51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538000" y="4035240"/>
              <a:ext cx="1067040" cy="83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538000" y="3197160"/>
              <a:ext cx="1067040" cy="83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538000" y="2358720"/>
              <a:ext cx="10670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538000" y="1520640"/>
              <a:ext cx="1067040" cy="837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W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605040" y="4035240"/>
              <a:ext cx="1066680" cy="83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605040" y="3197160"/>
              <a:ext cx="1066680" cy="83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605040" y="2358720"/>
              <a:ext cx="1066680" cy="8380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W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605040" y="1520640"/>
              <a:ext cx="1066680" cy="83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671720" y="4035240"/>
              <a:ext cx="1066680" cy="83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671720" y="3197160"/>
              <a:ext cx="1066680" cy="837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W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671720" y="2358720"/>
              <a:ext cx="10666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671720" y="1520640"/>
              <a:ext cx="1066680" cy="83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738400" y="4035240"/>
              <a:ext cx="1067040" cy="837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W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738400" y="3197160"/>
              <a:ext cx="1067040" cy="83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738400" y="2358720"/>
              <a:ext cx="106704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738400" y="1520640"/>
              <a:ext cx="1067040" cy="83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325280" y="4949640"/>
              <a:ext cx="6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309320" y="1063800"/>
              <a:ext cx="126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frequ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UE Nonuniform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intaining the size of each resource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xcessive UEs are moved to other reg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oving UEs from a whispering resource region to speaking resource regions does not affect other 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oving UEs from a speaking resource region to other regions will force them to reduce their transmission pow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hanging the ratio of resource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nlarging a whispering resource region does not affect other cel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nlarging a speaking resource region in cell A will force the corresponding whispering resource region in the neighboring cell to be enlarged. The disjoint whispering resource region of cell A has not to be shrun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Downli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Irregular Multi-Cellular Environ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The Number of Patterns: 7, 3, 4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Adjacent two cells do not hold the same pattern in common for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When all patterns are consumed in adjacent cell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The whispering resource region of the cell can be determined random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Pattern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Occurrence of pattern allocation/re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First system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ew insertion of a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attern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fter some period for gathering path loss information between a UE and its neighboring Node B’s, each Node B determines which Node B’s are adjacent to it with UEs as media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Sectored Multi-Ce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hree sectored multi-cells are equivalent to omni-cells in neighboring re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1992240" y="1165320"/>
            <a:ext cx="5595840" cy="3916440"/>
            <a:chOff x="1992240" y="1165320"/>
            <a:chExt cx="5595840" cy="3916440"/>
          </a:xfrm>
        </p:grpSpPr>
        <p:grpSp>
          <p:nvGrpSpPr>
            <p:cNvPr id="967" name=""/>
            <p:cNvGrpSpPr/>
            <p:nvPr/>
          </p:nvGrpSpPr>
          <p:grpSpPr>
            <a:xfrm>
              <a:off x="1992240" y="1165320"/>
              <a:ext cx="5595840" cy="3916440"/>
              <a:chOff x="1992240" y="1165320"/>
              <a:chExt cx="5595840" cy="3916440"/>
            </a:xfrm>
          </p:grpSpPr>
          <p:grpSp>
            <p:nvGrpSpPr>
              <p:cNvPr id="968" name=""/>
              <p:cNvGrpSpPr/>
              <p:nvPr/>
            </p:nvGrpSpPr>
            <p:grpSpPr>
              <a:xfrm>
                <a:off x="5350680" y="2124720"/>
                <a:ext cx="2237400" cy="1997640"/>
                <a:chOff x="5350680" y="2124720"/>
                <a:chExt cx="2237400" cy="199764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5350680" y="2124720"/>
                  <a:ext cx="2237400" cy="1917720"/>
                </a:xfrm>
                <a:prstGeom prst="hexagon">
                  <a:avLst>
                    <a:gd name="adj" fmla="val 29167"/>
                    <a:gd name="vf" fmla="val 115470"/>
                  </a:avLst>
                </a:prstGeom>
                <a:noFill/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V="1">
                  <a:off x="6469200" y="2523240"/>
                  <a:ext cx="958680" cy="640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6469200" y="3163680"/>
                  <a:ext cx="0" cy="958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 flipV="1">
                  <a:off x="5510160" y="2523240"/>
                  <a:ext cx="958680" cy="640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3" name=""/>
              <p:cNvGrpSpPr/>
              <p:nvPr/>
            </p:nvGrpSpPr>
            <p:grpSpPr>
              <a:xfrm>
                <a:off x="1992240" y="2124720"/>
                <a:ext cx="2237400" cy="1997640"/>
                <a:chOff x="1992240" y="2124720"/>
                <a:chExt cx="2237400" cy="199764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1992240" y="2124720"/>
                  <a:ext cx="2237400" cy="1917720"/>
                </a:xfrm>
                <a:prstGeom prst="hexagon">
                  <a:avLst>
                    <a:gd name="adj" fmla="val 29167"/>
                    <a:gd name="vf" fmla="val 115470"/>
                  </a:avLst>
                </a:prstGeom>
                <a:noFill/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3110760" y="2523240"/>
                  <a:ext cx="958680" cy="640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3110760" y="3163680"/>
                  <a:ext cx="0" cy="958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H="1" flipV="1">
                  <a:off x="2151720" y="2523240"/>
                  <a:ext cx="958680" cy="640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3672360" y="1165320"/>
                <a:ext cx="2235960" cy="1997640"/>
                <a:chOff x="3672360" y="1165320"/>
                <a:chExt cx="2235960" cy="199764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3672360" y="1165320"/>
                  <a:ext cx="2235960" cy="1917720"/>
                </a:xfrm>
                <a:prstGeom prst="hexagon">
                  <a:avLst>
                    <a:gd name="adj" fmla="val 29149"/>
                    <a:gd name="vf" fmla="val 115470"/>
                  </a:avLst>
                </a:prstGeom>
                <a:noFill/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flipV="1">
                  <a:off x="4790160" y="1563840"/>
                  <a:ext cx="957960" cy="640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790160" y="2204280"/>
                  <a:ext cx="0" cy="958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 flipV="1">
                  <a:off x="3831840" y="1563840"/>
                  <a:ext cx="957960" cy="640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3672360" y="3084120"/>
                <a:ext cx="2235960" cy="1997640"/>
                <a:chOff x="3672360" y="3084120"/>
                <a:chExt cx="2235960" cy="199764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3672360" y="3084120"/>
                  <a:ext cx="2235960" cy="1917720"/>
                </a:xfrm>
                <a:prstGeom prst="hexagon">
                  <a:avLst>
                    <a:gd name="adj" fmla="val 29149"/>
                    <a:gd name="vf" fmla="val 115470"/>
                  </a:avLst>
                </a:prstGeom>
                <a:noFill/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V="1">
                  <a:off x="4790160" y="3482640"/>
                  <a:ext cx="957960" cy="640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4790160" y="4123080"/>
                  <a:ext cx="0" cy="958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 flipV="1">
                  <a:off x="3831840" y="3482640"/>
                  <a:ext cx="957960" cy="640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8" name=""/>
            <p:cNvGrpSpPr/>
            <p:nvPr/>
          </p:nvGrpSpPr>
          <p:grpSpPr>
            <a:xfrm>
              <a:off x="3188880" y="1675800"/>
              <a:ext cx="3209040" cy="3276360"/>
              <a:chOff x="3188880" y="1675800"/>
              <a:chExt cx="3209040" cy="3276360"/>
            </a:xfrm>
          </p:grpSpPr>
          <p:sp>
            <p:nvSpPr>
              <p:cNvPr id="989" name=""/>
              <p:cNvSpPr/>
              <p:nvPr/>
            </p:nvSpPr>
            <p:spPr>
              <a:xfrm flipH="1">
                <a:off x="3701880" y="1676160"/>
                <a:ext cx="256680" cy="449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702240" y="2125440"/>
                <a:ext cx="321120" cy="51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>
                <a:off x="3188880" y="2639520"/>
                <a:ext cx="834480" cy="57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188880" y="3217680"/>
                <a:ext cx="0" cy="77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188880" y="3988440"/>
                <a:ext cx="57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766320" y="3988440"/>
                <a:ext cx="513360" cy="9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279680" y="4952160"/>
                <a:ext cx="102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V="1">
                <a:off x="5306760" y="3988440"/>
                <a:ext cx="577440" cy="96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884560" y="3988440"/>
                <a:ext cx="51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V="1">
                <a:off x="6397920" y="3217320"/>
                <a:ext cx="0" cy="77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 flipV="1">
                <a:off x="5563080" y="2639160"/>
                <a:ext cx="834120" cy="57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5563440" y="2125440"/>
                <a:ext cx="256320" cy="51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 flipV="1">
                <a:off x="5627520" y="1739880"/>
                <a:ext cx="192240" cy="38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4793040" y="1739880"/>
                <a:ext cx="834120" cy="51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 flipV="1">
                <a:off x="3958920" y="1675800"/>
                <a:ext cx="834480" cy="57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4" name=""/>
            <p:cNvSpPr/>
            <p:nvPr/>
          </p:nvSpPr>
          <p:spPr>
            <a:xfrm>
              <a:off x="4231080" y="2445480"/>
              <a:ext cx="5328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297760" y="2445480"/>
              <a:ext cx="5292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937840" y="3405600"/>
              <a:ext cx="5292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537720" y="3405600"/>
              <a:ext cx="5292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31080" y="4365720"/>
              <a:ext cx="5328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297760" y="4365720"/>
              <a:ext cx="52920" cy="53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764600" y="3458880"/>
              <a:ext cx="53280" cy="5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251240" y="2472120"/>
              <a:ext cx="106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251240" y="4392360"/>
              <a:ext cx="106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3557520" y="2472120"/>
              <a:ext cx="693360" cy="9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5317560" y="3432240"/>
              <a:ext cx="639720" cy="9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17920" y="2472120"/>
              <a:ext cx="639720" cy="9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563280" y="3430800"/>
              <a:ext cx="687600" cy="96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Macro diversity in multicast/broadcast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Proposed Macro Tx Diversity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4422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2 cell group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pace frequency block coding (SFBC) between 2 cell grou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42920" y="1197000"/>
            <a:ext cx="381492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4716360" y="5589720"/>
                <a:ext cx="2735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4716360" y="5877000"/>
                <a:ext cx="32799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23" name=""/>
          <p:cNvGrpSpPr/>
          <p:nvPr/>
        </p:nvGrpSpPr>
        <p:grpSpPr>
          <a:xfrm>
            <a:off x="1042920" y="3068640"/>
            <a:ext cx="2952360" cy="2926440"/>
            <a:chOff x="1042920" y="3068640"/>
            <a:chExt cx="2952360" cy="2926440"/>
          </a:xfrm>
        </p:grpSpPr>
        <p:sp>
          <p:nvSpPr>
            <p:cNvPr id="1024" name=""/>
            <p:cNvSpPr/>
            <p:nvPr/>
          </p:nvSpPr>
          <p:spPr>
            <a:xfrm>
              <a:off x="1770120" y="5626800"/>
              <a:ext cx="16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ell Plan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5" name="" descr=""/>
            <p:cNvPicPr/>
            <p:nvPr/>
          </p:nvPicPr>
          <p:blipFill>
            <a:blip r:embed="rId1"/>
            <a:stretch/>
          </p:blipFill>
          <p:spPr>
            <a:xfrm>
              <a:off x="1042920" y="3068640"/>
              <a:ext cx="2952360" cy="2394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26" name=""/>
          <p:cNvGraphicFramePr/>
          <p:nvPr/>
        </p:nvGraphicFramePr>
        <p:xfrm>
          <a:off x="4248000" y="2421000"/>
          <a:ext cx="4896000" cy="315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48000" y="2421000"/>
                    <a:ext cx="48960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3495600" cy="2581200"/>
          </a:xfrm>
          <a:prstGeom prst="rect">
            <a:avLst/>
          </a:prstGeom>
          <a:ln w="0">
            <a:noFill/>
          </a:ln>
        </p:spPr>
      </p:pic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굴림"/>
              </a:rPr>
              <a:t>Proposed Macro Tx Diversity Method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4422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3 cell group c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 coded packet is divided into the three par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ifferent cell group combinations for SFBC in each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42920" y="1197000"/>
            <a:ext cx="381492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340000" y="5661000"/>
            <a:ext cx="16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ell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3" name=""/>
          <p:cNvGraphicFramePr/>
          <p:nvPr/>
        </p:nvGraphicFramePr>
        <p:xfrm>
          <a:off x="4427640" y="1628640"/>
          <a:ext cx="4895640" cy="490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628640"/>
                    <a:ext cx="489564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Cell Sites with 2 Tx Anten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381492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Conventional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42920" y="1197000"/>
            <a:ext cx="381492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Proposed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8" name=""/>
          <p:cNvGraphicFramePr/>
          <p:nvPr/>
        </p:nvGraphicFramePr>
        <p:xfrm>
          <a:off x="4627440" y="1952640"/>
          <a:ext cx="410688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952640"/>
                    <a:ext cx="410688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0" name=""/>
          <p:cNvGraphicFramePr/>
          <p:nvPr/>
        </p:nvGraphicFramePr>
        <p:xfrm>
          <a:off x="395280" y="2158920"/>
          <a:ext cx="4097520" cy="414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158920"/>
                    <a:ext cx="409752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2" name=""/>
          <p:cNvSpPr/>
          <p:nvPr/>
        </p:nvSpPr>
        <p:spPr>
          <a:xfrm>
            <a:off x="4572000" y="1341360"/>
            <a:ext cx="4175280" cy="504036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Simulation Para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4" name=""/>
          <p:cNvGraphicFramePr/>
          <p:nvPr/>
        </p:nvGraphicFramePr>
        <p:xfrm>
          <a:off x="685800" y="1197000"/>
          <a:ext cx="7772040" cy="4898520"/>
        </p:xfrm>
        <a:graphic>
          <a:graphicData uri="http://schemas.openxmlformats.org/drawingml/2006/table">
            <a:tbl>
              <a:tblPr/>
              <a:tblGrid>
                <a:gridCol w="1465920"/>
                <a:gridCol w="1821960"/>
                <a:gridCol w="4484160"/>
              </a:tblGrid>
              <a:tr h="359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Parame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Carriers 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2 G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Bandwid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5 M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Sampling 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7.68 M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OFDM symbol 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66.66 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OFDM guard inter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16.67 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FFT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# of used subcarr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# of resources / sub-fr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300 subcarriers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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6 OFDM symbo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= 1800 resour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# of pilot resources / sub-fr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150 (300 for 2 antenna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# of data resources / sub-fr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1650 (15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Turbo code (N,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QP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K=1280, N=3300 (30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체"/>
                        </a:rPr>
                        <a:t>Code rate = 0.39 (0.4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Simulation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Three cell config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8" name=""/>
          <p:cNvGraphicFramePr/>
          <p:nvPr/>
        </p:nvGraphicFramePr>
        <p:xfrm>
          <a:off x="1042920" y="2276640"/>
          <a:ext cx="7344000" cy="36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76640"/>
                    <a:ext cx="7344000" cy="36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Cell border performance for single anten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  <p:pic>
        <p:nvPicPr>
          <p:cNvPr id="1052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380120" cy="3278160"/>
          </a:xfrm>
          <a:prstGeom prst="rect">
            <a:avLst/>
          </a:prstGeom>
          <a:ln w="0">
            <a:noFill/>
          </a:ln>
        </p:spPr>
      </p:pic>
      <p:pic>
        <p:nvPicPr>
          <p:cNvPr id="1053" name="" descr=""/>
          <p:cNvPicPr/>
          <p:nvPr/>
        </p:nvPicPr>
        <p:blipFill>
          <a:blip r:embed="rId2"/>
          <a:stretch/>
        </p:blipFill>
        <p:spPr>
          <a:xfrm>
            <a:off x="4572000" y="1916280"/>
            <a:ext cx="4379760" cy="3278160"/>
          </a:xfrm>
          <a:prstGeom prst="rect">
            <a:avLst/>
          </a:prstGeom>
          <a:ln w="0">
            <a:noFill/>
          </a:ln>
        </p:spPr>
      </p:pic>
      <p:sp>
        <p:nvSpPr>
          <p:cNvPr id="1054" name=""/>
          <p:cNvSpPr/>
          <p:nvPr/>
        </p:nvSpPr>
        <p:spPr>
          <a:xfrm>
            <a:off x="1800000" y="5300640"/>
            <a:ext cx="1227600" cy="2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ed-A 3km/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109920" y="5299200"/>
            <a:ext cx="1340280" cy="2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Veh-A 60km/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Cell interior performance for single ante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  <p:pic>
        <p:nvPicPr>
          <p:cNvPr id="1058" name="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4380120" cy="3278160"/>
          </a:xfrm>
          <a:prstGeom prst="rect">
            <a:avLst/>
          </a:prstGeom>
          <a:ln w="0">
            <a:noFill/>
          </a:ln>
        </p:spPr>
      </p:pic>
      <p:pic>
        <p:nvPicPr>
          <p:cNvPr id="1059" name="" descr=""/>
          <p:cNvPicPr/>
          <p:nvPr/>
        </p:nvPicPr>
        <p:blipFill>
          <a:blip r:embed="rId2"/>
          <a:stretch/>
        </p:blipFill>
        <p:spPr>
          <a:xfrm>
            <a:off x="4513320" y="1989000"/>
            <a:ext cx="4379760" cy="3278160"/>
          </a:xfrm>
          <a:prstGeom prst="rect">
            <a:avLst/>
          </a:prstGeom>
          <a:ln w="0">
            <a:noFill/>
          </a:ln>
        </p:spPr>
      </p:pic>
      <p:sp>
        <p:nvSpPr>
          <p:cNvPr id="1060" name=""/>
          <p:cNvSpPr/>
          <p:nvPr/>
        </p:nvSpPr>
        <p:spPr>
          <a:xfrm>
            <a:off x="1800000" y="5300640"/>
            <a:ext cx="1227600" cy="2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ed-A 3km/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109920" y="5299200"/>
            <a:ext cx="1340280" cy="2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Veh-A 60km/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Downlink OFDM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197000"/>
            <a:ext cx="583092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calable Channel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92000" y="2106720"/>
            <a:ext cx="843768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Cell border performance for two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  <p:pic>
        <p:nvPicPr>
          <p:cNvPr id="106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379760" cy="3278160"/>
          </a:xfrm>
          <a:prstGeom prst="rect">
            <a:avLst/>
          </a:prstGeom>
          <a:ln w="0">
            <a:noFill/>
          </a:ln>
        </p:spPr>
      </p:pic>
      <p:pic>
        <p:nvPicPr>
          <p:cNvPr id="1065" name="" descr=""/>
          <p:cNvPicPr/>
          <p:nvPr/>
        </p:nvPicPr>
        <p:blipFill>
          <a:blip r:embed="rId2"/>
          <a:stretch/>
        </p:blipFill>
        <p:spPr>
          <a:xfrm>
            <a:off x="4513320" y="1989000"/>
            <a:ext cx="4379760" cy="3278160"/>
          </a:xfrm>
          <a:prstGeom prst="rect">
            <a:avLst/>
          </a:prstGeom>
          <a:ln w="0">
            <a:noFill/>
          </a:ln>
        </p:spPr>
      </p:pic>
      <p:sp>
        <p:nvSpPr>
          <p:cNvPr id="1066" name=""/>
          <p:cNvSpPr/>
          <p:nvPr/>
        </p:nvSpPr>
        <p:spPr>
          <a:xfrm>
            <a:off x="1800000" y="5300640"/>
            <a:ext cx="1227600" cy="2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ed-A 3km/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09920" y="5299200"/>
            <a:ext cx="1340280" cy="2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Veh-A 60km/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Cell interior performance for two anten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379760" cy="3278160"/>
          </a:xfrm>
          <a:prstGeom prst="rect">
            <a:avLst/>
          </a:prstGeom>
          <a:ln w="0">
            <a:noFill/>
          </a:ln>
        </p:spPr>
      </p:pic>
      <p:pic>
        <p:nvPicPr>
          <p:cNvPr id="1071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379760" cy="3278160"/>
          </a:xfrm>
          <a:prstGeom prst="rect">
            <a:avLst/>
          </a:prstGeom>
          <a:ln w="0">
            <a:noFill/>
          </a:ln>
        </p:spPr>
      </p:pic>
      <p:sp>
        <p:nvSpPr>
          <p:cNvPr id="1072" name=""/>
          <p:cNvSpPr/>
          <p:nvPr/>
        </p:nvSpPr>
        <p:spPr>
          <a:xfrm>
            <a:off x="1800000" y="5300640"/>
            <a:ext cx="1227600" cy="2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ed-A 3km/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109920" y="5299200"/>
            <a:ext cx="1340280" cy="2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Veh-A 60km/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굴림"/>
              </a:rPr>
              <a:t>Fram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18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Frame duration : 20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ubframe (DTP) duration : 0.5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artition of resources : 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~ 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굴림"/>
              </a:rPr>
              <a:t>7~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are further divided into several resource subspaces (R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257480" y="3205080"/>
          <a:ext cx="6534000" cy="9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7480" y="3205080"/>
                    <a:ext cx="653400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0" y="20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324080" y="4233960"/>
          <a:ext cx="6581520" cy="21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24080" y="4233960"/>
                    <a:ext cx="6581520" cy="21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7T14:29:08Z</dcterms:created>
  <dc:creator> DTL/SSR</dc:creator>
  <dc:description/>
  <dc:language>en-US</dc:language>
  <cp:lastModifiedBy>Byung Jang Jeong</cp:lastModifiedBy>
  <dcterms:modified xsi:type="dcterms:W3CDTF">2005-11-15T16:04:59Z</dcterms:modified>
  <cp:revision>68</cp:revision>
  <dc:subject/>
  <dc:title>Présentation PowerPoint</dc:title>
</cp:coreProperties>
</file>