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27A60A-FB5C-4425-9215-934248F1A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10A0C-5FB0-4771-9210-43C8BB888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E5A4F-61E4-4565-8A8C-DE7D8F69E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4B4D5-C499-4905-8715-E4EC143CD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1730C-6914-4448-9E0F-F52689B64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3E38B-CD68-464D-916B-DFABAE663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21565-B6EE-4D6F-A628-124C4AEFF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8D8DD-E246-441E-8C00-02067D0C8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71A9A-F4E6-4B20-9CD2-5EA614B33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5B106-0BED-4EA2-B754-904ACD660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8093E-ECE7-43E2-836B-E3660A10B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B0017-A73F-40D5-AB0E-A187A070A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8175B-CE41-4848-992C-473E3C430B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http://standards.ieee.org/guides/opman/sect6.html#6.3"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Hassan.yaghoobi@intel.com" TargetMode="External"/><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228600" y="609480"/>
          <a:ext cx="8686800" cy="5635800"/>
        </p:xfrm>
        <a:graphic>
          <a:graphicData uri="http://schemas.openxmlformats.org/drawingml/2006/table">
            <a:tbl>
              <a:tblPr/>
              <a:tblGrid>
                <a:gridCol w="1131840"/>
                <a:gridCol w="3241800"/>
                <a:gridCol w="4313160"/>
              </a:tblGrid>
              <a:tr h="45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明朝"/>
                        </a:rPr>
                        <a:t>Projec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明朝"/>
                        </a:rPr>
                        <a:t>IEEE 802.20 Working Group on Mobile Broadband Wireless Acces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明朝"/>
                        </a:rPr>
                        <a:t>&lt;</a:t>
                      </a:r>
                      <a:r>
                        <a:rPr b="0" lang="en-US" sz="1200" spc="-1" strike="noStrike" u="sng">
                          <a:solidFill>
                            <a:srgbClr val="009999"/>
                          </a:solidFill>
                          <a:uFillTx/>
                          <a:latin typeface="Arial"/>
                          <a:ea typeface="ＭＳ 明朝"/>
                          <a:hlinkClick r:id="rId1"/>
                        </a:rPr>
                        <a:t>http://grouper.ieee.org/groups/802/20/</a:t>
                      </a:r>
                      <a:r>
                        <a:rPr b="0" lang="en-US" sz="1200" spc="-1" strike="noStrike" u="sng">
                          <a:solidFill>
                            <a:srgbClr val="000000"/>
                          </a:solidFill>
                          <a:uFillTx/>
                          <a:latin typeface="Arial"/>
                          <a:ea typeface="ＭＳ 明朝"/>
                        </a:rPr>
                        <a:t>&g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明朝"/>
                        </a:rPr>
                        <a:t>Titl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明朝"/>
                        </a:rPr>
                        <a:t>Lack of completeness of QFDD and QTDD proposals based on documented Technology selection proces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明朝"/>
                        </a:rPr>
                        <a:t>Date Submitted</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明朝"/>
                        </a:rPr>
                        <a:t>2005-NOV-16</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00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明朝"/>
                        </a:rPr>
                        <a:t>Source(s)</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明朝"/>
                        </a:rPr>
                        <a:t>Hassan Yaghoobi</a:t>
                      </a:r>
                      <a:r>
                        <a:rPr b="0" lang="en-US" sz="1200" spc="-1" strike="noStrike">
                          <a:solidFill>
                            <a:srgbClr val="000000"/>
                          </a:solidFill>
                          <a:latin typeface="Arial"/>
                          <a:ea typeface="ＭＳ 明朝"/>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200 Mission College Blv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nta Clara CA 9505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ＭＳ 明朝"/>
                        </a:rPr>
                        <a:t>Voice: +1-408-765190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ＭＳ 明朝"/>
                        </a:rPr>
                        <a:t>Email: hassan.yaghoobi@intel.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2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明朝"/>
                        </a:rPr>
                        <a:t>R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明朝"/>
                        </a:rPr>
                        <a:t>Response related to MBWA Call for Proposal</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3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明朝"/>
                        </a:rPr>
                        <a:t>Abstrac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明朝"/>
                        </a:rPr>
                        <a:t>This document presents issues with proposals QFDD and QTDD made to this meeting.</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明朝"/>
                        </a:rPr>
                        <a:t>Purpos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明朝"/>
                        </a:rPr>
                        <a:t>To show  the Working Group that the QFDD and QTDD are incomplete and are not in compliance with the Technology Selection Proces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明朝"/>
                        </a:rPr>
                        <a:t>Notic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明朝"/>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5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明朝"/>
                        </a:rPr>
                        <a:t>Release</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明朝"/>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明朝"/>
                        </a:rPr>
                        <a:t>Patent Policy</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明朝"/>
                        </a:rPr>
                        <a:t>The contributor is familiar with IEEE patent policy, as outlined in </a:t>
                      </a:r>
                      <a:r>
                        <a:rPr b="0" lang="en-US" sz="1000" spc="-1" strike="noStrike" u="sng">
                          <a:solidFill>
                            <a:srgbClr val="009999"/>
                          </a:solidFill>
                          <a:uFillTx/>
                          <a:latin typeface="Arial"/>
                          <a:ea typeface="ＭＳ 明朝"/>
                          <a:hlinkClick r:id="rId2"/>
                        </a:rPr>
                        <a:t>Section 6.3 of the IEEE-SA Standards Board Operations Manual</a:t>
                      </a:r>
                      <a:r>
                        <a:rPr b="0" lang="en-US" sz="1000" spc="-1" strike="noStrike">
                          <a:solidFill>
                            <a:srgbClr val="000099"/>
                          </a:solidFill>
                          <a:latin typeface="Arial"/>
                          <a:ea typeface="ＭＳ 明朝"/>
                        </a:rPr>
                        <a:t> </a:t>
                      </a:r>
                      <a:r>
                        <a:rPr b="0" lang="en-US" sz="1000" spc="-1" strike="noStrike">
                          <a:solidFill>
                            <a:srgbClr val="000000"/>
                          </a:solidFill>
                          <a:latin typeface="Arial"/>
                          <a:ea typeface="ＭＳ 明朝"/>
                        </a:rPr>
                        <a:t>&lt;</a:t>
                      </a:r>
                      <a:r>
                        <a:rPr b="0" lang="en-US" sz="1000" spc="-1" strike="noStrike" u="sng">
                          <a:solidFill>
                            <a:srgbClr val="009999"/>
                          </a:solidFill>
                          <a:uFillTx/>
                          <a:latin typeface="Arial"/>
                          <a:ea typeface="ＭＳ 明朝"/>
                          <a:hlinkClick r:id="rId3"/>
                        </a:rPr>
                        <a:t>http://standards.ieee.org/guides/opman/sect6.html#6.3</a:t>
                      </a:r>
                      <a:r>
                        <a:rPr b="0" lang="en-US" sz="1000" spc="-1" strike="noStrike">
                          <a:solidFill>
                            <a:srgbClr val="000000"/>
                          </a:solidFill>
                          <a:latin typeface="Arial"/>
                          <a:ea typeface="ＭＳ 明朝"/>
                        </a:rPr>
                        <a:t>&gt; and in </a:t>
                      </a:r>
                      <a:r>
                        <a:rPr b="0" i="1" lang="en-US" sz="1000" spc="-1" strike="noStrike">
                          <a:solidFill>
                            <a:srgbClr val="000000"/>
                          </a:solidFill>
                          <a:latin typeface="Arial"/>
                          <a:ea typeface="ＭＳ 明朝"/>
                        </a:rPr>
                        <a:t>Understanding Patent Issues During IEEE Standards Development</a:t>
                      </a:r>
                      <a:r>
                        <a:rPr b="0" lang="en-US" sz="1000" spc="-1" strike="noStrike">
                          <a:solidFill>
                            <a:srgbClr val="000000"/>
                          </a:solidFill>
                          <a:latin typeface="Arial"/>
                          <a:ea typeface="ＭＳ 明朝"/>
                        </a:rPr>
                        <a:t> &lt;</a:t>
                      </a:r>
                      <a:r>
                        <a:rPr b="0" lang="en-US" sz="1000" spc="-1" strike="noStrike" u="sng">
                          <a:solidFill>
                            <a:srgbClr val="009999"/>
                          </a:solidFill>
                          <a:uFillTx/>
                          <a:latin typeface="Arial"/>
                          <a:ea typeface="ＭＳ 明朝"/>
                          <a:hlinkClick r:id="rId4"/>
                        </a:rPr>
                        <a:t>http://</a:t>
                      </a:r>
                      <a:r>
                        <a:rPr b="0" lang="en-US" sz="1000" spc="-1" strike="noStrike" u="sng">
                          <a:solidFill>
                            <a:srgbClr val="009999"/>
                          </a:solidFill>
                          <a:uFillTx/>
                          <a:latin typeface="Arial"/>
                          <a:ea typeface="ＭＳ 明朝"/>
                          <a:hlinkClick r:id="rId5"/>
                        </a:rPr>
                        <a:t>standards.ieee.org/board/pat/guide.html</a:t>
                      </a:r>
                      <a:r>
                        <a:rPr b="0" lang="en-US" sz="1000" spc="-1" strike="noStrike">
                          <a:solidFill>
                            <a:srgbClr val="000000"/>
                          </a:solidFill>
                          <a:latin typeface="Arial"/>
                          <a:ea typeface="ＭＳ 明朝"/>
                        </a:rPr>
                        <a:t>&gt;.</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85800"/>
            <a:ext cx="7772400" cy="291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ck of completeness of QFDD and QTDD proposals based on documented Technology selection process</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san Yaghoobi</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 Corp.</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assan.yaghoobi@intel.co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mber 16,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 1: QTDD and QFDD Proposals</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FDD and QTDD Performance Report 2 and corresponding presentations documents  C802.20-05/86-89 uploaded after the required deadline. Also Report 1 substantially incomplete without the required simulation results for120km/hr Vehicular B channel mode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oes not comply with the Technology Selection Process since the proper evaluation is not possible. Therefore the proposals have to be treated as incomple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est to WG: As the Report 2 was not available before the deadline, please provide adequate time to the group to study and evaluate it before rushing to technology selection in this me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 2: QTDD and QFDD proposal</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characteristic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 </a:t>
            </a:r>
            <a:r>
              <a:rPr b="1" lang="de-DE" sz="2000" spc="-1" strike="noStrike">
                <a:solidFill>
                  <a:srgbClr val="000000"/>
                </a:solidFill>
                <a:latin typeface="Arial"/>
              </a:rPr>
              <a:t>IEEE 802.20- PD-09</a:t>
            </a:r>
            <a:r>
              <a:rPr b="0" lang="en-US" sz="2000" spc="-1" strike="noStrike">
                <a:solidFill>
                  <a:srgbClr val="000000"/>
                </a:solidFill>
                <a:latin typeface="Arial"/>
              </a:rPr>
              <a:t> “</a:t>
            </a:r>
            <a:r>
              <a:rPr b="0" lang="en-US" sz="2000" spc="-1" strike="noStrike">
                <a:solidFill>
                  <a:srgbClr val="ff0000"/>
                </a:solidFill>
                <a:latin typeface="Arial"/>
              </a:rPr>
              <a:t>A proposal shall include detailed information regarding the amplifier/s used in the simulation.  The information shall be sufficiently detailed such that the claimed simulation results can be verified by others and that the practicality of the proposed amplifier arrangement is justified</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Per IEEE 802.20 PD-09, </a:t>
            </a:r>
            <a:r>
              <a:rPr b="0" lang="de-DE" sz="2000" spc="-1" strike="noStrike">
                <a:solidFill>
                  <a:srgbClr val="000000"/>
                </a:solidFill>
                <a:latin typeface="Arial"/>
              </a:rPr>
              <a:t>a verifiable amplifier modeling is required while no simlation results presen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violate the completeness criteria for technology selection</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Guard Band ton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ems to be a system parameter in the proposal. There is not enough of clarification on requirements for MS units to guarantee interoperability in 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 3: QTDD and QFDD Proposal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per IEEE 802.20-PD-06r1: The following subjects and/or simulations are missing in the proposal and as a result the proposals are not complete</a:t>
            </a:r>
            <a:endParaRPr b="0" lang="en-US" sz="18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ction 3.1 and 4.2.2 “The 802.20 system shall support non-line of sight </a:t>
            </a:r>
            <a:r>
              <a:rPr b="0" lang="en-US" sz="1600" spc="-1" strike="noStrike">
                <a:solidFill>
                  <a:srgbClr val="ff0000"/>
                </a:solidFill>
                <a:latin typeface="Arial"/>
              </a:rPr>
              <a:t>outdoor to indoor</a:t>
            </a:r>
            <a:r>
              <a:rPr b="0" lang="en-US" sz="1600" spc="-1" strike="noStrike">
                <a:solidFill>
                  <a:srgbClr val="000000"/>
                </a:solidFill>
                <a:latin typeface="Arial"/>
              </a:rPr>
              <a:t> scenarios and indoor coverage.” “The system shall work in dense urban, urban, suburban, rural, outdoor-indoor, pedestrian, and vehicular environments and the relevant channel models shall be applicable.</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5.2.5.2 Radio Transmitter: </a:t>
            </a:r>
            <a:r>
              <a:rPr b="0" lang="en-US" sz="1600" spc="-1" strike="noStrike">
                <a:solidFill>
                  <a:srgbClr val="000000"/>
                </a:solidFill>
                <a:latin typeface="Arial"/>
              </a:rPr>
              <a:t>The transmitter performance specifications shall include, but not be limited to, occupied channel bandwidth, required channel spacing, maximum and average transmit power, </a:t>
            </a:r>
            <a:r>
              <a:rPr b="1" lang="en-US" sz="1600" spc="-1" strike="noStrike">
                <a:solidFill>
                  <a:srgbClr val="000000"/>
                </a:solidFill>
                <a:latin typeface="Arial"/>
              </a:rPr>
              <a:t>EIRP, </a:t>
            </a:r>
            <a:r>
              <a:rPr b="0" lang="en-US" sz="1600" spc="-1" strike="noStrike">
                <a:solidFill>
                  <a:srgbClr val="ff0000"/>
                </a:solidFill>
                <a:latin typeface="Arial"/>
              </a:rPr>
              <a:t>modulation characteristics, intermodulation distortion (IMD) limits, spurious emission limits, frequency accuracy and stability under the range of specified operating environmental conditions.</a:t>
            </a:r>
            <a:endParaRPr b="0" lang="en-US" sz="1600" spc="-1" strike="noStrike">
              <a:solidFill>
                <a:srgbClr val="000000"/>
              </a:solidFill>
              <a:latin typeface="Arial"/>
            </a:endParaRPr>
          </a:p>
          <a:p>
            <a:pPr lvl="1" marL="914400" indent="-4572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tion 5.2.5.3 Radio Receiver: </a:t>
            </a:r>
            <a:r>
              <a:rPr b="0" lang="en-US" sz="1600" spc="-1" strike="noStrike">
                <a:solidFill>
                  <a:srgbClr val="000000"/>
                </a:solidFill>
                <a:latin typeface="Arial"/>
              </a:rPr>
              <a:t>The receiver performance specifications will include, but not be limited to, channel bandwidth and spacing, sensitivity at </a:t>
            </a:r>
            <a:r>
              <a:rPr b="0" lang="en-US" sz="1600" spc="-1" strike="noStrike">
                <a:solidFill>
                  <a:srgbClr val="ff0000"/>
                </a:solidFill>
                <a:latin typeface="Arial"/>
              </a:rPr>
              <a:t>specified SNR, adjacent channel selectivity, alternate channel blocking, spurious emissions, spurious response, frequency accuracy and stability under the range of specified operating environmental conditions.</a:t>
            </a:r>
            <a:endParaRPr b="0" lang="en-US" sz="1600" spc="-1" strike="noStrike">
              <a:solidFill>
                <a:srgbClr val="000000"/>
              </a:solidFill>
              <a:latin typeface="Arial"/>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 3: QTDD and QFDD Proposal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per PD-06r1: The following subjects and/or simulations are missing in the proposal and as a result the proposals are not complete</a:t>
            </a:r>
            <a:endParaRPr b="0" lang="en-US" sz="2800" spc="-1" strike="noStrike">
              <a:solidFill>
                <a:srgbClr val="000000"/>
              </a:solidFill>
              <a:latin typeface="Arial"/>
            </a:endParaRPr>
          </a:p>
          <a:p>
            <a:pPr lvl="1" marL="9144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tion 4.5.2: OA&amp;M Support: </a:t>
            </a:r>
            <a:r>
              <a:rPr b="0" lang="en-US" sz="2400" spc="-1" strike="noStrike">
                <a:solidFill>
                  <a:srgbClr val="000000"/>
                </a:solidFill>
                <a:latin typeface="Arial"/>
              </a:rPr>
              <a:t>The AI shall provide a mechanism to enable the provisioning and collection of metrics, so that the network operator can effectively control, monitor, and tune the performance of the 802.20 air-interface. Provisional parameters, performance metrics and other OA&amp;M values shall be made available through a standards compliant MI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6T15:58:31Z</dcterms:created>
  <dc:creator>hyaghoob</dc:creator>
  <dc:description/>
  <dc:language>en-US</dc:language>
  <cp:lastModifiedBy>jpputhen</cp:lastModifiedBy>
  <dcterms:modified xsi:type="dcterms:W3CDTF">2005-11-16T17:15:37Z</dcterms:modified>
  <cp:revision>16</cp:revision>
  <dc:subject/>
  <dc:title>Slide 1</dc:title>
</cp:coreProperties>
</file>