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A01D3C4-494F-48E5-BAEA-A1D6EA4EC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3E4839-A116-4A2A-A4B2-8CCAAEEA3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983328-0A98-4B61-85DB-C90FFF3D5A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E4F2EA-38C5-498E-AD9F-2F077BD021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70981B-7981-4F11-BBFC-D2527E775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B683F-849B-462B-A273-CA67CF421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865B3-EEDC-4025-A450-0FCF3E4A5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7EC4A-3899-4C2F-B7BC-AC665A5BA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4989D-861F-4085-BD8C-1926E6A91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2A675-FC01-4811-A21A-DCF9C5516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8EECD-E8B7-4A2C-BD9C-962D8E126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7CA5F9-960A-4E05-A73A-BE167CDBC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D1608-3D66-438E-9FF4-06A7CF9D4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CC7FA-2B94-46C3-BCFA-51D39F41F8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596E8-2635-413E-8546-3ACF453DF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B6F72-0307-453A-AF1E-616E59C0A4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FE720D-1639-47C7-961F-CE7B4622A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DB57B3-88BB-4A95-A846-16144F84D6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841B33-F28E-4F5A-9A8D-60E6BB2E8D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CA02CB-1D08-4016-A34F-CEE130F26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7E94C-6DD5-4AE3-9C79-0F92527ABB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099D9-84DB-43B4-9101-01EE07E665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59EDAA-8254-49B6-BF9A-0E0E5C89A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1DCF8A-BD22-4ABB-AF61-AABB9FFB8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D02E3-C842-49EE-B327-FEE29A575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AA4BA-771D-4AED-8F63-264C556DE5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0726C-CC08-47DD-BA05-3819DA8488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8E4763-E612-4F02-AA68-4D2ED2309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0AE147-563A-400E-8549-E87E001C6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8FB8C-3827-4429-9EFC-CD98FFDBE5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43E1A-29C7-4240-A619-6FB84ED19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F4AA60-A947-4E47-A1B4-EADA7CE3F4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187FA8-E233-4265-ADD4-7D6DF220B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47718C-A60A-4CF3-B3C5-957EFCB852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7F7F01-E76C-4331-B557-CB4BB26D7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A6AEF3-9D65-49C4-AC99-557EF0AA475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C877-3334-4545-9883-32552D9017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DF19-D4F7-46BF-994C-FDB52EB91E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52C8-BD57-402F-9F9C-5C274FB9A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80880" y="0"/>
          <a:ext cx="8242560" cy="6832440"/>
        </p:xfrm>
        <a:graphic>
          <a:graphicData uri="http://schemas.openxmlformats.org/presentationml/2006/ole">
            <p:oleObj progId="Word.Document.12" r:id="rId1" spid="">
              <p:embed/>
              <p:pic>
                <p:nvPicPr>
                  <p:cNvPr id="147" name="" descr=""/>
                  <p:cNvPicPr/>
                  <p:nvPr/>
                </p:nvPicPr>
                <p:blipFill>
                  <a:blip r:embed="rId2"/>
                  <a:stretch/>
                </p:blipFill>
                <p:spPr>
                  <a:xfrm>
                    <a:off x="380880" y="0"/>
                    <a:ext cx="8242560" cy="68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2 Simulation Methodology</a:t>
            </a:r>
            <a:endParaRPr b="0" lang="en-US" sz="2600" spc="-1" strike="noStrike">
              <a:solidFill>
                <a:srgbClr val="000000"/>
              </a:solidFill>
              <a:latin typeface="Arial"/>
            </a:endParaRPr>
          </a:p>
        </p:txBody>
      </p:sp>
      <p:sp>
        <p:nvSpPr>
          <p:cNvPr id="165"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ssues addressed by Contribution 04/85r1:</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flow</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mix</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link simulation model </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errors</a:t>
            </a:r>
            <a:endParaRPr b="0" lang="en-US" sz="16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modeling </a:t>
            </a:r>
            <a:r>
              <a:rPr b="0" lang="en-US" sz="1800" spc="-1" strike="noStrike">
                <a:solidFill>
                  <a:srgbClr val="006600"/>
                </a:solidFill>
                <a:latin typeface="Arial"/>
              </a:rPr>
              <a:t>[05/08, 05/10r1]</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performance metrics </a:t>
            </a:r>
            <a:r>
              <a:rPr b="0" lang="en-US" sz="1800" spc="-1" strike="noStrike">
                <a:solidFill>
                  <a:srgbClr val="006600"/>
                </a:solidFill>
                <a:latin typeface="Arial"/>
              </a:rPr>
              <a:t>[05/10r1]</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signaling model </a:t>
            </a:r>
            <a:r>
              <a:rPr b="0" lang="en-US" sz="1800" spc="-1" strike="noStrike">
                <a:solidFill>
                  <a:srgbClr val="006600"/>
                </a:solidFill>
                <a:latin typeface="Arial"/>
              </a:rPr>
              <a:t>[05/10r1]</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en issues as discussed previously:</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ffic models</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oIP </a:t>
            </a:r>
            <a:r>
              <a:rPr b="0" lang="en-US" sz="1600" spc="-1" strike="noStrike">
                <a:solidFill>
                  <a:srgbClr val="006600"/>
                </a:solidFill>
                <a:latin typeface="Arial"/>
                <a:ea typeface="Times New Roman"/>
              </a:rPr>
              <a:t>[04/12, 04/37, 05/05]</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rnet Gaming </a:t>
            </a:r>
            <a:r>
              <a:rPr b="0" lang="en-US" sz="1600" spc="-1" strike="noStrike">
                <a:solidFill>
                  <a:srgbClr val="006600"/>
                </a:solidFill>
                <a:latin typeface="Arial"/>
                <a:ea typeface="Times New Roman"/>
              </a:rPr>
              <a:t>[04/86, 05/06]</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ideo Streaming data rate </a:t>
            </a:r>
            <a:r>
              <a:rPr b="0" lang="en-US" sz="1600" spc="-1" strike="noStrike">
                <a:solidFill>
                  <a:srgbClr val="006600"/>
                </a:solidFill>
                <a:latin typeface="Arial"/>
                <a:ea typeface="Times New Roman"/>
              </a:rPr>
              <a:t>[04/88, 05/11]</a:t>
            </a:r>
            <a:endParaRPr b="0" lang="en-US" sz="16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model mix</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k Budget</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irness/QoS criteria for various applications </a:t>
            </a:r>
            <a:r>
              <a:rPr b="0" lang="en-US" sz="1800" spc="-1" strike="noStrike">
                <a:solidFill>
                  <a:srgbClr val="006600"/>
                </a:solidFill>
                <a:latin typeface="Arial"/>
                <a:ea typeface="Times New Roman"/>
              </a:rPr>
              <a:t>[VoIP: 05/05]</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F2E8CF79-8FF3-4242-96A3-8D84E85C30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ed Future Conference Call Schedule</a:t>
            </a:r>
            <a:endParaRPr b="0" lang="en-US" sz="2600" spc="-1" strike="noStrike">
              <a:solidFill>
                <a:srgbClr val="000000"/>
              </a:solidFill>
              <a:latin typeface="Arial"/>
            </a:endParaRPr>
          </a:p>
        </p:txBody>
      </p:sp>
      <p:sp>
        <p:nvSpPr>
          <p:cNvPr id="167"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Times New Roman"/>
              </a:rPr>
              <a:t>Tuesday, February 8, 2005, 4-6 pm E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Times New Roman"/>
              </a:rPr>
              <a:t>Tuesday, February 22, 2005, 4-6 pm E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Times New Roman"/>
              </a:rPr>
              <a:t>Tuesday, March 8, 2005, 4-6 pm E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4DE9731B-F6B6-45CE-A690-052D88DFAB3B}"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Discussed in Conference Call - Dec 7</a:t>
            </a:r>
            <a:endParaRPr b="0" lang="en-US" sz="2600" spc="-1" strike="noStrike">
              <a:solidFill>
                <a:srgbClr val="000000"/>
              </a:solidFill>
              <a:latin typeface="Arial"/>
            </a:endParaRPr>
          </a:p>
        </p:txBody>
      </p:sp>
      <p:sp>
        <p:nvSpPr>
          <p:cNvPr id="149" name="PlaceHolder 2"/>
          <p:cNvSpPr>
            <a:spLocks noGrp="1"/>
          </p:cNvSpPr>
          <p:nvPr>
            <p:ph/>
          </p:nvPr>
        </p:nvSpPr>
        <p:spPr>
          <a:xfrm>
            <a:off x="304560" y="1219320"/>
            <a:ext cx="8458200" cy="5410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list of open issu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Criteria Status Report from the Plenary updated </a:t>
            </a:r>
            <a:endParaRPr b="0" lang="en-US" sz="18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clude comments discussed in the conference call (CC)</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ssociate contributions discussed in the Plenary with the corresponding open issues</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status report posted in the </a:t>
            </a:r>
            <a:r>
              <a:rPr b="0" lang="en-US" sz="1800" spc="-1" strike="noStrike" u="sng">
                <a:solidFill>
                  <a:srgbClr val="000000"/>
                </a:solidFill>
                <a:uFillTx/>
                <a:latin typeface="Arial"/>
              </a:rPr>
              <a:t>Document Drop Box as (04/80r1)</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Contribution 04/88 that addressed:</a:t>
            </a:r>
            <a:endParaRPr b="0" lang="en-US" sz="18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3.2: Performance metrics </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4.3.8: Video source coding rate – Dan Gal volunteered to further research on the issue </a:t>
            </a:r>
            <a:endParaRPr b="0"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plans for resolving the open issues before January's Interim meeting</a:t>
            </a:r>
            <a:endParaRPr b="0" lang="en-US" sz="18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 21 CC: Discuss contribution 04/89 and resolve open issues as listed in 04/80r1 </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11 CC: Discuss gaming model contribution (04/86) and any other traffic models as available</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B06EEF5D-00D9-46DA-8BC4-B4C2D52179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Discussed in Conference Call - Dec 21</a:t>
            </a:r>
            <a:endParaRPr b="0" lang="en-US" sz="2600" spc="-1" strike="noStrike">
              <a:solidFill>
                <a:srgbClr val="000000"/>
              </a:solidFill>
              <a:latin typeface="Arial"/>
            </a:endParaRPr>
          </a:p>
        </p:txBody>
      </p:sp>
      <p:sp>
        <p:nvSpPr>
          <p:cNvPr id="15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contribution 04/89 on noise model text</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by David Huo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objective and how the model affect the current evaluation methodology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updated (04/89r1) to clarify the effects on maximum achievable system C/I</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contribution 04/83r1 on system calibration</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 on shadow fading standard deviation clarified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ser locations suggested for calibration – contribution invited for further detail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updated (04/83r2) to clarify and correct typos on the assumption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2BFD4A88-D33D-482A-B9F9-DD00098801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Discussed in Conference Call – Jan 11, 05</a:t>
            </a:r>
            <a:endParaRPr b="0" lang="en-US" sz="2600" spc="-1" strike="noStrike">
              <a:solidFill>
                <a:srgbClr val="000000"/>
              </a:solidFill>
              <a:latin typeface="Arial"/>
            </a:endParaRPr>
          </a:p>
        </p:txBody>
      </p:sp>
      <p:sp>
        <p:nvSpPr>
          <p:cNvPr id="15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gaming traffic model contribution (04/86)</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by Jim Tomcik</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s between 3GPP/3GPP2 Internet gaming models discussed</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PP2 model based on Farber’s models for First Person Shooting game type</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s of 3GPP model, and differences between forward and reverse links to be further verified</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updates on gaming model to be discussed in Interim meeting</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video source coding rate – email message on the reflector </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by Dan Gal</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 of ITU audio/video source coding rate standard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n the multimedia source coding requirements in 2G/3G standard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etails to be discussed in Interim meeting (05/11)</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63C23F0F-5C56-42A2-A31E-013687BEB4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en Issues in Traffic Models</a:t>
            </a:r>
            <a:endParaRPr b="0" lang="en-US" sz="2600" spc="-1" strike="noStrike">
              <a:solidFill>
                <a:srgbClr val="000000"/>
              </a:solidFill>
              <a:latin typeface="Arial"/>
            </a:endParaRPr>
          </a:p>
        </p:txBody>
      </p:sp>
      <p:sp>
        <p:nvSpPr>
          <p:cNvPr id="155"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models</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P model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contributions: 04/12, 04/37, </a:t>
            </a:r>
            <a:r>
              <a:rPr b="0" lang="en-US" sz="1400" spc="-1" strike="noStrike">
                <a:solidFill>
                  <a:srgbClr val="006600"/>
                </a:solidFill>
                <a:latin typeface="Arial"/>
              </a:rPr>
              <a:t>05/05</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specific model not available</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gaming model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bution 04/86, </a:t>
            </a:r>
            <a:r>
              <a:rPr b="0" lang="en-US" sz="1400" spc="-1" strike="noStrike">
                <a:solidFill>
                  <a:srgbClr val="006600"/>
                </a:solidFill>
                <a:latin typeface="Arial"/>
              </a:rPr>
              <a:t>05/06</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contributions expected in January Interim meeting</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determine the best option </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streaming model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bution 04/88, </a:t>
            </a:r>
            <a:r>
              <a:rPr b="0" lang="en-US" sz="1400" spc="-1" strike="noStrike">
                <a:solidFill>
                  <a:srgbClr val="006600"/>
                </a:solidFill>
                <a:latin typeface="Arial"/>
              </a:rPr>
              <a:t>05/11</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new contributions expected in January Interim meeting</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select an appropriate source data rate for evaluation</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ffic model mix</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bution 04/85r1</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determine the percentage mix for simulating the desired traffic models as listed in the phase approach table </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184EF450-F788-475F-8B32-7CB871563A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457200"/>
            <a:ext cx="8763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en Issues in Evaluation Criteria Document V.12</a:t>
            </a:r>
            <a:endParaRPr b="0" lang="en-US" sz="2600" spc="-1" strike="noStrike">
              <a:solidFill>
                <a:srgbClr val="000000"/>
              </a:solidFill>
              <a:latin typeface="Arial"/>
            </a:endParaRPr>
          </a:p>
        </p:txBody>
      </p:sp>
      <p:sp>
        <p:nvSpPr>
          <p:cNvPr id="157"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lib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Phase 1 evaluation</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04/83r2, </a:t>
            </a:r>
            <a:r>
              <a:rPr b="0" lang="en-US" sz="1600" spc="-1" strike="noStrike">
                <a:solidFill>
                  <a:srgbClr val="006600"/>
                </a:solidFill>
                <a:latin typeface="Arial"/>
              </a:rPr>
              <a:t>[07/07r1]</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suggestion on calibration based on fixed user location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ontributions expected in January Interim meeting</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model mix</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04/82r1</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questioned the need on the use of channel model mix</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consistent with channel models docum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pen issues to follow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981D15AB-95B0-458C-883F-56470543EE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nk Budget Criteria</a:t>
            </a:r>
            <a:endParaRPr b="0" lang="en-US" sz="2600" spc="-1" strike="noStrike">
              <a:solidFill>
                <a:srgbClr val="000000"/>
              </a:solidFill>
              <a:latin typeface="Arial"/>
            </a:endParaRPr>
          </a:p>
        </p:txBody>
      </p:sp>
      <p:sp>
        <p:nvSpPr>
          <p:cNvPr id="15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budg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cation text required to specify type of data requested, e.g.,</a:t>
            </a:r>
            <a:endParaRPr b="0" lang="en-US" sz="18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nel environment </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ata Rate at the cell edge</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ly, maximum cell size for the required minimum data rat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Selection Process document will specify use of dat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provide a linkage between required performance metrics as specified in section 13 and the link budget template</a:t>
            </a:r>
            <a:r>
              <a:rPr b="0" lang="en-US" sz="2800" spc="-1" strike="noStrike">
                <a:solidFill>
                  <a:srgbClr val="339966"/>
                </a:solidFill>
                <a:latin typeface="Arial"/>
              </a:rPr>
              <a:t> </a:t>
            </a:r>
            <a:endParaRPr b="0" lang="en-US" sz="28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17AE3B36-307B-47CC-94EF-6D16DC6D14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irness Criteria</a:t>
            </a:r>
            <a:endParaRPr b="0" lang="en-US" sz="2600" spc="-1" strike="noStrike">
              <a:solidFill>
                <a:srgbClr val="000000"/>
              </a:solidFill>
              <a:latin typeface="Arial"/>
            </a:endParaRPr>
          </a:p>
        </p:txBody>
      </p:sp>
      <p:sp>
        <p:nvSpPr>
          <p:cNvPr id="161"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ness criteria for applications other than the best effort traffic</a:t>
            </a:r>
            <a:r>
              <a:rPr b="0" lang="en-US" sz="1800" spc="-1" strike="noStrike">
                <a:solidFill>
                  <a:srgbClr val="000000"/>
                </a:solidFill>
                <a:latin typeface="Arial"/>
              </a:rPr>
              <a:t> need to be specified</a:t>
            </a:r>
            <a:endParaRPr b="0" lang="en-US" sz="18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pproach table listed various applications to be evaluated:</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time Interactive traffic (VoIP, gaming)</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ing traffic (Video streaming)</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al-time data traffic (HTTP)</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criteria not yet specified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oS performance – Delay, Error Rate </a:t>
            </a:r>
            <a:r>
              <a:rPr b="0" lang="en-US" sz="1400" spc="-1" strike="noStrike">
                <a:solidFill>
                  <a:srgbClr val="006600"/>
                </a:solidFill>
                <a:latin typeface="Arial"/>
              </a:rPr>
              <a:t>[VoIP: 05/05]</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age criteria</a:t>
            </a:r>
            <a:endParaRPr b="0" lang="en-US" sz="1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would be the performance criteria for each traffic type to ensure that the spectral efficiency is computed based on system resources being shared fairly amongst the simulated users in the same secto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ributions are required if additional metrics are to be adopte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14F9D68A-ED8E-40E2-81F7-5A8E5A9A72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1 Simulation Methodology</a:t>
            </a:r>
            <a:endParaRPr b="0" lang="en-US" sz="2600" spc="-1" strike="noStrike">
              <a:solidFill>
                <a:srgbClr val="000000"/>
              </a:solidFill>
              <a:latin typeface="Arial"/>
            </a:endParaRPr>
          </a:p>
        </p:txBody>
      </p:sp>
      <p:sp>
        <p:nvSpPr>
          <p:cNvPr id="16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cells, 3 sectors wrap around configur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model</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buffer (Hungry user) model</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model</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urban Macro</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estrian B, 3 km/h</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ular B, 120 km/h</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ssues:</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libration </a:t>
            </a:r>
            <a:r>
              <a:rPr b="0" lang="en-US" sz="1800" spc="-1" strike="noStrike">
                <a:solidFill>
                  <a:srgbClr val="006600"/>
                </a:solidFill>
                <a:latin typeface="Arial"/>
              </a:rPr>
              <a:t>[04/83r2,</a:t>
            </a:r>
            <a:r>
              <a:rPr b="0" lang="en-US" sz="1800" spc="-1" strike="noStrike">
                <a:solidFill>
                  <a:srgbClr val="000000"/>
                </a:solidFill>
                <a:latin typeface="Arial"/>
              </a:rPr>
              <a:t> </a:t>
            </a:r>
            <a:r>
              <a:rPr b="0" lang="en-US" sz="1800" spc="-1" strike="noStrike">
                <a:solidFill>
                  <a:srgbClr val="006600"/>
                </a:solidFill>
                <a:latin typeface="Arial"/>
              </a:rPr>
              <a:t>05/07r1]</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Budget </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metrics</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nsus required for Section 3.2 </a:t>
            </a:r>
            <a:r>
              <a:rPr b="0" lang="en-US" sz="1600" spc="-1" strike="noStrike">
                <a:solidFill>
                  <a:srgbClr val="006600"/>
                </a:solidFill>
                <a:latin typeface="Arial"/>
              </a:rPr>
              <a:t>[04/88]</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04r3</a:t>
            </a:r>
          </a:p>
        </p:txBody>
      </p:sp>
      <p:sp>
        <p:nvSpPr>
          <p:cNvPr id="5" name="PlaceHolder 4"/>
          <p:cNvSpPr>
            <a:spLocks noGrp="1"/>
          </p:cNvSpPr>
          <p:nvPr>
            <p:ph type="sldNum" idx="2"/>
          </p:nvPr>
        </p:nvSpPr>
        <p:spPr/>
        <p:txBody>
          <a:bodyPr/>
          <a:p>
            <a:fld id="{401D7AE5-2FB9-47CA-9AF1-E02C288BAE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21:50:04Z</dcterms:created>
  <dc:creator>atee</dc:creator>
  <dc:description/>
  <dc:language>en-US</dc:language>
  <cp:lastModifiedBy>atee</cp:lastModifiedBy>
  <dcterms:modified xsi:type="dcterms:W3CDTF">2005-02-08T16:12:22Z</dcterms:modified>
  <cp:revision>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66833006</vt:r8>
  </property>
  <property fmtid="{D5CDD505-2E9C-101B-9397-08002B2CF9AE}" pid="3" name="_AuthorEmail">
    <vt:lpwstr>atee@sta.samsung.com</vt:lpwstr>
  </property>
  <property fmtid="{D5CDD505-2E9C-101B-9397-08002B2CF9AE}" pid="4" name="_AuthorEmailDisplayName">
    <vt:lpwstr>Anna Tee</vt:lpwstr>
  </property>
  <property fmtid="{D5CDD505-2E9C-101B-9397-08002B2CF9AE}" pid="5" name="_EmailSubject">
    <vt:lpwstr>[802-20-GENERAL:] 802.20 Contributions for Jan. Interim</vt:lpwstr>
  </property>
  <property fmtid="{D5CDD505-2E9C-101B-9397-08002B2CF9AE}" pid="6" name="_ReviewingToolsShownOnce">
    <vt:lpwstr/>
  </property>
</Properties>
</file>