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6321-19EA-4F3C-B4C0-DE5BFC2C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1839-C9D2-4BE9-94C5-8F255ECA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F08F-EE1F-43D1-B2E9-B27073D0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7FCC-F651-4256-9B06-33749F17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D0C-1712-43C6-8B73-BFD5010B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46F4-EB03-4C1C-B35F-AFC58A81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435F-10B0-415C-B21C-184A6B47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ED67-1762-4A70-A761-4DB39657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7E54-DBDA-4A45-A14B-F2CF4D83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85A-38EF-41EA-9781-76657488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8242-9A3E-4870-B58A-A82359A7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7155-31CF-40D6-882B-2AA46D56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807E-65ED-44BA-AE76-37D61CFA4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NEL MODEL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Wieczor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 Sept.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C92C-7A14-4497-83F6-E9235A4DE8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 Document v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1 Channel models for Phase 1 of the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urrent Recommend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o use suburban macro, 3 Km/h pedestrian B and 120Km/h Vehicular B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Channe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Input from Traffic and Channel Models Correspondence Grou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 Link Budget - Test Environment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urban/urban macro-cell, micro-cell, indoor pico-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982-1ACD-4CE3-904D-76F299F6CD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22428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utput from the Joint 802.20 Channel Models and Evaluation Criteria AHG 05/13/2004: (from 802.20-04/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) Link-system interf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se random phase in the link channel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se AOA/AOD as random phase to do the link/system simul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) Simplify the SCM in order to make link curves and link-system interface (LSI) approach feasib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3) Agree upon the table of model parameters which comply with ITU model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4) Other alternative - the procedure to make sure that SCM-MIMO model collapse to ITU SISO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5) Channel mix needs to be address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6) Investigate the necessity of additional power delay profile randomness across all us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E8C-2EB4-4612-9770-53F61B6CB9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22428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utput from the Joint 802.20 Channel Models and Evaluation Criteria AHG 05/13/2004: (from 802.20-04/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1) Link-system interf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se random phase in the link channel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Use AOA/AOD as random phase to do the link/system simul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) Simplify the SCM in order to make link curves and link-system interface (LSI) approach feasib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3) Agree upon the table of model parameters which comply with ITU model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4) Other alternative - the procedure to make sure that SCM-MIMO model collapse to ITU SISO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5) Channel mix needs to be address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6) Investigate the necessity of additional power delay profile randomness across all us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1C62-2300-4EC0-BC1E-5DB1906211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nel Models (from 802.20-04/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990720"/>
            <a:ext cx="77724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Joint 802.20 Channel Models and Evaluation Criteria AHG (05/13/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Link-system interf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Use random phase in the link channe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Use actual AoA/AoD in the link/system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implify the SC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in order to make link curves and link-system interface (LSI) approach fea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gree upon the table of model parameters which comply with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ITU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ther alternative - the procedure to make sure that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SCM-MIMO model collapses to ITU SISO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Channel m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issue needs to be addresse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Investigate the necessity of additional power delay profile randomness across all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4D7B-BC18-40CB-A7C7-B735475503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annel Model Document Comple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objective is to prepare in the CG v6 draft revision to Channel Model v5 document for adoption at the Nov. plenary meeting. CM document purpose is to serve as a reasonable technology evaluation aid, not necessarily the most realist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objective is to prepare draft Evaluation document text to contribute to the Nov. plenary meeting for the following sec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2 Channel models for Phase 1 of the Sim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Channel Modeling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Link Budget Test Enviro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correspondence group (CG) conference call meetings (and, possibly more) will be held 10/8 and 10/29 (tentatively) to progress the work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da to consist of open items from this meeting and all reflector contributions delivered by 1 week prior to the calls. Call attendees are expected to have read and understood all of thes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Channel Models v5 document (04/66r1) to be added to the drop box as point of departure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and decide upon contribu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2C80-7049-4D35-A801-D3E65AC004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6 Call Agenda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items listed in document C802.20-04/61 (copied in slide 11) with consideration of contribu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802.20-04/70, C802.20-04/75, C802.20-04/76 and C802.20-04/77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omments received during AW presentation (attached herei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for 3 Evaluation document sections (see slide 10 here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ther timely relevant con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9B94-5A15-4161-ABE7-1354A6C6FF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ments Received During 9/15/04 Channel Model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and desire to de-randomize parameters (Huo) facilitates comparisons and fall back to ITU-R SISO models, but (per -04/75) conflicts with ITU-R Rec. M.1225 ANNEX 2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§1.1(Guo)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f fixed parameters approach is adopted, then consider Table 2.1 parameter value changes proposed in C802.20-04/70 (Huo), else sk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 4 (Typical Urban) in Table 2.1 should be deleted (Ragsda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was proposed that a mix of models be used for Phase 1 simulations (see Eval. Document 9.1). Because some thought the mixed method seemed to be an unnecessary complication there was not a consensus on the need to use a mixed method. If a mixed method is pursued there is a need for a specific mi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define Phase 1 evaluation and calibration simulation model(s), and parameter values to use (a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is a need to capture references to contributions incorporated during the evolution of revisions. (e.g.- 3GPP2 SCM-134 v6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nomenclature consistency between Requirements, Evaluation and Channel Model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619E-7B09-4B37-A017-67C7EAFE6F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AC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967-40AF-4E80-A535-FAF756E1A8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nel Mod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Wieczorek for Qiang G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September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02EF-877D-428E-85C4-64911B28E1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5 changes from v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4 Added intro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5.2 Added AS = 25 degre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6.3 Added AS = 104 deg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7.2 Added table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 Enhanced matrix descriptio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3 Added indoor pico-cell and associated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4 Supplemented descriptiv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C6F6-08BC-4E2E-873A-C25B58AEFD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2.2 Performance under Mo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shall work in dense urban, suburban, rural outdoor-indoor, pedestrian and vehicular environments and the relevant channel models shall be applic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2583-D515-457E-AF64-AAD8DB103B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nnel Model v5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4 MBWA Channel Environ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burban macro-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ban macro-ce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ban micro-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oor pico-ce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2A7-A367-48E1-9FD8-8BFB22C9AA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5T07:47:40Z</dcterms:created>
  <dc:creator>Al Wieczorek</dc:creator>
  <dc:description/>
  <dc:language>en-US</dc:language>
  <cp:lastModifiedBy>AL Wieczorek</cp:lastModifiedBy>
  <dcterms:modified xsi:type="dcterms:W3CDTF">2004-09-16T13:35:42Z</dcterms:modified>
  <cp:revision>30</cp:revision>
  <dc:subject/>
  <dc:title>Slide 1</dc:title>
</cp:coreProperties>
</file>