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7888-1107-4C5F-835C-93C776EAD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8C3-97D8-4C8A-9147-9CEFDFC6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823-5559-418F-A22C-37355E84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E3D-DE85-4086-BC97-C11404BD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096-86AC-4888-888D-44624A8C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375-2087-4C57-95AE-242D20C1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098D-DE34-42A9-8736-2F8ED752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A32-2E68-467B-962D-D032BF2B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13B-2168-4C70-9628-0B3232AF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ABB7-89D2-44EC-B32D-A08C059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D393-EFFD-4AFF-8EB2-5889E4F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841-CD80-459C-AC41-7CD39D3F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ED69-6D99-41F0-8135-1A32634F2A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existence CG “To Do”s In Making a R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existence in License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802.20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ng 802.20 and non-802.20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of the road – (liaison activi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what is in the various types of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(Manda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guides (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xistence (T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we need to know ahead of the development of the spec, what can we do afterwards, what can we not do until after selection of a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specific impact on existing CG generated acitv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sibility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organize to do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228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EE 802.20-03/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1:14:53Z</dcterms:created>
  <dc:creator>Mark Klerer</dc:creator>
  <dc:description/>
  <dc:language>en-US</dc:language>
  <cp:lastModifiedBy>Mark Klerer</cp:lastModifiedBy>
  <dcterms:modified xsi:type="dcterms:W3CDTF">2003-09-18T11:03:41Z</dcterms:modified>
  <cp:revision>5</cp:revision>
  <dc:subject/>
  <dc:title>Coexistence CG To Dos In Making a Recommendation</dc:title>
</cp:coreProperties>
</file>