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03F0-FA12-494B-B952-98EAE5F5C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C212-6F26-4932-B36D-911689CF5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128D-C8C0-4F53-AF84-989662DE9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5A40-0517-4E3A-8B91-F7E506933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8BAC-ACF3-412B-8431-09818187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DBB9-CBE4-4AF7-BAF7-768C6E3B0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61D4-96E4-4640-A318-77DBFEBCB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BCC0-8367-498F-B8FA-EB8AC1DDB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D38C-3A2F-46E6-9389-4C3CD9935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A4F7-013C-4C08-952F-9B04DD49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8702-4670-415B-AE72-CF0A14FB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561B-F9D4-46FB-89D5-D85E3D82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610320"/>
            <a:ext cx="25909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02.20 11/14/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F5CA2-AF8C-45DA-9714-60D15019C578}" type="slidenum">
              <a:rPr b="0" lang="ja-JP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stds-80220-requirements@ieee.org" TargetMode="External"/><Relationship Id="rId2" Type="http://schemas.openxmlformats.org/officeDocument/2006/relationships/hyperlink" Target="mailto:stds-80220-ch-models@ieee.org" TargetMode="External"/><Relationship Id="rId3" Type="http://schemas.openxmlformats.org/officeDocument/2006/relationships/hyperlink" Target="mailto:stds-80220-eval-criteria@ieee.org" TargetMode="External"/><Relationship Id="rId4" Type="http://schemas.openxmlformats.org/officeDocument/2006/relationships/hyperlink" Target="mailto:stds-80220-coexistence@ieee.org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02.20 Session #5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osing Status </a:t>
            </a:r>
            <a:br>
              <a:rPr sz="36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vember 10- 13, 20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erry Upton- 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erry.upton@iee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ng Wu – Procedural Vice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hwar Pittampalli – Liaison Vice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956280" y="7632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EEE 802.20-03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02.20 Status and Session #5 Activities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179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313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447920"/>
            <a:ext cx="822960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ree e-mail Correspondence Groups formed during the May session and a Fourth in the July sess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quirements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ea typeface="ＭＳ Ｐゴシック"/>
                <a:hlinkClick r:id="rId1"/>
              </a:rPr>
              <a:t>stds-80220-requirements@ieee.or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nnel and Traffic Models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ea typeface="ＭＳ Ｐゴシック"/>
                <a:hlinkClick r:id="rId2"/>
              </a:rPr>
              <a:t>stds-80220-ch-models@ieee.or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aluation Criteria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ea typeface="ＭＳ Ｐゴシック"/>
                <a:hlinkClick r:id="rId3"/>
              </a:rPr>
              <a:t>stds-80220-eval-criteria@ieee.or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existence Issues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ea typeface="ＭＳ Ｐゴシック"/>
                <a:hlinkClick r:id="rId4"/>
              </a:rPr>
              <a:t>stds-80220-coexistence@ieee.or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9280" y="4572000"/>
            <a:ext cx="852156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ssion focused on these Correspondence Groups effor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d the progress on their documents. Seven new Contributions w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viewed in addition to CG readouts. Attendance approx. 1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02.20 Session #5 Activities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179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313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762120"/>
            <a:ext cx="9144000" cy="56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quirements Correspondence Group Readout of Progress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ur drafting groups formed for the week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viewed Documents, new drafts, and arrived at consensus on some 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aluation Criteria CG Readout of Progress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viewed Document, and new draf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nnel &amp; Traffic Models CG Readout of Progress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Updates on Traffic Models; Editor resigned; Eval. Criteria Editor assumed respons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viewed Documents, and new draf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existence CG Recommend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sal for Study Group was not sup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5943600"/>
            <a:ext cx="5029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sed Interim Meetings Reviewed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Objections from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81480" y="5638680"/>
            <a:ext cx="3810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9-14, Hyatt Anahe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pt. 12 – 17, Berl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3160" y="15840"/>
            <a:ext cx="823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xt Session Planning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ncouver Jan. 11-16,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660240"/>
            <a:ext cx="76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cussion on Proposed Plan to Increase Progr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d Focus Consensus Eff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6120" y="1407960"/>
            <a:ext cx="9180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iven lack of progress on addressing a number of key ite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the Correspondence Groups the following plan was agreed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ensus Efforts should Focus on a Small Number of Key I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 Chair and CG Editors will propose a focus list to members on the refl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. The Agreed List will become the principle agenda for Janu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. Contributions and Proposals for those items will actively be solic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 The Correspondence Group will continue work via the  email refl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sed upon updated documents  per this se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. Conference calls will continue for the CGs with published sche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22:44:38Z</dcterms:created>
  <dc:creator>    </dc:creator>
  <dc:description/>
  <dc:language>en-US</dc:language>
  <cp:lastModifiedBy>wu</cp:lastModifiedBy>
  <dcterms:modified xsi:type="dcterms:W3CDTF">2003-11-19T06:22:22Z</dcterms:modified>
  <cp:revision>50</cp:revision>
  <dc:subject/>
  <dc:title>802.20 Draft Agenda</dc:title>
</cp:coreProperties>
</file>