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02D-4047-42F6-872F-3DDB3E3C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2F37-BB3B-437E-868F-A477C31B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4C45-31B5-41FD-B293-F3A8AD877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4DA-BF40-410F-83F4-4A1FBB2F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79E0-F6D5-41D4-9746-7A1A86CF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416-0DE8-4DD4-A00A-F4870B6E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CAB-EC71-452E-998A-B98D5A55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D5F-32B9-4098-87E9-AD7F4538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71C-0F25-4B2B-B9EC-67EDA79C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1FA-AFD8-49B6-8B66-DB59FFE7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A37-1739-4ABC-8D93-81232C7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A9D-9407-452B-BB8E-519F761F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ch 15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ir, IEEE 802.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7C1A-F9B4-4C41-A1C3-D678A8581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802wirelessworld.com/" TargetMode="External"/><Relationship Id="rId2" Type="http://schemas.openxmlformats.org/officeDocument/2006/relationships/hyperlink" Target="mailto:g-wu@ieee.org" TargetMode="External"/><Relationship Id="rId3" Type="http://schemas.openxmlformats.org/officeDocument/2006/relationships/hyperlink" Target="mailto:g-wu@ieee.org" TargetMode="External"/><Relationship Id="rId4" Type="http://schemas.openxmlformats.org/officeDocument/2006/relationships/hyperlink" Target="mailto:g-wu@ieee.org" TargetMode="External"/><Relationship Id="rId5" Type="http://schemas.openxmlformats.org/officeDocument/2006/relationships/hyperlink" Target="mailto:g-wu@ieee.org" TargetMode="External"/><Relationship Id="rId6" Type="http://schemas.openxmlformats.org/officeDocument/2006/relationships/hyperlink" Target="mailto:g-wu@ieee.org" TargetMode="External"/><Relationship Id="rId7" Type="http://schemas.openxmlformats.org/officeDocument/2006/relationships/hyperlink" Target="http://neptune/mbwa/index.html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eee802.org/20/Attendance/Voters%20List%20for%20IEEE%20802.20WG%20Session%207.pdf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EEE 802 Opening Plenary 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2.20 Session #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rry Upton-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rry.upton@iee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g Wu – Procedural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hwar Pittampalli – Liaison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934320" y="2286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EEE 802.20-04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28240" y="-2286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38088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802.20 Key Goals for the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371600"/>
            <a:ext cx="914400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ch Consensus on Requirements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hieve significant Progress on Evaluation Criteria, Traffic Model and Channe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ach Consensus on Work Plan &amp; Project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lect Working Group Offic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240" y="7621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ic sign-in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802wirelessworld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anual attendance sign-in at this session. If you encounter problems send e-mail to Gang Wu      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g-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u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@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ee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20 has 16 meeting slots you need to participate in 12 meeting slots to get participation cred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website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neptune/mbwa/index.htm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eting Room - - Salon V + West Corrid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posed Detail Agenda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onday March 15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-2286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04920" y="2286000"/>
            <a:ext cx="8631000" cy="3174840"/>
            <a:chOff x="304920" y="2286000"/>
            <a:chExt cx="8631000" cy="3174840"/>
          </a:xfrm>
        </p:grpSpPr>
        <p:sp>
          <p:nvSpPr>
            <p:cNvPr id="52" name=""/>
            <p:cNvSpPr/>
            <p:nvPr/>
          </p:nvSpPr>
          <p:spPr>
            <a:xfrm>
              <a:off x="317520" y="2298600"/>
              <a:ext cx="755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04920" y="2286000"/>
              <a:ext cx="8631000" cy="3174840"/>
              <a:chOff x="304920" y="2286000"/>
              <a:chExt cx="8631000" cy="317484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317520" y="2298600"/>
                <a:ext cx="8605800" cy="3149640"/>
                <a:chOff x="317520" y="2298600"/>
                <a:chExt cx="8605800" cy="314964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317520" y="2298600"/>
                  <a:ext cx="8605800" cy="534960"/>
                  <a:chOff x="317520" y="2298600"/>
                  <a:chExt cx="8605800" cy="53496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317520" y="2298600"/>
                    <a:ext cx="8605800" cy="534960"/>
                  </a:xfrm>
                  <a:prstGeom prst="rect">
                    <a:avLst/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317520" y="2298600"/>
                    <a:ext cx="8605800" cy="534960"/>
                    <a:chOff x="317520" y="2298600"/>
                    <a:chExt cx="8605800" cy="53496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>
                      <a:off x="317520" y="2298600"/>
                      <a:ext cx="8605800" cy="534960"/>
                    </a:xfrm>
                    <a:prstGeom prst="rect">
                      <a:avLst/>
                    </a:prstGeom>
                    <a:solidFill>
                      <a:srgbClr val="fff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, March 15, 2004 4:00PM - 5:30 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>
                      <a:off x="317520" y="2298600"/>
                      <a:ext cx="8605800" cy="53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317520" y="2833560"/>
                  <a:ext cx="5492880" cy="1544760"/>
                  <a:chOff x="317520" y="2833560"/>
                  <a:chExt cx="5492880" cy="154476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317520" y="2833560"/>
                    <a:ext cx="5492880" cy="154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- Opening Session of 802.20</a:t>
                    </a: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  Opening Remarks</a:t>
                    </a: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  Distribute Voting Tokens</a:t>
                    </a: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  Approve previous session minutes (November and January)</a:t>
                    </a: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  Approve agenda for the week</a:t>
                    </a: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  Logistics and other items</a:t>
                    </a: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  SA Staff Tutorial on Editorial Proces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317520" y="2833560"/>
                    <a:ext cx="5492880" cy="154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5810400" y="2833560"/>
                  <a:ext cx="1753920" cy="1544760"/>
                  <a:chOff x="5810400" y="2833560"/>
                  <a:chExt cx="1753920" cy="1544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>
                    <a:off x="5810400" y="2833560"/>
                    <a:ext cx="1753920" cy="154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4:00pm - 4:30pm</a:t>
                    </a:r>
                    <a:br>
                      <a:rPr sz="1100"/>
                    </a:b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4:40pm - 4:45pm</a:t>
                    </a: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4:45pm - 4:55pm</a:t>
                    </a: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4:55pm – 5:00pm</a:t>
                    </a: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5:00pm – 5:30pm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5810400" y="2833560"/>
                    <a:ext cx="1753920" cy="154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564320" y="2833560"/>
                  <a:ext cx="1359000" cy="1544760"/>
                  <a:chOff x="7564320" y="2833560"/>
                  <a:chExt cx="1359000" cy="15447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564320" y="2833560"/>
                    <a:ext cx="1359000" cy="1544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br>
                      <a:rPr sz="1100"/>
                    </a:b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64320" y="2833560"/>
                    <a:ext cx="1359000" cy="1544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317520" y="4378320"/>
                  <a:ext cx="8605800" cy="534960"/>
                  <a:chOff x="317520" y="4378320"/>
                  <a:chExt cx="8605800" cy="5349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>
                    <a:off x="317520" y="4378320"/>
                    <a:ext cx="8605800" cy="5349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" name=""/>
                  <p:cNvGrpSpPr/>
                  <p:nvPr/>
                </p:nvGrpSpPr>
                <p:grpSpPr>
                  <a:xfrm>
                    <a:off x="317520" y="4378320"/>
                    <a:ext cx="8605800" cy="534960"/>
                    <a:chOff x="317520" y="4378320"/>
                    <a:chExt cx="8605800" cy="534960"/>
                  </a:xfrm>
                </p:grpSpPr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317520" y="4378320"/>
                      <a:ext cx="8605800" cy="534960"/>
                    </a:xfrm>
                    <a:prstGeom prst="rect">
                      <a:avLst/>
                    </a:prstGeom>
                    <a:solidFill>
                      <a:srgbClr val="ffff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day, March 15, 2004 7:00PM - 9:30 PM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317520" y="4378320"/>
                      <a:ext cx="8605800" cy="534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317520" y="4913280"/>
                  <a:ext cx="5492880" cy="534960"/>
                  <a:chOff x="317520" y="4913280"/>
                  <a:chExt cx="5492880" cy="53496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>
                    <a:off x="317520" y="4913280"/>
                    <a:ext cx="549288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-  Officer Election (</a:t>
                    </a:r>
                    <a:r>
                      <a:rPr b="0" lang="en-US" sz="1100" spc="-1" strike="noStrike" u="sng">
                        <a:solidFill>
                          <a:srgbClr val="009999"/>
                        </a:solidFill>
                        <a:uFillTx/>
                        <a:latin typeface="Arial"/>
                        <a:hlinkClick r:id="rId1"/>
                      </a:rPr>
                      <a:t>Voters List</a:t>
                    </a:r>
                    <a:r>
                      <a:rPr b="0" lang="en-US" sz="1100" spc="-1" strike="noStrike" u="sng">
                        <a:solidFill>
                          <a:srgbClr val="000000"/>
                        </a:solidFill>
                        <a:uFillTx/>
                        <a:latin typeface="Arial"/>
                      </a:rPr>
                      <a:t>)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317520" y="4913280"/>
                    <a:ext cx="5492880" cy="5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5810400" y="4913280"/>
                  <a:ext cx="1753920" cy="534960"/>
                  <a:chOff x="5810400" y="4913280"/>
                  <a:chExt cx="1753920" cy="53496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>
                    <a:off x="5810400" y="4913280"/>
                    <a:ext cx="1753920" cy="534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 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5810400" y="4913280"/>
                    <a:ext cx="1753920" cy="534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" name=""/>
              <p:cNvSpPr/>
              <p:nvPr/>
            </p:nvSpPr>
            <p:spPr>
              <a:xfrm>
                <a:off x="304920" y="2286000"/>
                <a:ext cx="8631000" cy="3174840"/>
              </a:xfrm>
              <a:prstGeom prst="rect">
                <a:avLst/>
              </a:prstGeom>
              <a:noFill/>
              <a:ln w="270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fficer El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-2286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762120"/>
            <a:ext cx="84582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ree announced Candidates for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rk Kl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bert 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rry Upt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for Procedural (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ng W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for Liaison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oanne Wil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shwar Pittampal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tional Nominations taken before election st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ection is 7pm today in Salon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22:44:38Z</dcterms:created>
  <dc:creator>    </dc:creator>
  <dc:description/>
  <dc:language>en-US</dc:language>
  <cp:lastModifiedBy>Jerry Upton</cp:lastModifiedBy>
  <dcterms:modified xsi:type="dcterms:W3CDTF">2004-03-15T03:51:43Z</dcterms:modified>
  <cp:revision>74</cp:revision>
  <dc:subject/>
  <dc:title>802.20 Draft Agenda</dc:title>
</cp:coreProperties>
</file>