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9F5-BA5A-4D40-9F2B-B54258CB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9A3-6A7C-4A77-81A4-3C20AFA6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6F9-FB71-4855-BE75-A6A477CB2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31C-8C20-4476-86E2-EBDE6D9B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910B-E6AE-499E-9BBB-E459A352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A869-1A30-4340-9D4A-833366BF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2F1C-9F30-4234-B48C-43A634ED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1BEE-39C4-4FF9-AED6-07EB6E3C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9049D-1942-4EA4-A188-BBFE0865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9F7A-6491-4642-9486-D753A836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7148-CAD3-41BF-AED0-630E3F7D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811-3650-4D6B-A0FB-385B95C5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EA33-1803-41A7-B362-0D5663B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DC94-61A3-47D6-B0B4-4E0D11D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D0ED-A62B-467E-82CB-A45D7293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D30F-5278-4CBC-8530-D2D37F71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EFCF-32D5-4D12-AFCB-A9D443F6F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79A-7311-4ACE-A62C-F0FFE46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AF4-837C-4590-AA77-744F60B1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CEB-884E-4352-A5B6-4BE70687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B22-6C66-4F77-BF33-639DAB9B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70D6-697A-4176-995E-AA5945C7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AA1-9BB3-4FC6-8931-A5639AEE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C19-46E2-493A-B2FC-27C930AE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253F-21D9-46D6-AB1F-CA8D9C438F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6272-1766-476F-AB97-57A797263F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802.20 Development Plan</a:t>
            </a:r>
            <a:br>
              <a:rPr sz="1200"/>
            </a:br>
            <a:r>
              <a:rPr b="1" lang="en-US" sz="1200" spc="-1" strike="noStrike">
                <a:solidFill>
                  <a:srgbClr val="e5ffff"/>
                </a:solidFill>
                <a:latin typeface="Tahoma"/>
              </a:rPr>
              <a:t>Approved: 15 March 2007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RAFT FINALIZ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solution of Previous Letter Ballot Rejected Comment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nuary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ll for Additional Proposals &amp; draft change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anuary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l Proposals including simulation results and specific draft modifica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ue by March 7, 2007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rch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posal presentations and WG review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rch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actice Ballo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ril 20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actice Ballot Comment Resolut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y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G Letter Ballo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uly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TANDARD DEVELO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inal Working Group Resolution of Draft Standard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eptember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ponsor Ballot Start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ctober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allot re-circulations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vember 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ponsor Ballot End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cember 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IEEE-SA APPROVAL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nditional Revcom Submission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vember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EEE-SA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cember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r" pos="795024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r" pos="795024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Note: All dates could be earlier if consensus is reached sooner or could move later if more resolutions or more ballot re-circulations are require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6:01:22Z</dcterms:created>
  <dc:creator>Qualcomm</dc:creator>
  <dc:description/>
  <dc:language>en-US</dc:language>
  <cp:lastModifiedBy>Administrator</cp:lastModifiedBy>
  <dcterms:modified xsi:type="dcterms:W3CDTF">2007-03-23T17:43:11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