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8FD-8985-4E26-9EC0-A67B3580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B32-DAEE-4692-8273-EC8BDC5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71CD-F689-4563-A1E8-5E1736B4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84A-7C74-4A3E-A887-13B3E354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C10-595C-4812-AC7B-ED47E2E6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5A1C-D763-4F18-9FD0-AAE3FFF7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1ECE-A839-45BB-8908-1D583E95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9DA3-BC00-4B94-8B77-786F1C0F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1D8-74A9-46F5-8B5E-84C18AC6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B580-329E-4719-BB48-B471AD5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B5D4-3D1A-4C58-B82E-BD11C519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CE9-7F45-4DEC-B556-FFB75209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4D01-507B-4E43-BE5B-09DC100F5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02.20 Closing Sli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Klerer – Jerry Up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ce-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3/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 Correspondence Grou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towards a consensus correspondence group contribution for July Plenary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document from ground-up considering contributions from previous meetings and PAR and 5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on open to every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multiple alternatives in tex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 group participants reserve the right to contribute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ors are expected to provide text that they would like included including a brief rationale of why they want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 Group Chair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hurram Sheikh (Spr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 list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ds-80220-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nel Modeling and Traffic Correspondence Group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rive towards a consensus correspondence group contribution for July Plenary Session with final model set by September Interim Se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uly set to be based on channel types and traffic types as known at that time based on the work of the requirements correspondence grou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open to everyo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d document from ground-up considering contributions from previous meetings, PAR, 5C and requirements working group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eeping multiple alternatives in text is 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rrespondence group participants reserve the right to contribute separatel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ributors are expected to provide text that they would like included including a brief rationale of why they want the cha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ce Group Chair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Glenn Golden (Flarion Tech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list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ds-80220-ch-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Criteria Correspondence Group Groun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towards a consensus correspondence group contribution for September Interim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 be based on requirements as defined by the requirements correspondence group and utilize the channel models  and traffic models specified by the channel modeling correspondenc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document from ground-up considering contributions from previous two meetings and work of other correspondence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ing multiple alternatives in text i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spondence group participants reserve the right to contribute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ors are expected to provide text that they would like included including a brief rationale of why they want th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ce Group Chair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rooq Khan (Luc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list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ds-80220-eval-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Formats for used in 802.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DF files are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ight background and dark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ossible, please convert files to PDF prior to sub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ly PPT, DOC and ZIP files may also be provided. ZIP files shall contain only PPT, DOC or PDF f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s proposing draft text for inclusion in a standard shall provide that text in DOC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 Numbering/Naming in 802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nterim Pl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time being we retain the existing numbering system with the following enhance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ffix will be ad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between different file types of the sam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 between a submitted document and an associated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document numbering/naming plan will be discussed in the context of the file naming conventions proposed for the electronic system being proposed by 802.11/.15 (See IEEE 802-03/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    </dc:creator>
  <dc:description/>
  <dc:language>en-US</dc:language>
  <cp:lastModifiedBy>    </cp:lastModifiedBy>
  <dcterms:modified xsi:type="dcterms:W3CDTF">2003-05-15T22:21:17Z</dcterms:modified>
  <cp:revision>3</cp:revision>
  <dc:subject/>
  <dc:title>802.20 Closing Slides</dc:title>
</cp:coreProperties>
</file>